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056520" y="115920"/>
            <a:ext cx="709920" cy="382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320" y="664380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3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415800" y="2637000"/>
            <a:ext cx="809640" cy="539640"/>
            <a:chOff x="415800" y="2637000"/>
            <a:chExt cx="809640" cy="539640"/>
          </a:xfrm>
        </p:grpSpPr>
        <p:sp>
          <p:nvSpPr>
            <p:cNvPr id="39" name=""/>
            <p:cNvSpPr/>
            <p:nvPr/>
          </p:nvSpPr>
          <p:spPr>
            <a:xfrm>
              <a:off x="955440" y="2906640"/>
              <a:ext cx="270000" cy="27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0" y="340"/>
                  </a:moveTo>
                  <a:lnTo>
                    <a:pt x="0" y="170"/>
                  </a:lnTo>
                  <a:lnTo>
                    <a:pt x="340" y="0"/>
                  </a:lnTo>
                  <a:lnTo>
                    <a:pt x="340" y="170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15800" y="2771640"/>
              <a:ext cx="539640" cy="40500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51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680" y="340"/>
                  </a:lnTo>
                  <a:lnTo>
                    <a:pt x="68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15800" y="2637000"/>
              <a:ext cx="809640" cy="40464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" name=""/>
          <p:cNvGrpSpPr/>
          <p:nvPr/>
        </p:nvGrpSpPr>
        <p:grpSpPr>
          <a:xfrm>
            <a:off x="415800" y="1916280"/>
            <a:ext cx="811080" cy="675720"/>
            <a:chOff x="415800" y="1916280"/>
            <a:chExt cx="811080" cy="675720"/>
          </a:xfrm>
        </p:grpSpPr>
        <p:sp>
          <p:nvSpPr>
            <p:cNvPr id="43" name=""/>
            <p:cNvSpPr/>
            <p:nvPr/>
          </p:nvSpPr>
          <p:spPr>
            <a:xfrm>
              <a:off x="957240" y="2187360"/>
              <a:ext cx="269640" cy="404640"/>
            </a:xfrm>
            <a:custGeom>
              <a:avLst/>
              <a:gdLst/>
              <a:ahLst/>
              <a:rect l="l" t="t" r="r" b="b"/>
              <a:pathLst>
                <a:path w="170" h="255">
                  <a:moveTo>
                    <a:pt x="0" y="255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170"/>
                  </a:lnTo>
                  <a:lnTo>
                    <a:pt x="0" y="255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17240" y="205236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34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340" y="170"/>
                  </a:lnTo>
                  <a:lnTo>
                    <a:pt x="34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5800" y="1916280"/>
              <a:ext cx="809640" cy="40464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415800" y="1052640"/>
            <a:ext cx="809640" cy="809640"/>
            <a:chOff x="415800" y="1052640"/>
            <a:chExt cx="809640" cy="809640"/>
          </a:xfrm>
        </p:grpSpPr>
        <p:sp>
          <p:nvSpPr>
            <p:cNvPr id="47" name=""/>
            <p:cNvSpPr/>
            <p:nvPr/>
          </p:nvSpPr>
          <p:spPr>
            <a:xfrm>
              <a:off x="415800" y="1052640"/>
              <a:ext cx="809640" cy="40500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15800" y="1187640"/>
              <a:ext cx="539640" cy="674640"/>
            </a:xfrm>
            <a:custGeom>
              <a:avLst/>
              <a:gdLst/>
              <a:ahLst/>
              <a:rect l="l" t="t" r="r" b="b"/>
              <a:pathLst>
                <a:path w="340" h="425">
                  <a:moveTo>
                    <a:pt x="340" y="425"/>
                  </a:moveTo>
                  <a:lnTo>
                    <a:pt x="340" y="17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34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55440" y="1322640"/>
              <a:ext cx="270000" cy="539640"/>
            </a:xfrm>
            <a:custGeom>
              <a:avLst/>
              <a:gdLst/>
              <a:ahLst/>
              <a:rect l="l" t="t" r="r" b="b"/>
              <a:pathLst>
                <a:path w="170" h="340">
                  <a:moveTo>
                    <a:pt x="0" y="85"/>
                  </a:moveTo>
                  <a:lnTo>
                    <a:pt x="170" y="0"/>
                  </a:lnTo>
                  <a:lnTo>
                    <a:pt x="170" y="255"/>
                  </a:lnTo>
                  <a:lnTo>
                    <a:pt x="0" y="340"/>
                  </a:lnTo>
                  <a:lnTo>
                    <a:pt x="0" y="85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1352520" y="2492280"/>
            <a:ext cx="1081080" cy="674640"/>
            <a:chOff x="1352520" y="2492280"/>
            <a:chExt cx="1081080" cy="674640"/>
          </a:xfrm>
        </p:grpSpPr>
        <p:sp>
          <p:nvSpPr>
            <p:cNvPr id="51" name=""/>
            <p:cNvSpPr/>
            <p:nvPr/>
          </p:nvSpPr>
          <p:spPr>
            <a:xfrm>
              <a:off x="1892160" y="2761920"/>
              <a:ext cx="541440" cy="405000"/>
            </a:xfrm>
            <a:custGeom>
              <a:avLst/>
              <a:gdLst/>
              <a:ahLst/>
              <a:rect l="l" t="t" r="r" b="b"/>
              <a:pathLst>
                <a:path w="341" h="255">
                  <a:moveTo>
                    <a:pt x="0" y="25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85"/>
                  </a:lnTo>
                  <a:lnTo>
                    <a:pt x="0" y="255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52520" y="2761920"/>
              <a:ext cx="539640" cy="405000"/>
            </a:xfrm>
            <a:custGeom>
              <a:avLst/>
              <a:gdLst/>
              <a:ahLst/>
              <a:rect l="l" t="t" r="r" b="b"/>
              <a:pathLst>
                <a:path w="340" h="255">
                  <a:moveTo>
                    <a:pt x="340" y="170"/>
                  </a:moveTo>
                  <a:lnTo>
                    <a:pt x="340" y="255"/>
                  </a:lnTo>
                  <a:lnTo>
                    <a:pt x="0" y="85"/>
                  </a:lnTo>
                  <a:lnTo>
                    <a:pt x="0" y="0"/>
                  </a:lnTo>
                  <a:lnTo>
                    <a:pt x="34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52520" y="249228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352520" y="1628640"/>
            <a:ext cx="1081080" cy="809640"/>
            <a:chOff x="1352520" y="1628640"/>
            <a:chExt cx="1081080" cy="809640"/>
          </a:xfrm>
        </p:grpSpPr>
        <p:sp>
          <p:nvSpPr>
            <p:cNvPr id="55" name=""/>
            <p:cNvSpPr/>
            <p:nvPr/>
          </p:nvSpPr>
          <p:spPr>
            <a:xfrm>
              <a:off x="1352520" y="162864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92160" y="1898640"/>
              <a:ext cx="541440" cy="539640"/>
            </a:xfrm>
            <a:custGeom>
              <a:avLst/>
              <a:gdLst/>
              <a:ahLst/>
              <a:rect l="l" t="t" r="r" b="b"/>
              <a:pathLst>
                <a:path w="341" h="340">
                  <a:moveTo>
                    <a:pt x="0" y="170"/>
                  </a:moveTo>
                  <a:lnTo>
                    <a:pt x="341" y="0"/>
                  </a:lnTo>
                  <a:lnTo>
                    <a:pt x="341" y="170"/>
                  </a:lnTo>
                  <a:lnTo>
                    <a:pt x="0" y="340"/>
                  </a:lnTo>
                  <a:lnTo>
                    <a:pt x="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52520" y="189864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34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340" y="170"/>
                  </a:lnTo>
                  <a:lnTo>
                    <a:pt x="34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352520" y="549360"/>
            <a:ext cx="1081080" cy="944280"/>
            <a:chOff x="1352520" y="549360"/>
            <a:chExt cx="1081080" cy="944280"/>
          </a:xfrm>
        </p:grpSpPr>
        <p:sp>
          <p:nvSpPr>
            <p:cNvPr id="59" name=""/>
            <p:cNvSpPr/>
            <p:nvPr/>
          </p:nvSpPr>
          <p:spPr>
            <a:xfrm>
              <a:off x="1352520" y="54936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52520" y="819000"/>
              <a:ext cx="539640" cy="674640"/>
            </a:xfrm>
            <a:custGeom>
              <a:avLst/>
              <a:gdLst/>
              <a:ahLst/>
              <a:rect l="l" t="t" r="r" b="b"/>
              <a:pathLst>
                <a:path w="340" h="425">
                  <a:moveTo>
                    <a:pt x="0" y="0"/>
                  </a:moveTo>
                  <a:lnTo>
                    <a:pt x="340" y="170"/>
                  </a:lnTo>
                  <a:lnTo>
                    <a:pt x="340" y="425"/>
                  </a:lnTo>
                  <a:lnTo>
                    <a:pt x="0" y="25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92160" y="819000"/>
              <a:ext cx="541440" cy="674640"/>
            </a:xfrm>
            <a:custGeom>
              <a:avLst/>
              <a:gdLst/>
              <a:ahLst/>
              <a:rect l="l" t="t" r="r" b="b"/>
              <a:pathLst>
                <a:path w="341" h="425">
                  <a:moveTo>
                    <a:pt x="341" y="0"/>
                  </a:moveTo>
                  <a:lnTo>
                    <a:pt x="341" y="255"/>
                  </a:lnTo>
                  <a:lnTo>
                    <a:pt x="0" y="425"/>
                  </a:lnTo>
                  <a:lnTo>
                    <a:pt x="0" y="170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60880" y="2492280"/>
            <a:ext cx="1620720" cy="944640"/>
            <a:chOff x="4160880" y="2492280"/>
            <a:chExt cx="1620720" cy="944640"/>
          </a:xfrm>
        </p:grpSpPr>
        <p:sp>
          <p:nvSpPr>
            <p:cNvPr id="63" name=""/>
            <p:cNvSpPr/>
            <p:nvPr/>
          </p:nvSpPr>
          <p:spPr>
            <a:xfrm>
              <a:off x="5240160" y="3031920"/>
              <a:ext cx="541080" cy="405000"/>
            </a:xfrm>
            <a:custGeom>
              <a:avLst/>
              <a:gdLst/>
              <a:ahLst/>
              <a:rect l="l" t="t" r="r" b="b"/>
              <a:pathLst>
                <a:path w="341" h="255">
                  <a:moveTo>
                    <a:pt x="0" y="25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85"/>
                  </a:lnTo>
                  <a:lnTo>
                    <a:pt x="0" y="255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60880" y="2762280"/>
              <a:ext cx="1079280" cy="674640"/>
            </a:xfrm>
            <a:custGeom>
              <a:avLst/>
              <a:gdLst/>
              <a:ahLst/>
              <a:rect l="l" t="t" r="r" b="b"/>
              <a:pathLst>
                <a:path w="680" h="425">
                  <a:moveTo>
                    <a:pt x="680" y="340"/>
                  </a:moveTo>
                  <a:lnTo>
                    <a:pt x="680" y="425"/>
                  </a:lnTo>
                  <a:lnTo>
                    <a:pt x="0" y="85"/>
                  </a:lnTo>
                  <a:lnTo>
                    <a:pt x="0" y="0"/>
                  </a:lnTo>
                  <a:lnTo>
                    <a:pt x="68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60880" y="2492280"/>
              <a:ext cx="1620720" cy="80964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160880" y="1413000"/>
            <a:ext cx="1620720" cy="1078920"/>
            <a:chOff x="4160880" y="1413000"/>
            <a:chExt cx="1620720" cy="1078920"/>
          </a:xfrm>
        </p:grpSpPr>
        <p:sp>
          <p:nvSpPr>
            <p:cNvPr id="67" name=""/>
            <p:cNvSpPr/>
            <p:nvPr/>
          </p:nvSpPr>
          <p:spPr>
            <a:xfrm>
              <a:off x="4160880" y="1413000"/>
              <a:ext cx="1620720" cy="80928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60880" y="1682640"/>
              <a:ext cx="1079280" cy="80928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510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68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40160" y="1952640"/>
              <a:ext cx="541080" cy="539280"/>
            </a:xfrm>
            <a:custGeom>
              <a:avLst/>
              <a:gdLst/>
              <a:ahLst/>
              <a:rect l="l" t="t" r="r" b="b"/>
              <a:pathLst>
                <a:path w="341" h="340">
                  <a:moveTo>
                    <a:pt x="0" y="34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170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232160" y="333360"/>
            <a:ext cx="1622520" cy="1214280"/>
            <a:chOff x="4232160" y="333360"/>
            <a:chExt cx="1622520" cy="1214280"/>
          </a:xfrm>
        </p:grpSpPr>
        <p:sp>
          <p:nvSpPr>
            <p:cNvPr id="71" name=""/>
            <p:cNvSpPr/>
            <p:nvPr/>
          </p:nvSpPr>
          <p:spPr>
            <a:xfrm>
              <a:off x="5313240" y="873000"/>
              <a:ext cx="541440" cy="674640"/>
            </a:xfrm>
            <a:custGeom>
              <a:avLst/>
              <a:gdLst/>
              <a:ahLst/>
              <a:rect l="l" t="t" r="r" b="b"/>
              <a:pathLst>
                <a:path w="341" h="425">
                  <a:moveTo>
                    <a:pt x="0" y="42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255"/>
                  </a:lnTo>
                  <a:lnTo>
                    <a:pt x="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32160" y="333360"/>
              <a:ext cx="1621080" cy="80964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32160" y="603000"/>
              <a:ext cx="1079640" cy="944640"/>
            </a:xfrm>
            <a:custGeom>
              <a:avLst/>
              <a:gdLst/>
              <a:ahLst/>
              <a:rect l="l" t="t" r="r" b="b"/>
              <a:pathLst>
                <a:path w="680" h="595">
                  <a:moveTo>
                    <a:pt x="680" y="595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680" y="595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649600" y="2421000"/>
            <a:ext cx="1351080" cy="809640"/>
            <a:chOff x="2649600" y="2421000"/>
            <a:chExt cx="1351080" cy="809640"/>
          </a:xfrm>
        </p:grpSpPr>
        <p:sp>
          <p:nvSpPr>
            <p:cNvPr id="75" name=""/>
            <p:cNvSpPr/>
            <p:nvPr/>
          </p:nvSpPr>
          <p:spPr>
            <a:xfrm>
              <a:off x="2649600" y="2421000"/>
              <a:ext cx="1349280" cy="67500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649600" y="2556000"/>
              <a:ext cx="1079640" cy="674640"/>
            </a:xfrm>
            <a:custGeom>
              <a:avLst/>
              <a:gdLst/>
              <a:ahLst/>
              <a:rect l="l" t="t" r="r" b="b"/>
              <a:pathLst>
                <a:path w="680" h="425">
                  <a:moveTo>
                    <a:pt x="0" y="0"/>
                  </a:moveTo>
                  <a:lnTo>
                    <a:pt x="680" y="340"/>
                  </a:lnTo>
                  <a:lnTo>
                    <a:pt x="680" y="425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730680" y="2961000"/>
              <a:ext cx="27000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0" y="170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85"/>
                  </a:lnTo>
                  <a:lnTo>
                    <a:pt x="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649600" y="1628640"/>
            <a:ext cx="1351080" cy="944640"/>
            <a:chOff x="2649600" y="1628640"/>
            <a:chExt cx="1351080" cy="944640"/>
          </a:xfrm>
        </p:grpSpPr>
        <p:sp>
          <p:nvSpPr>
            <p:cNvPr id="79" name=""/>
            <p:cNvSpPr/>
            <p:nvPr/>
          </p:nvSpPr>
          <p:spPr>
            <a:xfrm>
              <a:off x="3730680" y="2168280"/>
              <a:ext cx="270000" cy="405000"/>
            </a:xfrm>
            <a:custGeom>
              <a:avLst/>
              <a:gdLst/>
              <a:ahLst/>
              <a:rect l="l" t="t" r="r" b="b"/>
              <a:pathLst>
                <a:path w="170" h="255">
                  <a:moveTo>
                    <a:pt x="170" y="0"/>
                  </a:moveTo>
                  <a:lnTo>
                    <a:pt x="170" y="170"/>
                  </a:lnTo>
                  <a:lnTo>
                    <a:pt x="0" y="255"/>
                  </a:lnTo>
                  <a:lnTo>
                    <a:pt x="0" y="85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651400" y="1763640"/>
              <a:ext cx="1079280" cy="80964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340"/>
                  </a:moveTo>
                  <a:lnTo>
                    <a:pt x="680" y="510"/>
                  </a:lnTo>
                  <a:lnTo>
                    <a:pt x="0" y="170"/>
                  </a:lnTo>
                  <a:lnTo>
                    <a:pt x="0" y="0"/>
                  </a:lnTo>
                  <a:lnTo>
                    <a:pt x="68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49600" y="1628640"/>
              <a:ext cx="1349640" cy="67464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649600" y="765000"/>
            <a:ext cx="1349280" cy="1079280"/>
            <a:chOff x="2649600" y="765000"/>
            <a:chExt cx="1349280" cy="1079280"/>
          </a:xfrm>
        </p:grpSpPr>
        <p:sp>
          <p:nvSpPr>
            <p:cNvPr id="83" name=""/>
            <p:cNvSpPr/>
            <p:nvPr/>
          </p:nvSpPr>
          <p:spPr>
            <a:xfrm>
              <a:off x="2649600" y="900000"/>
              <a:ext cx="1079280" cy="944280"/>
            </a:xfrm>
            <a:custGeom>
              <a:avLst/>
              <a:gdLst/>
              <a:ahLst/>
              <a:rect l="l" t="t" r="r" b="b"/>
              <a:pathLst>
                <a:path w="680" h="595">
                  <a:moveTo>
                    <a:pt x="680" y="595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680" y="595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28880" y="1304640"/>
              <a:ext cx="269640" cy="539640"/>
            </a:xfrm>
            <a:custGeom>
              <a:avLst/>
              <a:gdLst/>
              <a:ahLst/>
              <a:rect l="l" t="t" r="r" b="b"/>
              <a:pathLst>
                <a:path w="170" h="340">
                  <a:moveTo>
                    <a:pt x="0" y="340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255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49600" y="765000"/>
              <a:ext cx="1349280" cy="67464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248520" y="1052640"/>
            <a:ext cx="539640" cy="1350360"/>
            <a:chOff x="6248520" y="1052640"/>
            <a:chExt cx="539640" cy="1350360"/>
          </a:xfrm>
        </p:grpSpPr>
        <p:sp>
          <p:nvSpPr>
            <p:cNvPr id="87" name=""/>
            <p:cNvSpPr/>
            <p:nvPr/>
          </p:nvSpPr>
          <p:spPr>
            <a:xfrm>
              <a:off x="6248520" y="1188720"/>
              <a:ext cx="269640" cy="121428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18160" y="1188720"/>
              <a:ext cx="270000" cy="121428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0" y="765"/>
                  </a:moveTo>
                  <a:lnTo>
                    <a:pt x="170" y="680"/>
                  </a:lnTo>
                  <a:lnTo>
                    <a:pt x="170" y="0"/>
                  </a:lnTo>
                  <a:lnTo>
                    <a:pt x="0" y="85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48520" y="1052640"/>
              <a:ext cx="539640" cy="271080"/>
            </a:xfrm>
            <a:custGeom>
              <a:avLst/>
              <a:gdLst/>
              <a:ahLst/>
              <a:rect l="l" t="t" r="r" b="b"/>
              <a:pathLst>
                <a:path w="340" h="171">
                  <a:moveTo>
                    <a:pt x="340" y="86"/>
                  </a:moveTo>
                  <a:lnTo>
                    <a:pt x="170" y="0"/>
                  </a:lnTo>
                  <a:lnTo>
                    <a:pt x="0" y="86"/>
                  </a:lnTo>
                  <a:lnTo>
                    <a:pt x="170" y="171"/>
                  </a:lnTo>
                  <a:lnTo>
                    <a:pt x="340" y="86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7040520" y="981000"/>
            <a:ext cx="811080" cy="1486080"/>
            <a:chOff x="7040520" y="981000"/>
            <a:chExt cx="811080" cy="1486080"/>
          </a:xfrm>
        </p:grpSpPr>
        <p:sp>
          <p:nvSpPr>
            <p:cNvPr id="91" name=""/>
            <p:cNvSpPr/>
            <p:nvPr/>
          </p:nvSpPr>
          <p:spPr>
            <a:xfrm>
              <a:off x="7040520" y="1252440"/>
              <a:ext cx="269640" cy="121464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40520" y="981000"/>
              <a:ext cx="811080" cy="40644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10160" y="1116000"/>
              <a:ext cx="541080" cy="1351080"/>
            </a:xfrm>
            <a:custGeom>
              <a:avLst/>
              <a:gdLst/>
              <a:ahLst/>
              <a:rect l="l" t="t" r="r" b="b"/>
              <a:pathLst>
                <a:path w="341" h="851">
                  <a:moveTo>
                    <a:pt x="341" y="0"/>
                  </a:moveTo>
                  <a:lnTo>
                    <a:pt x="0" y="171"/>
                  </a:lnTo>
                  <a:lnTo>
                    <a:pt x="0" y="851"/>
                  </a:lnTo>
                  <a:lnTo>
                    <a:pt x="341" y="681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8048520" y="1484280"/>
            <a:ext cx="811440" cy="944280"/>
            <a:chOff x="8048520" y="1484280"/>
            <a:chExt cx="811440" cy="944280"/>
          </a:xfrm>
        </p:grpSpPr>
        <p:sp>
          <p:nvSpPr>
            <p:cNvPr id="95" name=""/>
            <p:cNvSpPr/>
            <p:nvPr/>
          </p:nvSpPr>
          <p:spPr>
            <a:xfrm>
              <a:off x="8318520" y="1618920"/>
              <a:ext cx="541440" cy="809640"/>
            </a:xfrm>
            <a:custGeom>
              <a:avLst/>
              <a:gdLst/>
              <a:ahLst/>
              <a:rect l="l" t="t" r="r" b="b"/>
              <a:pathLst>
                <a:path w="341" h="510">
                  <a:moveTo>
                    <a:pt x="0" y="51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340"/>
                  </a:lnTo>
                  <a:lnTo>
                    <a:pt x="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48520" y="1753920"/>
              <a:ext cx="270000" cy="674640"/>
            </a:xfrm>
            <a:custGeom>
              <a:avLst/>
              <a:gdLst/>
              <a:ahLst/>
              <a:rect l="l" t="t" r="r" b="b"/>
              <a:pathLst>
                <a:path w="170" h="425">
                  <a:moveTo>
                    <a:pt x="170" y="425"/>
                  </a:moveTo>
                  <a:lnTo>
                    <a:pt x="170" y="85"/>
                  </a:lnTo>
                  <a:lnTo>
                    <a:pt x="0" y="0"/>
                  </a:lnTo>
                  <a:lnTo>
                    <a:pt x="0" y="340"/>
                  </a:lnTo>
                  <a:lnTo>
                    <a:pt x="17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48520" y="1484280"/>
              <a:ext cx="811440" cy="4060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321600" y="2781360"/>
            <a:ext cx="274320" cy="687240"/>
            <a:chOff x="6321600" y="2781360"/>
            <a:chExt cx="274320" cy="687240"/>
          </a:xfrm>
        </p:grpSpPr>
        <p:sp>
          <p:nvSpPr>
            <p:cNvPr id="99" name=""/>
            <p:cNvSpPr/>
            <p:nvPr/>
          </p:nvSpPr>
          <p:spPr>
            <a:xfrm>
              <a:off x="6321600" y="2851200"/>
              <a:ext cx="13752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59120" y="2851200"/>
              <a:ext cx="13644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0" y="765"/>
                  </a:moveTo>
                  <a:lnTo>
                    <a:pt x="170" y="680"/>
                  </a:lnTo>
                  <a:lnTo>
                    <a:pt x="170" y="0"/>
                  </a:lnTo>
                  <a:lnTo>
                    <a:pt x="0" y="85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21600" y="2781360"/>
              <a:ext cx="274320" cy="137880"/>
            </a:xfrm>
            <a:custGeom>
              <a:avLst/>
              <a:gdLst/>
              <a:ahLst/>
              <a:rect l="l" t="t" r="r" b="b"/>
              <a:pathLst>
                <a:path w="340" h="171">
                  <a:moveTo>
                    <a:pt x="340" y="86"/>
                  </a:moveTo>
                  <a:lnTo>
                    <a:pt x="170" y="0"/>
                  </a:lnTo>
                  <a:lnTo>
                    <a:pt x="0" y="86"/>
                  </a:lnTo>
                  <a:lnTo>
                    <a:pt x="170" y="171"/>
                  </a:lnTo>
                  <a:lnTo>
                    <a:pt x="340" y="86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824520" y="2708280"/>
            <a:ext cx="412560" cy="755640"/>
            <a:chOff x="6824520" y="2708280"/>
            <a:chExt cx="412560" cy="755640"/>
          </a:xfrm>
        </p:grpSpPr>
        <p:sp>
          <p:nvSpPr>
            <p:cNvPr id="103" name=""/>
            <p:cNvSpPr/>
            <p:nvPr/>
          </p:nvSpPr>
          <p:spPr>
            <a:xfrm>
              <a:off x="6824520" y="2846520"/>
              <a:ext cx="13788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24520" y="2708280"/>
              <a:ext cx="412560" cy="2062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62400" y="2776680"/>
              <a:ext cx="274680" cy="687240"/>
            </a:xfrm>
            <a:custGeom>
              <a:avLst/>
              <a:gdLst/>
              <a:ahLst/>
              <a:rect l="l" t="t" r="r" b="b"/>
              <a:pathLst>
                <a:path w="341" h="851">
                  <a:moveTo>
                    <a:pt x="341" y="0"/>
                  </a:moveTo>
                  <a:lnTo>
                    <a:pt x="0" y="171"/>
                  </a:lnTo>
                  <a:lnTo>
                    <a:pt x="0" y="851"/>
                  </a:lnTo>
                  <a:lnTo>
                    <a:pt x="341" y="681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7473960" y="2924280"/>
            <a:ext cx="412560" cy="480960"/>
            <a:chOff x="7473960" y="2924280"/>
            <a:chExt cx="412560" cy="480960"/>
          </a:xfrm>
        </p:grpSpPr>
        <p:sp>
          <p:nvSpPr>
            <p:cNvPr id="107" name=""/>
            <p:cNvSpPr/>
            <p:nvPr/>
          </p:nvSpPr>
          <p:spPr>
            <a:xfrm>
              <a:off x="7610400" y="2994120"/>
              <a:ext cx="276120" cy="411120"/>
            </a:xfrm>
            <a:custGeom>
              <a:avLst/>
              <a:gdLst/>
              <a:ahLst/>
              <a:rect l="l" t="t" r="r" b="b"/>
              <a:pathLst>
                <a:path w="341" h="510">
                  <a:moveTo>
                    <a:pt x="0" y="51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340"/>
                  </a:lnTo>
                  <a:lnTo>
                    <a:pt x="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73960" y="3062520"/>
              <a:ext cx="136440" cy="342720"/>
            </a:xfrm>
            <a:custGeom>
              <a:avLst/>
              <a:gdLst/>
              <a:ahLst/>
              <a:rect l="l" t="t" r="r" b="b"/>
              <a:pathLst>
                <a:path w="170" h="425">
                  <a:moveTo>
                    <a:pt x="170" y="425"/>
                  </a:moveTo>
                  <a:lnTo>
                    <a:pt x="170" y="85"/>
                  </a:lnTo>
                  <a:lnTo>
                    <a:pt x="0" y="0"/>
                  </a:lnTo>
                  <a:lnTo>
                    <a:pt x="0" y="340"/>
                  </a:lnTo>
                  <a:lnTo>
                    <a:pt x="17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73960" y="2924280"/>
              <a:ext cx="412560" cy="2080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88880" y="5661000"/>
            <a:ext cx="809640" cy="539640"/>
            <a:chOff x="488880" y="5661000"/>
            <a:chExt cx="809640" cy="539640"/>
          </a:xfrm>
        </p:grpSpPr>
        <p:sp>
          <p:nvSpPr>
            <p:cNvPr id="111" name=""/>
            <p:cNvSpPr/>
            <p:nvPr/>
          </p:nvSpPr>
          <p:spPr>
            <a:xfrm>
              <a:off x="1028520" y="5930640"/>
              <a:ext cx="270000" cy="27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0" y="340"/>
                  </a:moveTo>
                  <a:lnTo>
                    <a:pt x="0" y="170"/>
                  </a:lnTo>
                  <a:lnTo>
                    <a:pt x="340" y="0"/>
                  </a:lnTo>
                  <a:lnTo>
                    <a:pt x="340" y="170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8880" y="5795640"/>
              <a:ext cx="539640" cy="40500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51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680" y="340"/>
                  </a:lnTo>
                  <a:lnTo>
                    <a:pt x="68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8880" y="5661000"/>
              <a:ext cx="809640" cy="40464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88880" y="4940280"/>
            <a:ext cx="811080" cy="676440"/>
            <a:chOff x="488880" y="4940280"/>
            <a:chExt cx="811080" cy="676440"/>
          </a:xfrm>
        </p:grpSpPr>
        <p:sp>
          <p:nvSpPr>
            <p:cNvPr id="115" name=""/>
            <p:cNvSpPr/>
            <p:nvPr/>
          </p:nvSpPr>
          <p:spPr>
            <a:xfrm>
              <a:off x="1030320" y="5211720"/>
              <a:ext cx="269640" cy="405000"/>
            </a:xfrm>
            <a:custGeom>
              <a:avLst/>
              <a:gdLst/>
              <a:ahLst/>
              <a:rect l="l" t="t" r="r" b="b"/>
              <a:pathLst>
                <a:path w="170" h="255">
                  <a:moveTo>
                    <a:pt x="0" y="255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170"/>
                  </a:lnTo>
                  <a:lnTo>
                    <a:pt x="0" y="25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0320" y="5076720"/>
              <a:ext cx="54000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34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340" y="170"/>
                  </a:lnTo>
                  <a:lnTo>
                    <a:pt x="34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8880" y="4940280"/>
              <a:ext cx="809640" cy="40500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88880" y="4076640"/>
            <a:ext cx="809640" cy="809640"/>
            <a:chOff x="488880" y="4076640"/>
            <a:chExt cx="809640" cy="809640"/>
          </a:xfrm>
        </p:grpSpPr>
        <p:sp>
          <p:nvSpPr>
            <p:cNvPr id="119" name=""/>
            <p:cNvSpPr/>
            <p:nvPr/>
          </p:nvSpPr>
          <p:spPr>
            <a:xfrm>
              <a:off x="488880" y="4076640"/>
              <a:ext cx="809640" cy="40500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8880" y="4211640"/>
              <a:ext cx="539640" cy="674640"/>
            </a:xfrm>
            <a:custGeom>
              <a:avLst/>
              <a:gdLst/>
              <a:ahLst/>
              <a:rect l="l" t="t" r="r" b="b"/>
              <a:pathLst>
                <a:path w="340" h="425">
                  <a:moveTo>
                    <a:pt x="340" y="425"/>
                  </a:moveTo>
                  <a:lnTo>
                    <a:pt x="340" y="17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34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28520" y="4346640"/>
              <a:ext cx="270000" cy="539640"/>
            </a:xfrm>
            <a:custGeom>
              <a:avLst/>
              <a:gdLst/>
              <a:ahLst/>
              <a:rect l="l" t="t" r="r" b="b"/>
              <a:pathLst>
                <a:path w="170" h="340">
                  <a:moveTo>
                    <a:pt x="0" y="85"/>
                  </a:moveTo>
                  <a:lnTo>
                    <a:pt x="170" y="0"/>
                  </a:lnTo>
                  <a:lnTo>
                    <a:pt x="170" y="255"/>
                  </a:lnTo>
                  <a:lnTo>
                    <a:pt x="0" y="340"/>
                  </a:lnTo>
                  <a:lnTo>
                    <a:pt x="0" y="8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425600" y="5516640"/>
            <a:ext cx="1081080" cy="674640"/>
            <a:chOff x="1425600" y="5516640"/>
            <a:chExt cx="1081080" cy="674640"/>
          </a:xfrm>
        </p:grpSpPr>
        <p:sp>
          <p:nvSpPr>
            <p:cNvPr id="123" name=""/>
            <p:cNvSpPr/>
            <p:nvPr/>
          </p:nvSpPr>
          <p:spPr>
            <a:xfrm>
              <a:off x="1965240" y="5786280"/>
              <a:ext cx="541440" cy="405000"/>
            </a:xfrm>
            <a:custGeom>
              <a:avLst/>
              <a:gdLst/>
              <a:ahLst/>
              <a:rect l="l" t="t" r="r" b="b"/>
              <a:pathLst>
                <a:path w="341" h="255">
                  <a:moveTo>
                    <a:pt x="0" y="25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85"/>
                  </a:lnTo>
                  <a:lnTo>
                    <a:pt x="0" y="25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25600" y="5786280"/>
              <a:ext cx="539640" cy="405000"/>
            </a:xfrm>
            <a:custGeom>
              <a:avLst/>
              <a:gdLst/>
              <a:ahLst/>
              <a:rect l="l" t="t" r="r" b="b"/>
              <a:pathLst>
                <a:path w="340" h="255">
                  <a:moveTo>
                    <a:pt x="340" y="170"/>
                  </a:moveTo>
                  <a:lnTo>
                    <a:pt x="340" y="255"/>
                  </a:lnTo>
                  <a:lnTo>
                    <a:pt x="0" y="85"/>
                  </a:lnTo>
                  <a:lnTo>
                    <a:pt x="0" y="0"/>
                  </a:lnTo>
                  <a:lnTo>
                    <a:pt x="34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25600" y="551664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425600" y="4653000"/>
            <a:ext cx="1081080" cy="809640"/>
            <a:chOff x="1425600" y="4653000"/>
            <a:chExt cx="1081080" cy="809640"/>
          </a:xfrm>
        </p:grpSpPr>
        <p:sp>
          <p:nvSpPr>
            <p:cNvPr id="127" name=""/>
            <p:cNvSpPr/>
            <p:nvPr/>
          </p:nvSpPr>
          <p:spPr>
            <a:xfrm>
              <a:off x="1425600" y="465300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65240" y="4923000"/>
              <a:ext cx="541440" cy="539640"/>
            </a:xfrm>
            <a:custGeom>
              <a:avLst/>
              <a:gdLst/>
              <a:ahLst/>
              <a:rect l="l" t="t" r="r" b="b"/>
              <a:pathLst>
                <a:path w="341" h="340">
                  <a:moveTo>
                    <a:pt x="0" y="170"/>
                  </a:moveTo>
                  <a:lnTo>
                    <a:pt x="341" y="0"/>
                  </a:lnTo>
                  <a:lnTo>
                    <a:pt x="341" y="170"/>
                  </a:lnTo>
                  <a:lnTo>
                    <a:pt x="0" y="340"/>
                  </a:lnTo>
                  <a:lnTo>
                    <a:pt x="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25600" y="492300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34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340" y="170"/>
                  </a:lnTo>
                  <a:lnTo>
                    <a:pt x="34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425600" y="3573360"/>
            <a:ext cx="1081080" cy="944280"/>
            <a:chOff x="1425600" y="3573360"/>
            <a:chExt cx="1081080" cy="944280"/>
          </a:xfrm>
        </p:grpSpPr>
        <p:sp>
          <p:nvSpPr>
            <p:cNvPr id="131" name=""/>
            <p:cNvSpPr/>
            <p:nvPr/>
          </p:nvSpPr>
          <p:spPr>
            <a:xfrm>
              <a:off x="1425600" y="357336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25600" y="3843000"/>
              <a:ext cx="539640" cy="674640"/>
            </a:xfrm>
            <a:custGeom>
              <a:avLst/>
              <a:gdLst/>
              <a:ahLst/>
              <a:rect l="l" t="t" r="r" b="b"/>
              <a:pathLst>
                <a:path w="340" h="425">
                  <a:moveTo>
                    <a:pt x="0" y="0"/>
                  </a:moveTo>
                  <a:lnTo>
                    <a:pt x="340" y="170"/>
                  </a:lnTo>
                  <a:lnTo>
                    <a:pt x="340" y="425"/>
                  </a:lnTo>
                  <a:lnTo>
                    <a:pt x="0" y="25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65240" y="3843000"/>
              <a:ext cx="541440" cy="674640"/>
            </a:xfrm>
            <a:custGeom>
              <a:avLst/>
              <a:gdLst/>
              <a:ahLst/>
              <a:rect l="l" t="t" r="r" b="b"/>
              <a:pathLst>
                <a:path w="341" h="425">
                  <a:moveTo>
                    <a:pt x="341" y="0"/>
                  </a:moveTo>
                  <a:lnTo>
                    <a:pt x="341" y="255"/>
                  </a:lnTo>
                  <a:lnTo>
                    <a:pt x="0" y="425"/>
                  </a:lnTo>
                  <a:lnTo>
                    <a:pt x="0" y="170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233960" y="5516640"/>
            <a:ext cx="1620720" cy="944640"/>
            <a:chOff x="4233960" y="5516640"/>
            <a:chExt cx="1620720" cy="944640"/>
          </a:xfrm>
        </p:grpSpPr>
        <p:sp>
          <p:nvSpPr>
            <p:cNvPr id="135" name=""/>
            <p:cNvSpPr/>
            <p:nvPr/>
          </p:nvSpPr>
          <p:spPr>
            <a:xfrm>
              <a:off x="5313240" y="6056280"/>
              <a:ext cx="541080" cy="405000"/>
            </a:xfrm>
            <a:custGeom>
              <a:avLst/>
              <a:gdLst/>
              <a:ahLst/>
              <a:rect l="l" t="t" r="r" b="b"/>
              <a:pathLst>
                <a:path w="341" h="255">
                  <a:moveTo>
                    <a:pt x="0" y="25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85"/>
                  </a:lnTo>
                  <a:lnTo>
                    <a:pt x="0" y="25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33960" y="5786640"/>
              <a:ext cx="1079280" cy="674640"/>
            </a:xfrm>
            <a:custGeom>
              <a:avLst/>
              <a:gdLst/>
              <a:ahLst/>
              <a:rect l="l" t="t" r="r" b="b"/>
              <a:pathLst>
                <a:path w="680" h="425">
                  <a:moveTo>
                    <a:pt x="680" y="340"/>
                  </a:moveTo>
                  <a:lnTo>
                    <a:pt x="680" y="425"/>
                  </a:lnTo>
                  <a:lnTo>
                    <a:pt x="0" y="85"/>
                  </a:lnTo>
                  <a:lnTo>
                    <a:pt x="0" y="0"/>
                  </a:lnTo>
                  <a:lnTo>
                    <a:pt x="68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33960" y="5516640"/>
              <a:ext cx="1620720" cy="80964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233960" y="4437000"/>
            <a:ext cx="1620720" cy="1079640"/>
            <a:chOff x="4233960" y="4437000"/>
            <a:chExt cx="1620720" cy="1079640"/>
          </a:xfrm>
        </p:grpSpPr>
        <p:sp>
          <p:nvSpPr>
            <p:cNvPr id="139" name=""/>
            <p:cNvSpPr/>
            <p:nvPr/>
          </p:nvSpPr>
          <p:spPr>
            <a:xfrm>
              <a:off x="4233960" y="4437000"/>
              <a:ext cx="1620720" cy="80964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33960" y="4707000"/>
              <a:ext cx="1079280" cy="80964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510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68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13240" y="4977000"/>
              <a:ext cx="541080" cy="539640"/>
            </a:xfrm>
            <a:custGeom>
              <a:avLst/>
              <a:gdLst/>
              <a:ahLst/>
              <a:rect l="l" t="t" r="r" b="b"/>
              <a:pathLst>
                <a:path w="341" h="340">
                  <a:moveTo>
                    <a:pt x="0" y="34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170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05240" y="3357720"/>
            <a:ext cx="1622520" cy="1214280"/>
            <a:chOff x="4305240" y="3357720"/>
            <a:chExt cx="1622520" cy="1214280"/>
          </a:xfrm>
        </p:grpSpPr>
        <p:sp>
          <p:nvSpPr>
            <p:cNvPr id="143" name=""/>
            <p:cNvSpPr/>
            <p:nvPr/>
          </p:nvSpPr>
          <p:spPr>
            <a:xfrm>
              <a:off x="5386320" y="3897360"/>
              <a:ext cx="541440" cy="674640"/>
            </a:xfrm>
            <a:custGeom>
              <a:avLst/>
              <a:gdLst/>
              <a:ahLst/>
              <a:rect l="l" t="t" r="r" b="b"/>
              <a:pathLst>
                <a:path w="341" h="425">
                  <a:moveTo>
                    <a:pt x="0" y="42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255"/>
                  </a:lnTo>
                  <a:lnTo>
                    <a:pt x="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05240" y="3357720"/>
              <a:ext cx="1621080" cy="80964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05240" y="3627360"/>
              <a:ext cx="1079640" cy="944640"/>
            </a:xfrm>
            <a:custGeom>
              <a:avLst/>
              <a:gdLst/>
              <a:ahLst/>
              <a:rect l="l" t="t" r="r" b="b"/>
              <a:pathLst>
                <a:path w="680" h="595">
                  <a:moveTo>
                    <a:pt x="680" y="595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680" y="59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722680" y="5445000"/>
            <a:ext cx="1350360" cy="809640"/>
            <a:chOff x="2722680" y="5445000"/>
            <a:chExt cx="1350360" cy="809640"/>
          </a:xfrm>
        </p:grpSpPr>
        <p:sp>
          <p:nvSpPr>
            <p:cNvPr id="147" name=""/>
            <p:cNvSpPr/>
            <p:nvPr/>
          </p:nvSpPr>
          <p:spPr>
            <a:xfrm>
              <a:off x="2722680" y="5445000"/>
              <a:ext cx="1348920" cy="67500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22680" y="5580000"/>
              <a:ext cx="1079280" cy="674640"/>
            </a:xfrm>
            <a:custGeom>
              <a:avLst/>
              <a:gdLst/>
              <a:ahLst/>
              <a:rect l="l" t="t" r="r" b="b"/>
              <a:pathLst>
                <a:path w="680" h="425">
                  <a:moveTo>
                    <a:pt x="0" y="0"/>
                  </a:moveTo>
                  <a:lnTo>
                    <a:pt x="680" y="340"/>
                  </a:lnTo>
                  <a:lnTo>
                    <a:pt x="680" y="425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3400" y="5985000"/>
              <a:ext cx="26964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0" y="170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85"/>
                  </a:lnTo>
                  <a:lnTo>
                    <a:pt x="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722680" y="4653000"/>
            <a:ext cx="1350360" cy="944640"/>
            <a:chOff x="2722680" y="4653000"/>
            <a:chExt cx="1350360" cy="944640"/>
          </a:xfrm>
        </p:grpSpPr>
        <p:sp>
          <p:nvSpPr>
            <p:cNvPr id="151" name=""/>
            <p:cNvSpPr/>
            <p:nvPr/>
          </p:nvSpPr>
          <p:spPr>
            <a:xfrm>
              <a:off x="3803400" y="5192640"/>
              <a:ext cx="269640" cy="405000"/>
            </a:xfrm>
            <a:custGeom>
              <a:avLst/>
              <a:gdLst/>
              <a:ahLst/>
              <a:rect l="l" t="t" r="r" b="b"/>
              <a:pathLst>
                <a:path w="170" h="255">
                  <a:moveTo>
                    <a:pt x="170" y="0"/>
                  </a:moveTo>
                  <a:lnTo>
                    <a:pt x="170" y="170"/>
                  </a:lnTo>
                  <a:lnTo>
                    <a:pt x="0" y="255"/>
                  </a:lnTo>
                  <a:lnTo>
                    <a:pt x="0" y="85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24120" y="4788000"/>
              <a:ext cx="1078920" cy="80964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340"/>
                  </a:moveTo>
                  <a:lnTo>
                    <a:pt x="680" y="510"/>
                  </a:lnTo>
                  <a:lnTo>
                    <a:pt x="0" y="170"/>
                  </a:lnTo>
                  <a:lnTo>
                    <a:pt x="0" y="0"/>
                  </a:lnTo>
                  <a:lnTo>
                    <a:pt x="68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22680" y="4653000"/>
              <a:ext cx="1349280" cy="67464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722680" y="3789360"/>
            <a:ext cx="1349280" cy="1079280"/>
            <a:chOff x="2722680" y="3789360"/>
            <a:chExt cx="1349280" cy="1079280"/>
          </a:xfrm>
        </p:grpSpPr>
        <p:sp>
          <p:nvSpPr>
            <p:cNvPr id="155" name=""/>
            <p:cNvSpPr/>
            <p:nvPr/>
          </p:nvSpPr>
          <p:spPr>
            <a:xfrm>
              <a:off x="2722680" y="3924360"/>
              <a:ext cx="1079280" cy="944280"/>
            </a:xfrm>
            <a:custGeom>
              <a:avLst/>
              <a:gdLst/>
              <a:ahLst/>
              <a:rect l="l" t="t" r="r" b="b"/>
              <a:pathLst>
                <a:path w="680" h="595">
                  <a:moveTo>
                    <a:pt x="680" y="595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680" y="59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01960" y="4329000"/>
              <a:ext cx="269640" cy="539640"/>
            </a:xfrm>
            <a:custGeom>
              <a:avLst/>
              <a:gdLst/>
              <a:ahLst/>
              <a:rect l="l" t="t" r="r" b="b"/>
              <a:pathLst>
                <a:path w="170" h="340">
                  <a:moveTo>
                    <a:pt x="0" y="340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255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22680" y="3789360"/>
              <a:ext cx="1349280" cy="67464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321600" y="4076640"/>
            <a:ext cx="539640" cy="1351080"/>
            <a:chOff x="6321600" y="4076640"/>
            <a:chExt cx="539640" cy="1351080"/>
          </a:xfrm>
        </p:grpSpPr>
        <p:sp>
          <p:nvSpPr>
            <p:cNvPr id="159" name=""/>
            <p:cNvSpPr/>
            <p:nvPr/>
          </p:nvSpPr>
          <p:spPr>
            <a:xfrm>
              <a:off x="6321600" y="4213080"/>
              <a:ext cx="269640" cy="121464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91240" y="4213080"/>
              <a:ext cx="270000" cy="121464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0" y="765"/>
                  </a:moveTo>
                  <a:lnTo>
                    <a:pt x="170" y="680"/>
                  </a:lnTo>
                  <a:lnTo>
                    <a:pt x="170" y="0"/>
                  </a:lnTo>
                  <a:lnTo>
                    <a:pt x="0" y="85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21600" y="4076640"/>
              <a:ext cx="539640" cy="271440"/>
            </a:xfrm>
            <a:custGeom>
              <a:avLst/>
              <a:gdLst/>
              <a:ahLst/>
              <a:rect l="l" t="t" r="r" b="b"/>
              <a:pathLst>
                <a:path w="340" h="171">
                  <a:moveTo>
                    <a:pt x="340" y="86"/>
                  </a:moveTo>
                  <a:lnTo>
                    <a:pt x="170" y="0"/>
                  </a:lnTo>
                  <a:lnTo>
                    <a:pt x="0" y="86"/>
                  </a:lnTo>
                  <a:lnTo>
                    <a:pt x="170" y="171"/>
                  </a:lnTo>
                  <a:lnTo>
                    <a:pt x="340" y="86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7113600" y="4005360"/>
            <a:ext cx="811080" cy="1485360"/>
            <a:chOff x="7113600" y="4005360"/>
            <a:chExt cx="811080" cy="1485360"/>
          </a:xfrm>
        </p:grpSpPr>
        <p:sp>
          <p:nvSpPr>
            <p:cNvPr id="163" name=""/>
            <p:cNvSpPr/>
            <p:nvPr/>
          </p:nvSpPr>
          <p:spPr>
            <a:xfrm>
              <a:off x="7113600" y="4276440"/>
              <a:ext cx="269640" cy="121428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13600" y="4005360"/>
              <a:ext cx="811080" cy="4060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83240" y="4140000"/>
              <a:ext cx="541080" cy="1350720"/>
            </a:xfrm>
            <a:custGeom>
              <a:avLst/>
              <a:gdLst/>
              <a:ahLst/>
              <a:rect l="l" t="t" r="r" b="b"/>
              <a:pathLst>
                <a:path w="341" h="851">
                  <a:moveTo>
                    <a:pt x="341" y="0"/>
                  </a:moveTo>
                  <a:lnTo>
                    <a:pt x="0" y="171"/>
                  </a:lnTo>
                  <a:lnTo>
                    <a:pt x="0" y="851"/>
                  </a:lnTo>
                  <a:lnTo>
                    <a:pt x="341" y="681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8121600" y="4508640"/>
            <a:ext cx="811440" cy="944280"/>
            <a:chOff x="8121600" y="4508640"/>
            <a:chExt cx="811440" cy="944280"/>
          </a:xfrm>
        </p:grpSpPr>
        <p:sp>
          <p:nvSpPr>
            <p:cNvPr id="167" name=""/>
            <p:cNvSpPr/>
            <p:nvPr/>
          </p:nvSpPr>
          <p:spPr>
            <a:xfrm>
              <a:off x="8391600" y="4643280"/>
              <a:ext cx="541440" cy="809640"/>
            </a:xfrm>
            <a:custGeom>
              <a:avLst/>
              <a:gdLst/>
              <a:ahLst/>
              <a:rect l="l" t="t" r="r" b="b"/>
              <a:pathLst>
                <a:path w="341" h="510">
                  <a:moveTo>
                    <a:pt x="0" y="51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340"/>
                  </a:lnTo>
                  <a:lnTo>
                    <a:pt x="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121600" y="4778280"/>
              <a:ext cx="270000" cy="674640"/>
            </a:xfrm>
            <a:custGeom>
              <a:avLst/>
              <a:gdLst/>
              <a:ahLst/>
              <a:rect l="l" t="t" r="r" b="b"/>
              <a:pathLst>
                <a:path w="170" h="425">
                  <a:moveTo>
                    <a:pt x="170" y="425"/>
                  </a:moveTo>
                  <a:lnTo>
                    <a:pt x="170" y="85"/>
                  </a:lnTo>
                  <a:lnTo>
                    <a:pt x="0" y="0"/>
                  </a:lnTo>
                  <a:lnTo>
                    <a:pt x="0" y="340"/>
                  </a:lnTo>
                  <a:lnTo>
                    <a:pt x="17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21600" y="4508640"/>
              <a:ext cx="811440" cy="4060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394320" y="5805360"/>
            <a:ext cx="274680" cy="687240"/>
            <a:chOff x="6394320" y="5805360"/>
            <a:chExt cx="274680" cy="687240"/>
          </a:xfrm>
        </p:grpSpPr>
        <p:sp>
          <p:nvSpPr>
            <p:cNvPr id="171" name=""/>
            <p:cNvSpPr/>
            <p:nvPr/>
          </p:nvSpPr>
          <p:spPr>
            <a:xfrm>
              <a:off x="6394320" y="5875200"/>
              <a:ext cx="13788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32200" y="5875200"/>
              <a:ext cx="13680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0" y="765"/>
                  </a:moveTo>
                  <a:lnTo>
                    <a:pt x="170" y="680"/>
                  </a:lnTo>
                  <a:lnTo>
                    <a:pt x="170" y="0"/>
                  </a:lnTo>
                  <a:lnTo>
                    <a:pt x="0" y="85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94320" y="5805360"/>
              <a:ext cx="274680" cy="137880"/>
            </a:xfrm>
            <a:custGeom>
              <a:avLst/>
              <a:gdLst/>
              <a:ahLst/>
              <a:rect l="l" t="t" r="r" b="b"/>
              <a:pathLst>
                <a:path w="340" h="171">
                  <a:moveTo>
                    <a:pt x="340" y="86"/>
                  </a:moveTo>
                  <a:lnTo>
                    <a:pt x="170" y="0"/>
                  </a:lnTo>
                  <a:lnTo>
                    <a:pt x="0" y="86"/>
                  </a:lnTo>
                  <a:lnTo>
                    <a:pt x="170" y="171"/>
                  </a:lnTo>
                  <a:lnTo>
                    <a:pt x="340" y="86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897600" y="5732640"/>
            <a:ext cx="412560" cy="755640"/>
            <a:chOff x="6897600" y="5732640"/>
            <a:chExt cx="412560" cy="755640"/>
          </a:xfrm>
        </p:grpSpPr>
        <p:sp>
          <p:nvSpPr>
            <p:cNvPr id="175" name=""/>
            <p:cNvSpPr/>
            <p:nvPr/>
          </p:nvSpPr>
          <p:spPr>
            <a:xfrm>
              <a:off x="6897600" y="5870880"/>
              <a:ext cx="13788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97600" y="5732640"/>
              <a:ext cx="412560" cy="2062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35480" y="5801040"/>
              <a:ext cx="274680" cy="687240"/>
            </a:xfrm>
            <a:custGeom>
              <a:avLst/>
              <a:gdLst/>
              <a:ahLst/>
              <a:rect l="l" t="t" r="r" b="b"/>
              <a:pathLst>
                <a:path w="341" h="851">
                  <a:moveTo>
                    <a:pt x="341" y="0"/>
                  </a:moveTo>
                  <a:lnTo>
                    <a:pt x="0" y="171"/>
                  </a:lnTo>
                  <a:lnTo>
                    <a:pt x="0" y="851"/>
                  </a:lnTo>
                  <a:lnTo>
                    <a:pt x="341" y="681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7547040" y="5948280"/>
            <a:ext cx="412560" cy="480960"/>
            <a:chOff x="7547040" y="5948280"/>
            <a:chExt cx="412560" cy="480960"/>
          </a:xfrm>
        </p:grpSpPr>
        <p:sp>
          <p:nvSpPr>
            <p:cNvPr id="179" name=""/>
            <p:cNvSpPr/>
            <p:nvPr/>
          </p:nvSpPr>
          <p:spPr>
            <a:xfrm>
              <a:off x="7683480" y="6018120"/>
              <a:ext cx="276120" cy="411120"/>
            </a:xfrm>
            <a:custGeom>
              <a:avLst/>
              <a:gdLst/>
              <a:ahLst/>
              <a:rect l="l" t="t" r="r" b="b"/>
              <a:pathLst>
                <a:path w="341" h="510">
                  <a:moveTo>
                    <a:pt x="0" y="51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340"/>
                  </a:lnTo>
                  <a:lnTo>
                    <a:pt x="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47040" y="6086520"/>
              <a:ext cx="136440" cy="342720"/>
            </a:xfrm>
            <a:custGeom>
              <a:avLst/>
              <a:gdLst/>
              <a:ahLst/>
              <a:rect l="l" t="t" r="r" b="b"/>
              <a:pathLst>
                <a:path w="170" h="425">
                  <a:moveTo>
                    <a:pt x="170" y="425"/>
                  </a:moveTo>
                  <a:lnTo>
                    <a:pt x="170" y="85"/>
                  </a:lnTo>
                  <a:lnTo>
                    <a:pt x="0" y="0"/>
                  </a:lnTo>
                  <a:lnTo>
                    <a:pt x="0" y="340"/>
                  </a:lnTo>
                  <a:lnTo>
                    <a:pt x="17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47040" y="5948280"/>
              <a:ext cx="412560" cy="2080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415800" y="2637000"/>
            <a:ext cx="809640" cy="539640"/>
            <a:chOff x="415800" y="2637000"/>
            <a:chExt cx="809640" cy="539640"/>
          </a:xfrm>
        </p:grpSpPr>
        <p:sp>
          <p:nvSpPr>
            <p:cNvPr id="183" name=""/>
            <p:cNvSpPr/>
            <p:nvPr/>
          </p:nvSpPr>
          <p:spPr>
            <a:xfrm>
              <a:off x="955440" y="2906640"/>
              <a:ext cx="270000" cy="27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0" y="340"/>
                  </a:moveTo>
                  <a:lnTo>
                    <a:pt x="0" y="170"/>
                  </a:lnTo>
                  <a:lnTo>
                    <a:pt x="340" y="0"/>
                  </a:lnTo>
                  <a:lnTo>
                    <a:pt x="340" y="170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5800" y="2771640"/>
              <a:ext cx="539640" cy="40500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51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680" y="340"/>
                  </a:lnTo>
                  <a:lnTo>
                    <a:pt x="68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5800" y="2637000"/>
              <a:ext cx="809640" cy="40464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15800" y="1916280"/>
            <a:ext cx="811080" cy="675720"/>
            <a:chOff x="415800" y="1916280"/>
            <a:chExt cx="811080" cy="675720"/>
          </a:xfrm>
        </p:grpSpPr>
        <p:sp>
          <p:nvSpPr>
            <p:cNvPr id="187" name=""/>
            <p:cNvSpPr/>
            <p:nvPr/>
          </p:nvSpPr>
          <p:spPr>
            <a:xfrm>
              <a:off x="957240" y="2187360"/>
              <a:ext cx="269640" cy="404640"/>
            </a:xfrm>
            <a:custGeom>
              <a:avLst/>
              <a:gdLst/>
              <a:ahLst/>
              <a:rect l="l" t="t" r="r" b="b"/>
              <a:pathLst>
                <a:path w="170" h="255">
                  <a:moveTo>
                    <a:pt x="0" y="255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170"/>
                  </a:lnTo>
                  <a:lnTo>
                    <a:pt x="0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7240" y="205236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34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340" y="170"/>
                  </a:lnTo>
                  <a:lnTo>
                    <a:pt x="34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5800" y="1916280"/>
              <a:ext cx="809640" cy="40464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15800" y="1052640"/>
            <a:ext cx="809640" cy="809640"/>
            <a:chOff x="415800" y="1052640"/>
            <a:chExt cx="809640" cy="809640"/>
          </a:xfrm>
        </p:grpSpPr>
        <p:sp>
          <p:nvSpPr>
            <p:cNvPr id="191" name=""/>
            <p:cNvSpPr/>
            <p:nvPr/>
          </p:nvSpPr>
          <p:spPr>
            <a:xfrm>
              <a:off x="415800" y="1052640"/>
              <a:ext cx="809640" cy="40500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5800" y="1187640"/>
              <a:ext cx="539640" cy="674640"/>
            </a:xfrm>
            <a:custGeom>
              <a:avLst/>
              <a:gdLst/>
              <a:ahLst/>
              <a:rect l="l" t="t" r="r" b="b"/>
              <a:pathLst>
                <a:path w="340" h="425">
                  <a:moveTo>
                    <a:pt x="340" y="425"/>
                  </a:moveTo>
                  <a:lnTo>
                    <a:pt x="340" y="17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34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55440" y="1322640"/>
              <a:ext cx="270000" cy="539640"/>
            </a:xfrm>
            <a:custGeom>
              <a:avLst/>
              <a:gdLst/>
              <a:ahLst/>
              <a:rect l="l" t="t" r="r" b="b"/>
              <a:pathLst>
                <a:path w="170" h="340">
                  <a:moveTo>
                    <a:pt x="0" y="85"/>
                  </a:moveTo>
                  <a:lnTo>
                    <a:pt x="170" y="0"/>
                  </a:lnTo>
                  <a:lnTo>
                    <a:pt x="170" y="255"/>
                  </a:lnTo>
                  <a:lnTo>
                    <a:pt x="0" y="340"/>
                  </a:lnTo>
                  <a:lnTo>
                    <a:pt x="0" y="85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352520" y="2492280"/>
            <a:ext cx="1081080" cy="674640"/>
            <a:chOff x="1352520" y="2492280"/>
            <a:chExt cx="1081080" cy="674640"/>
          </a:xfrm>
        </p:grpSpPr>
        <p:sp>
          <p:nvSpPr>
            <p:cNvPr id="195" name=""/>
            <p:cNvSpPr/>
            <p:nvPr/>
          </p:nvSpPr>
          <p:spPr>
            <a:xfrm>
              <a:off x="1892160" y="2761920"/>
              <a:ext cx="541440" cy="405000"/>
            </a:xfrm>
            <a:custGeom>
              <a:avLst/>
              <a:gdLst/>
              <a:ahLst/>
              <a:rect l="l" t="t" r="r" b="b"/>
              <a:pathLst>
                <a:path w="341" h="255">
                  <a:moveTo>
                    <a:pt x="0" y="25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85"/>
                  </a:lnTo>
                  <a:lnTo>
                    <a:pt x="0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52520" y="2761920"/>
              <a:ext cx="539640" cy="405000"/>
            </a:xfrm>
            <a:custGeom>
              <a:avLst/>
              <a:gdLst/>
              <a:ahLst/>
              <a:rect l="l" t="t" r="r" b="b"/>
              <a:pathLst>
                <a:path w="340" h="255">
                  <a:moveTo>
                    <a:pt x="340" y="170"/>
                  </a:moveTo>
                  <a:lnTo>
                    <a:pt x="340" y="255"/>
                  </a:lnTo>
                  <a:lnTo>
                    <a:pt x="0" y="85"/>
                  </a:lnTo>
                  <a:lnTo>
                    <a:pt x="0" y="0"/>
                  </a:lnTo>
                  <a:lnTo>
                    <a:pt x="34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52520" y="249228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352520" y="1628640"/>
            <a:ext cx="1081080" cy="809640"/>
            <a:chOff x="1352520" y="1628640"/>
            <a:chExt cx="1081080" cy="809640"/>
          </a:xfrm>
        </p:grpSpPr>
        <p:sp>
          <p:nvSpPr>
            <p:cNvPr id="199" name=""/>
            <p:cNvSpPr/>
            <p:nvPr/>
          </p:nvSpPr>
          <p:spPr>
            <a:xfrm>
              <a:off x="1352520" y="162864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92160" y="1898640"/>
              <a:ext cx="541440" cy="539640"/>
            </a:xfrm>
            <a:custGeom>
              <a:avLst/>
              <a:gdLst/>
              <a:ahLst/>
              <a:rect l="l" t="t" r="r" b="b"/>
              <a:pathLst>
                <a:path w="341" h="340">
                  <a:moveTo>
                    <a:pt x="0" y="170"/>
                  </a:moveTo>
                  <a:lnTo>
                    <a:pt x="341" y="0"/>
                  </a:lnTo>
                  <a:lnTo>
                    <a:pt x="341" y="170"/>
                  </a:lnTo>
                  <a:lnTo>
                    <a:pt x="0" y="340"/>
                  </a:lnTo>
                  <a:lnTo>
                    <a:pt x="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52520" y="189864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34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340" y="170"/>
                  </a:lnTo>
                  <a:lnTo>
                    <a:pt x="34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52520" y="549360"/>
            <a:ext cx="1081080" cy="944280"/>
            <a:chOff x="1352520" y="549360"/>
            <a:chExt cx="1081080" cy="944280"/>
          </a:xfrm>
        </p:grpSpPr>
        <p:sp>
          <p:nvSpPr>
            <p:cNvPr id="203" name=""/>
            <p:cNvSpPr/>
            <p:nvPr/>
          </p:nvSpPr>
          <p:spPr>
            <a:xfrm>
              <a:off x="1352520" y="54936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52520" y="819000"/>
              <a:ext cx="539640" cy="674640"/>
            </a:xfrm>
            <a:custGeom>
              <a:avLst/>
              <a:gdLst/>
              <a:ahLst/>
              <a:rect l="l" t="t" r="r" b="b"/>
              <a:pathLst>
                <a:path w="340" h="425">
                  <a:moveTo>
                    <a:pt x="0" y="0"/>
                  </a:moveTo>
                  <a:lnTo>
                    <a:pt x="340" y="170"/>
                  </a:lnTo>
                  <a:lnTo>
                    <a:pt x="340" y="425"/>
                  </a:lnTo>
                  <a:lnTo>
                    <a:pt x="0" y="25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92160" y="819000"/>
              <a:ext cx="541440" cy="674640"/>
            </a:xfrm>
            <a:custGeom>
              <a:avLst/>
              <a:gdLst/>
              <a:ahLst/>
              <a:rect l="l" t="t" r="r" b="b"/>
              <a:pathLst>
                <a:path w="341" h="425">
                  <a:moveTo>
                    <a:pt x="341" y="0"/>
                  </a:moveTo>
                  <a:lnTo>
                    <a:pt x="341" y="255"/>
                  </a:lnTo>
                  <a:lnTo>
                    <a:pt x="0" y="425"/>
                  </a:lnTo>
                  <a:lnTo>
                    <a:pt x="0" y="170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160880" y="2492280"/>
            <a:ext cx="1620720" cy="944640"/>
            <a:chOff x="4160880" y="2492280"/>
            <a:chExt cx="1620720" cy="944640"/>
          </a:xfrm>
        </p:grpSpPr>
        <p:sp>
          <p:nvSpPr>
            <p:cNvPr id="207" name=""/>
            <p:cNvSpPr/>
            <p:nvPr/>
          </p:nvSpPr>
          <p:spPr>
            <a:xfrm>
              <a:off x="5240160" y="3031920"/>
              <a:ext cx="541080" cy="405000"/>
            </a:xfrm>
            <a:custGeom>
              <a:avLst/>
              <a:gdLst/>
              <a:ahLst/>
              <a:rect l="l" t="t" r="r" b="b"/>
              <a:pathLst>
                <a:path w="341" h="255">
                  <a:moveTo>
                    <a:pt x="0" y="25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85"/>
                  </a:lnTo>
                  <a:lnTo>
                    <a:pt x="0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60880" y="2762280"/>
              <a:ext cx="1079280" cy="674640"/>
            </a:xfrm>
            <a:custGeom>
              <a:avLst/>
              <a:gdLst/>
              <a:ahLst/>
              <a:rect l="l" t="t" r="r" b="b"/>
              <a:pathLst>
                <a:path w="680" h="425">
                  <a:moveTo>
                    <a:pt x="680" y="340"/>
                  </a:moveTo>
                  <a:lnTo>
                    <a:pt x="680" y="425"/>
                  </a:lnTo>
                  <a:lnTo>
                    <a:pt x="0" y="85"/>
                  </a:lnTo>
                  <a:lnTo>
                    <a:pt x="0" y="0"/>
                  </a:lnTo>
                  <a:lnTo>
                    <a:pt x="68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60880" y="2492280"/>
              <a:ext cx="1620720" cy="80964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160880" y="1413000"/>
            <a:ext cx="1620720" cy="1078920"/>
            <a:chOff x="4160880" y="1413000"/>
            <a:chExt cx="1620720" cy="1078920"/>
          </a:xfrm>
        </p:grpSpPr>
        <p:sp>
          <p:nvSpPr>
            <p:cNvPr id="211" name=""/>
            <p:cNvSpPr/>
            <p:nvPr/>
          </p:nvSpPr>
          <p:spPr>
            <a:xfrm>
              <a:off x="4160880" y="1413000"/>
              <a:ext cx="1620720" cy="80928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60880" y="1682640"/>
              <a:ext cx="1079280" cy="80928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510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68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40160" y="1952640"/>
              <a:ext cx="541080" cy="539280"/>
            </a:xfrm>
            <a:custGeom>
              <a:avLst/>
              <a:gdLst/>
              <a:ahLst/>
              <a:rect l="l" t="t" r="r" b="b"/>
              <a:pathLst>
                <a:path w="341" h="340">
                  <a:moveTo>
                    <a:pt x="0" y="34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170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232160" y="333360"/>
            <a:ext cx="1622520" cy="1214280"/>
            <a:chOff x="4232160" y="333360"/>
            <a:chExt cx="1622520" cy="1214280"/>
          </a:xfrm>
        </p:grpSpPr>
        <p:sp>
          <p:nvSpPr>
            <p:cNvPr id="215" name=""/>
            <p:cNvSpPr/>
            <p:nvPr/>
          </p:nvSpPr>
          <p:spPr>
            <a:xfrm>
              <a:off x="5313240" y="873000"/>
              <a:ext cx="541440" cy="674640"/>
            </a:xfrm>
            <a:custGeom>
              <a:avLst/>
              <a:gdLst/>
              <a:ahLst/>
              <a:rect l="l" t="t" r="r" b="b"/>
              <a:pathLst>
                <a:path w="341" h="425">
                  <a:moveTo>
                    <a:pt x="0" y="42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255"/>
                  </a:lnTo>
                  <a:lnTo>
                    <a:pt x="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32160" y="333360"/>
              <a:ext cx="1621080" cy="80964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32160" y="603000"/>
              <a:ext cx="1079640" cy="944640"/>
            </a:xfrm>
            <a:custGeom>
              <a:avLst/>
              <a:gdLst/>
              <a:ahLst/>
              <a:rect l="l" t="t" r="r" b="b"/>
              <a:pathLst>
                <a:path w="680" h="595">
                  <a:moveTo>
                    <a:pt x="680" y="595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680" y="595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649600" y="2421000"/>
            <a:ext cx="1351080" cy="809640"/>
            <a:chOff x="2649600" y="2421000"/>
            <a:chExt cx="1351080" cy="809640"/>
          </a:xfrm>
        </p:grpSpPr>
        <p:sp>
          <p:nvSpPr>
            <p:cNvPr id="219" name=""/>
            <p:cNvSpPr/>
            <p:nvPr/>
          </p:nvSpPr>
          <p:spPr>
            <a:xfrm>
              <a:off x="2649600" y="2421000"/>
              <a:ext cx="1349280" cy="67500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49600" y="2556000"/>
              <a:ext cx="1079640" cy="674640"/>
            </a:xfrm>
            <a:custGeom>
              <a:avLst/>
              <a:gdLst/>
              <a:ahLst/>
              <a:rect l="l" t="t" r="r" b="b"/>
              <a:pathLst>
                <a:path w="680" h="425">
                  <a:moveTo>
                    <a:pt x="0" y="0"/>
                  </a:moveTo>
                  <a:lnTo>
                    <a:pt x="680" y="340"/>
                  </a:lnTo>
                  <a:lnTo>
                    <a:pt x="680" y="425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30680" y="2961000"/>
              <a:ext cx="27000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0" y="170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85"/>
                  </a:lnTo>
                  <a:lnTo>
                    <a:pt x="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649600" y="1628640"/>
            <a:ext cx="1351080" cy="944640"/>
            <a:chOff x="2649600" y="1628640"/>
            <a:chExt cx="1351080" cy="944640"/>
          </a:xfrm>
        </p:grpSpPr>
        <p:sp>
          <p:nvSpPr>
            <p:cNvPr id="223" name=""/>
            <p:cNvSpPr/>
            <p:nvPr/>
          </p:nvSpPr>
          <p:spPr>
            <a:xfrm>
              <a:off x="3730680" y="2168280"/>
              <a:ext cx="270000" cy="405000"/>
            </a:xfrm>
            <a:custGeom>
              <a:avLst/>
              <a:gdLst/>
              <a:ahLst/>
              <a:rect l="l" t="t" r="r" b="b"/>
              <a:pathLst>
                <a:path w="170" h="255">
                  <a:moveTo>
                    <a:pt x="170" y="0"/>
                  </a:moveTo>
                  <a:lnTo>
                    <a:pt x="170" y="170"/>
                  </a:lnTo>
                  <a:lnTo>
                    <a:pt x="0" y="255"/>
                  </a:lnTo>
                  <a:lnTo>
                    <a:pt x="0" y="85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51400" y="1763640"/>
              <a:ext cx="1079280" cy="80964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340"/>
                  </a:moveTo>
                  <a:lnTo>
                    <a:pt x="680" y="510"/>
                  </a:lnTo>
                  <a:lnTo>
                    <a:pt x="0" y="170"/>
                  </a:lnTo>
                  <a:lnTo>
                    <a:pt x="0" y="0"/>
                  </a:lnTo>
                  <a:lnTo>
                    <a:pt x="68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49600" y="1628640"/>
              <a:ext cx="1349640" cy="67464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649600" y="765000"/>
            <a:ext cx="1349280" cy="1079280"/>
            <a:chOff x="2649600" y="765000"/>
            <a:chExt cx="1349280" cy="1079280"/>
          </a:xfrm>
        </p:grpSpPr>
        <p:sp>
          <p:nvSpPr>
            <p:cNvPr id="227" name=""/>
            <p:cNvSpPr/>
            <p:nvPr/>
          </p:nvSpPr>
          <p:spPr>
            <a:xfrm>
              <a:off x="2649600" y="900000"/>
              <a:ext cx="1079280" cy="944280"/>
            </a:xfrm>
            <a:custGeom>
              <a:avLst/>
              <a:gdLst/>
              <a:ahLst/>
              <a:rect l="l" t="t" r="r" b="b"/>
              <a:pathLst>
                <a:path w="680" h="595">
                  <a:moveTo>
                    <a:pt x="680" y="595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680" y="595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28880" y="1304640"/>
              <a:ext cx="269640" cy="539640"/>
            </a:xfrm>
            <a:custGeom>
              <a:avLst/>
              <a:gdLst/>
              <a:ahLst/>
              <a:rect l="l" t="t" r="r" b="b"/>
              <a:pathLst>
                <a:path w="170" h="340">
                  <a:moveTo>
                    <a:pt x="0" y="340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255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49600" y="765000"/>
              <a:ext cx="1349280" cy="67464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248520" y="1052640"/>
            <a:ext cx="539640" cy="1350360"/>
            <a:chOff x="6248520" y="1052640"/>
            <a:chExt cx="539640" cy="1350360"/>
          </a:xfrm>
        </p:grpSpPr>
        <p:sp>
          <p:nvSpPr>
            <p:cNvPr id="231" name=""/>
            <p:cNvSpPr/>
            <p:nvPr/>
          </p:nvSpPr>
          <p:spPr>
            <a:xfrm>
              <a:off x="6248520" y="1188720"/>
              <a:ext cx="269640" cy="121428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18160" y="1188720"/>
              <a:ext cx="270000" cy="121428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0" y="765"/>
                  </a:moveTo>
                  <a:lnTo>
                    <a:pt x="170" y="680"/>
                  </a:lnTo>
                  <a:lnTo>
                    <a:pt x="170" y="0"/>
                  </a:lnTo>
                  <a:lnTo>
                    <a:pt x="0" y="85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48520" y="1052640"/>
              <a:ext cx="539640" cy="271080"/>
            </a:xfrm>
            <a:custGeom>
              <a:avLst/>
              <a:gdLst/>
              <a:ahLst/>
              <a:rect l="l" t="t" r="r" b="b"/>
              <a:pathLst>
                <a:path w="340" h="171">
                  <a:moveTo>
                    <a:pt x="340" y="86"/>
                  </a:moveTo>
                  <a:lnTo>
                    <a:pt x="170" y="0"/>
                  </a:lnTo>
                  <a:lnTo>
                    <a:pt x="0" y="86"/>
                  </a:lnTo>
                  <a:lnTo>
                    <a:pt x="170" y="171"/>
                  </a:lnTo>
                  <a:lnTo>
                    <a:pt x="340" y="86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040520" y="981000"/>
            <a:ext cx="811080" cy="1486080"/>
            <a:chOff x="7040520" y="981000"/>
            <a:chExt cx="811080" cy="1486080"/>
          </a:xfrm>
        </p:grpSpPr>
        <p:sp>
          <p:nvSpPr>
            <p:cNvPr id="235" name=""/>
            <p:cNvSpPr/>
            <p:nvPr/>
          </p:nvSpPr>
          <p:spPr>
            <a:xfrm>
              <a:off x="7040520" y="1252440"/>
              <a:ext cx="269640" cy="121464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40520" y="981000"/>
              <a:ext cx="811080" cy="40644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10160" y="1116000"/>
              <a:ext cx="541080" cy="1351080"/>
            </a:xfrm>
            <a:custGeom>
              <a:avLst/>
              <a:gdLst/>
              <a:ahLst/>
              <a:rect l="l" t="t" r="r" b="b"/>
              <a:pathLst>
                <a:path w="341" h="851">
                  <a:moveTo>
                    <a:pt x="341" y="0"/>
                  </a:moveTo>
                  <a:lnTo>
                    <a:pt x="0" y="171"/>
                  </a:lnTo>
                  <a:lnTo>
                    <a:pt x="0" y="851"/>
                  </a:lnTo>
                  <a:lnTo>
                    <a:pt x="341" y="681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8048520" y="1484280"/>
            <a:ext cx="811440" cy="944280"/>
            <a:chOff x="8048520" y="1484280"/>
            <a:chExt cx="811440" cy="944280"/>
          </a:xfrm>
        </p:grpSpPr>
        <p:sp>
          <p:nvSpPr>
            <p:cNvPr id="239" name=""/>
            <p:cNvSpPr/>
            <p:nvPr/>
          </p:nvSpPr>
          <p:spPr>
            <a:xfrm>
              <a:off x="8318520" y="1618920"/>
              <a:ext cx="541440" cy="809640"/>
            </a:xfrm>
            <a:custGeom>
              <a:avLst/>
              <a:gdLst/>
              <a:ahLst/>
              <a:rect l="l" t="t" r="r" b="b"/>
              <a:pathLst>
                <a:path w="341" h="510">
                  <a:moveTo>
                    <a:pt x="0" y="51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340"/>
                  </a:lnTo>
                  <a:lnTo>
                    <a:pt x="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048520" y="1753920"/>
              <a:ext cx="270000" cy="674640"/>
            </a:xfrm>
            <a:custGeom>
              <a:avLst/>
              <a:gdLst/>
              <a:ahLst/>
              <a:rect l="l" t="t" r="r" b="b"/>
              <a:pathLst>
                <a:path w="170" h="425">
                  <a:moveTo>
                    <a:pt x="170" y="425"/>
                  </a:moveTo>
                  <a:lnTo>
                    <a:pt x="170" y="85"/>
                  </a:lnTo>
                  <a:lnTo>
                    <a:pt x="0" y="0"/>
                  </a:lnTo>
                  <a:lnTo>
                    <a:pt x="0" y="340"/>
                  </a:lnTo>
                  <a:lnTo>
                    <a:pt x="17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48520" y="1484280"/>
              <a:ext cx="811440" cy="4060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321600" y="2781360"/>
            <a:ext cx="274320" cy="687240"/>
            <a:chOff x="6321600" y="2781360"/>
            <a:chExt cx="274320" cy="687240"/>
          </a:xfrm>
        </p:grpSpPr>
        <p:sp>
          <p:nvSpPr>
            <p:cNvPr id="243" name=""/>
            <p:cNvSpPr/>
            <p:nvPr/>
          </p:nvSpPr>
          <p:spPr>
            <a:xfrm>
              <a:off x="6321600" y="2851200"/>
              <a:ext cx="13752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59120" y="2851200"/>
              <a:ext cx="13644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0" y="765"/>
                  </a:moveTo>
                  <a:lnTo>
                    <a:pt x="170" y="680"/>
                  </a:lnTo>
                  <a:lnTo>
                    <a:pt x="170" y="0"/>
                  </a:lnTo>
                  <a:lnTo>
                    <a:pt x="0" y="85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21600" y="2781360"/>
              <a:ext cx="274320" cy="137880"/>
            </a:xfrm>
            <a:custGeom>
              <a:avLst/>
              <a:gdLst/>
              <a:ahLst/>
              <a:rect l="l" t="t" r="r" b="b"/>
              <a:pathLst>
                <a:path w="340" h="171">
                  <a:moveTo>
                    <a:pt x="340" y="86"/>
                  </a:moveTo>
                  <a:lnTo>
                    <a:pt x="170" y="0"/>
                  </a:lnTo>
                  <a:lnTo>
                    <a:pt x="0" y="86"/>
                  </a:lnTo>
                  <a:lnTo>
                    <a:pt x="170" y="171"/>
                  </a:lnTo>
                  <a:lnTo>
                    <a:pt x="340" y="86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824520" y="2708280"/>
            <a:ext cx="412560" cy="755640"/>
            <a:chOff x="6824520" y="2708280"/>
            <a:chExt cx="412560" cy="755640"/>
          </a:xfrm>
        </p:grpSpPr>
        <p:sp>
          <p:nvSpPr>
            <p:cNvPr id="247" name=""/>
            <p:cNvSpPr/>
            <p:nvPr/>
          </p:nvSpPr>
          <p:spPr>
            <a:xfrm>
              <a:off x="6824520" y="2846520"/>
              <a:ext cx="13788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24520" y="2708280"/>
              <a:ext cx="412560" cy="2062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62400" y="2776680"/>
              <a:ext cx="274680" cy="687240"/>
            </a:xfrm>
            <a:custGeom>
              <a:avLst/>
              <a:gdLst/>
              <a:ahLst/>
              <a:rect l="l" t="t" r="r" b="b"/>
              <a:pathLst>
                <a:path w="341" h="851">
                  <a:moveTo>
                    <a:pt x="341" y="0"/>
                  </a:moveTo>
                  <a:lnTo>
                    <a:pt x="0" y="171"/>
                  </a:lnTo>
                  <a:lnTo>
                    <a:pt x="0" y="851"/>
                  </a:lnTo>
                  <a:lnTo>
                    <a:pt x="341" y="681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473960" y="2924280"/>
            <a:ext cx="412560" cy="480960"/>
            <a:chOff x="7473960" y="2924280"/>
            <a:chExt cx="412560" cy="480960"/>
          </a:xfrm>
        </p:grpSpPr>
        <p:sp>
          <p:nvSpPr>
            <p:cNvPr id="251" name=""/>
            <p:cNvSpPr/>
            <p:nvPr/>
          </p:nvSpPr>
          <p:spPr>
            <a:xfrm>
              <a:off x="7610400" y="2994120"/>
              <a:ext cx="276120" cy="411120"/>
            </a:xfrm>
            <a:custGeom>
              <a:avLst/>
              <a:gdLst/>
              <a:ahLst/>
              <a:rect l="l" t="t" r="r" b="b"/>
              <a:pathLst>
                <a:path w="341" h="510">
                  <a:moveTo>
                    <a:pt x="0" y="51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340"/>
                  </a:lnTo>
                  <a:lnTo>
                    <a:pt x="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73960" y="3062520"/>
              <a:ext cx="136440" cy="342720"/>
            </a:xfrm>
            <a:custGeom>
              <a:avLst/>
              <a:gdLst/>
              <a:ahLst/>
              <a:rect l="l" t="t" r="r" b="b"/>
              <a:pathLst>
                <a:path w="170" h="425">
                  <a:moveTo>
                    <a:pt x="170" y="425"/>
                  </a:moveTo>
                  <a:lnTo>
                    <a:pt x="170" y="85"/>
                  </a:lnTo>
                  <a:lnTo>
                    <a:pt x="0" y="0"/>
                  </a:lnTo>
                  <a:lnTo>
                    <a:pt x="0" y="340"/>
                  </a:lnTo>
                  <a:lnTo>
                    <a:pt x="17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73960" y="2924280"/>
              <a:ext cx="412560" cy="2080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88880" y="5661000"/>
            <a:ext cx="809640" cy="539640"/>
            <a:chOff x="488880" y="5661000"/>
            <a:chExt cx="809640" cy="539640"/>
          </a:xfrm>
        </p:grpSpPr>
        <p:sp>
          <p:nvSpPr>
            <p:cNvPr id="255" name=""/>
            <p:cNvSpPr/>
            <p:nvPr/>
          </p:nvSpPr>
          <p:spPr>
            <a:xfrm>
              <a:off x="1028520" y="5930640"/>
              <a:ext cx="270000" cy="27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0" y="340"/>
                  </a:moveTo>
                  <a:lnTo>
                    <a:pt x="0" y="170"/>
                  </a:lnTo>
                  <a:lnTo>
                    <a:pt x="340" y="0"/>
                  </a:lnTo>
                  <a:lnTo>
                    <a:pt x="340" y="170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8880" y="5795640"/>
              <a:ext cx="539640" cy="40500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51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680" y="340"/>
                  </a:lnTo>
                  <a:lnTo>
                    <a:pt x="68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8880" y="5661000"/>
              <a:ext cx="809640" cy="40464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88880" y="4940280"/>
            <a:ext cx="811080" cy="676440"/>
            <a:chOff x="488880" y="4940280"/>
            <a:chExt cx="811080" cy="676440"/>
          </a:xfrm>
        </p:grpSpPr>
        <p:sp>
          <p:nvSpPr>
            <p:cNvPr id="259" name=""/>
            <p:cNvSpPr/>
            <p:nvPr/>
          </p:nvSpPr>
          <p:spPr>
            <a:xfrm>
              <a:off x="1030320" y="5211720"/>
              <a:ext cx="269640" cy="405000"/>
            </a:xfrm>
            <a:custGeom>
              <a:avLst/>
              <a:gdLst/>
              <a:ahLst/>
              <a:rect l="l" t="t" r="r" b="b"/>
              <a:pathLst>
                <a:path w="170" h="255">
                  <a:moveTo>
                    <a:pt x="0" y="255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170"/>
                  </a:lnTo>
                  <a:lnTo>
                    <a:pt x="0" y="255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0320" y="5076720"/>
              <a:ext cx="54000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34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340" y="170"/>
                  </a:lnTo>
                  <a:lnTo>
                    <a:pt x="34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8880" y="4940280"/>
              <a:ext cx="809640" cy="40500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88880" y="4076640"/>
            <a:ext cx="809640" cy="809640"/>
            <a:chOff x="488880" y="4076640"/>
            <a:chExt cx="809640" cy="809640"/>
          </a:xfrm>
        </p:grpSpPr>
        <p:sp>
          <p:nvSpPr>
            <p:cNvPr id="263" name=""/>
            <p:cNvSpPr/>
            <p:nvPr/>
          </p:nvSpPr>
          <p:spPr>
            <a:xfrm>
              <a:off x="488880" y="4076640"/>
              <a:ext cx="809640" cy="40500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8880" y="4211640"/>
              <a:ext cx="539640" cy="674640"/>
            </a:xfrm>
            <a:custGeom>
              <a:avLst/>
              <a:gdLst/>
              <a:ahLst/>
              <a:rect l="l" t="t" r="r" b="b"/>
              <a:pathLst>
                <a:path w="340" h="425">
                  <a:moveTo>
                    <a:pt x="340" y="425"/>
                  </a:moveTo>
                  <a:lnTo>
                    <a:pt x="340" y="17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34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28520" y="4346640"/>
              <a:ext cx="270000" cy="539640"/>
            </a:xfrm>
            <a:custGeom>
              <a:avLst/>
              <a:gdLst/>
              <a:ahLst/>
              <a:rect l="l" t="t" r="r" b="b"/>
              <a:pathLst>
                <a:path w="170" h="340">
                  <a:moveTo>
                    <a:pt x="0" y="85"/>
                  </a:moveTo>
                  <a:lnTo>
                    <a:pt x="170" y="0"/>
                  </a:lnTo>
                  <a:lnTo>
                    <a:pt x="170" y="255"/>
                  </a:lnTo>
                  <a:lnTo>
                    <a:pt x="0" y="340"/>
                  </a:lnTo>
                  <a:lnTo>
                    <a:pt x="0" y="85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25600" y="5516640"/>
            <a:ext cx="1081080" cy="674640"/>
            <a:chOff x="1425600" y="5516640"/>
            <a:chExt cx="1081080" cy="674640"/>
          </a:xfrm>
        </p:grpSpPr>
        <p:sp>
          <p:nvSpPr>
            <p:cNvPr id="267" name=""/>
            <p:cNvSpPr/>
            <p:nvPr/>
          </p:nvSpPr>
          <p:spPr>
            <a:xfrm>
              <a:off x="1965240" y="5786280"/>
              <a:ext cx="541440" cy="405000"/>
            </a:xfrm>
            <a:custGeom>
              <a:avLst/>
              <a:gdLst/>
              <a:ahLst/>
              <a:rect l="l" t="t" r="r" b="b"/>
              <a:pathLst>
                <a:path w="341" h="255">
                  <a:moveTo>
                    <a:pt x="0" y="25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85"/>
                  </a:lnTo>
                  <a:lnTo>
                    <a:pt x="0" y="255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25600" y="5786280"/>
              <a:ext cx="539640" cy="405000"/>
            </a:xfrm>
            <a:custGeom>
              <a:avLst/>
              <a:gdLst/>
              <a:ahLst/>
              <a:rect l="l" t="t" r="r" b="b"/>
              <a:pathLst>
                <a:path w="340" h="255">
                  <a:moveTo>
                    <a:pt x="340" y="170"/>
                  </a:moveTo>
                  <a:lnTo>
                    <a:pt x="340" y="255"/>
                  </a:lnTo>
                  <a:lnTo>
                    <a:pt x="0" y="85"/>
                  </a:lnTo>
                  <a:lnTo>
                    <a:pt x="0" y="0"/>
                  </a:lnTo>
                  <a:lnTo>
                    <a:pt x="34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25600" y="551664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425600" y="4653000"/>
            <a:ext cx="1081080" cy="809640"/>
            <a:chOff x="1425600" y="4653000"/>
            <a:chExt cx="1081080" cy="809640"/>
          </a:xfrm>
        </p:grpSpPr>
        <p:sp>
          <p:nvSpPr>
            <p:cNvPr id="271" name=""/>
            <p:cNvSpPr/>
            <p:nvPr/>
          </p:nvSpPr>
          <p:spPr>
            <a:xfrm>
              <a:off x="1425600" y="465300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65240" y="4923000"/>
              <a:ext cx="541440" cy="539640"/>
            </a:xfrm>
            <a:custGeom>
              <a:avLst/>
              <a:gdLst/>
              <a:ahLst/>
              <a:rect l="l" t="t" r="r" b="b"/>
              <a:pathLst>
                <a:path w="341" h="340">
                  <a:moveTo>
                    <a:pt x="0" y="170"/>
                  </a:moveTo>
                  <a:lnTo>
                    <a:pt x="341" y="0"/>
                  </a:lnTo>
                  <a:lnTo>
                    <a:pt x="341" y="170"/>
                  </a:lnTo>
                  <a:lnTo>
                    <a:pt x="0" y="340"/>
                  </a:lnTo>
                  <a:lnTo>
                    <a:pt x="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25600" y="492300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34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340" y="170"/>
                  </a:lnTo>
                  <a:lnTo>
                    <a:pt x="34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425600" y="3573360"/>
            <a:ext cx="1081080" cy="944280"/>
            <a:chOff x="1425600" y="3573360"/>
            <a:chExt cx="1081080" cy="944280"/>
          </a:xfrm>
        </p:grpSpPr>
        <p:sp>
          <p:nvSpPr>
            <p:cNvPr id="275" name=""/>
            <p:cNvSpPr/>
            <p:nvPr/>
          </p:nvSpPr>
          <p:spPr>
            <a:xfrm>
              <a:off x="1425600" y="357336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25600" y="3843000"/>
              <a:ext cx="539640" cy="674640"/>
            </a:xfrm>
            <a:custGeom>
              <a:avLst/>
              <a:gdLst/>
              <a:ahLst/>
              <a:rect l="l" t="t" r="r" b="b"/>
              <a:pathLst>
                <a:path w="340" h="425">
                  <a:moveTo>
                    <a:pt x="0" y="0"/>
                  </a:moveTo>
                  <a:lnTo>
                    <a:pt x="340" y="170"/>
                  </a:lnTo>
                  <a:lnTo>
                    <a:pt x="340" y="425"/>
                  </a:lnTo>
                  <a:lnTo>
                    <a:pt x="0" y="25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65240" y="3843000"/>
              <a:ext cx="541440" cy="674640"/>
            </a:xfrm>
            <a:custGeom>
              <a:avLst/>
              <a:gdLst/>
              <a:ahLst/>
              <a:rect l="l" t="t" r="r" b="b"/>
              <a:pathLst>
                <a:path w="341" h="425">
                  <a:moveTo>
                    <a:pt x="341" y="0"/>
                  </a:moveTo>
                  <a:lnTo>
                    <a:pt x="341" y="255"/>
                  </a:lnTo>
                  <a:lnTo>
                    <a:pt x="0" y="425"/>
                  </a:lnTo>
                  <a:lnTo>
                    <a:pt x="0" y="170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233960" y="5516640"/>
            <a:ext cx="1620720" cy="944640"/>
            <a:chOff x="4233960" y="5516640"/>
            <a:chExt cx="1620720" cy="944640"/>
          </a:xfrm>
        </p:grpSpPr>
        <p:sp>
          <p:nvSpPr>
            <p:cNvPr id="279" name=""/>
            <p:cNvSpPr/>
            <p:nvPr/>
          </p:nvSpPr>
          <p:spPr>
            <a:xfrm>
              <a:off x="5313240" y="6056280"/>
              <a:ext cx="541080" cy="405000"/>
            </a:xfrm>
            <a:custGeom>
              <a:avLst/>
              <a:gdLst/>
              <a:ahLst/>
              <a:rect l="l" t="t" r="r" b="b"/>
              <a:pathLst>
                <a:path w="341" h="255">
                  <a:moveTo>
                    <a:pt x="0" y="25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85"/>
                  </a:lnTo>
                  <a:lnTo>
                    <a:pt x="0" y="255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33960" y="5786640"/>
              <a:ext cx="1079280" cy="674640"/>
            </a:xfrm>
            <a:custGeom>
              <a:avLst/>
              <a:gdLst/>
              <a:ahLst/>
              <a:rect l="l" t="t" r="r" b="b"/>
              <a:pathLst>
                <a:path w="680" h="425">
                  <a:moveTo>
                    <a:pt x="680" y="340"/>
                  </a:moveTo>
                  <a:lnTo>
                    <a:pt x="680" y="425"/>
                  </a:lnTo>
                  <a:lnTo>
                    <a:pt x="0" y="85"/>
                  </a:lnTo>
                  <a:lnTo>
                    <a:pt x="0" y="0"/>
                  </a:lnTo>
                  <a:lnTo>
                    <a:pt x="68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33960" y="5516640"/>
              <a:ext cx="1620720" cy="80964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233960" y="4437000"/>
            <a:ext cx="1620720" cy="1079640"/>
            <a:chOff x="4233960" y="4437000"/>
            <a:chExt cx="1620720" cy="1079640"/>
          </a:xfrm>
        </p:grpSpPr>
        <p:sp>
          <p:nvSpPr>
            <p:cNvPr id="283" name=""/>
            <p:cNvSpPr/>
            <p:nvPr/>
          </p:nvSpPr>
          <p:spPr>
            <a:xfrm>
              <a:off x="4233960" y="4437000"/>
              <a:ext cx="1620720" cy="80964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33960" y="4707000"/>
              <a:ext cx="1079280" cy="80964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510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68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13240" y="4977000"/>
              <a:ext cx="541080" cy="539640"/>
            </a:xfrm>
            <a:custGeom>
              <a:avLst/>
              <a:gdLst/>
              <a:ahLst/>
              <a:rect l="l" t="t" r="r" b="b"/>
              <a:pathLst>
                <a:path w="341" h="340">
                  <a:moveTo>
                    <a:pt x="0" y="34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170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305240" y="3357720"/>
            <a:ext cx="1622520" cy="1214280"/>
            <a:chOff x="4305240" y="3357720"/>
            <a:chExt cx="1622520" cy="1214280"/>
          </a:xfrm>
        </p:grpSpPr>
        <p:sp>
          <p:nvSpPr>
            <p:cNvPr id="287" name=""/>
            <p:cNvSpPr/>
            <p:nvPr/>
          </p:nvSpPr>
          <p:spPr>
            <a:xfrm>
              <a:off x="5386320" y="3897360"/>
              <a:ext cx="541440" cy="674640"/>
            </a:xfrm>
            <a:custGeom>
              <a:avLst/>
              <a:gdLst/>
              <a:ahLst/>
              <a:rect l="l" t="t" r="r" b="b"/>
              <a:pathLst>
                <a:path w="341" h="425">
                  <a:moveTo>
                    <a:pt x="0" y="42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255"/>
                  </a:lnTo>
                  <a:lnTo>
                    <a:pt x="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05240" y="3357720"/>
              <a:ext cx="1621080" cy="80964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05240" y="3627360"/>
              <a:ext cx="1079640" cy="944640"/>
            </a:xfrm>
            <a:custGeom>
              <a:avLst/>
              <a:gdLst/>
              <a:ahLst/>
              <a:rect l="l" t="t" r="r" b="b"/>
              <a:pathLst>
                <a:path w="680" h="595">
                  <a:moveTo>
                    <a:pt x="680" y="595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680" y="595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722680" y="5445000"/>
            <a:ext cx="1350360" cy="809640"/>
            <a:chOff x="2722680" y="5445000"/>
            <a:chExt cx="1350360" cy="809640"/>
          </a:xfrm>
        </p:grpSpPr>
        <p:sp>
          <p:nvSpPr>
            <p:cNvPr id="291" name=""/>
            <p:cNvSpPr/>
            <p:nvPr/>
          </p:nvSpPr>
          <p:spPr>
            <a:xfrm>
              <a:off x="2722680" y="5445000"/>
              <a:ext cx="1348920" cy="67500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22680" y="5580000"/>
              <a:ext cx="1079280" cy="674640"/>
            </a:xfrm>
            <a:custGeom>
              <a:avLst/>
              <a:gdLst/>
              <a:ahLst/>
              <a:rect l="l" t="t" r="r" b="b"/>
              <a:pathLst>
                <a:path w="680" h="425">
                  <a:moveTo>
                    <a:pt x="0" y="0"/>
                  </a:moveTo>
                  <a:lnTo>
                    <a:pt x="680" y="340"/>
                  </a:lnTo>
                  <a:lnTo>
                    <a:pt x="680" y="425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03400" y="5985000"/>
              <a:ext cx="26964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0" y="170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85"/>
                  </a:lnTo>
                  <a:lnTo>
                    <a:pt x="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722680" y="4653000"/>
            <a:ext cx="1350360" cy="944640"/>
            <a:chOff x="2722680" y="4653000"/>
            <a:chExt cx="1350360" cy="944640"/>
          </a:xfrm>
        </p:grpSpPr>
        <p:sp>
          <p:nvSpPr>
            <p:cNvPr id="295" name=""/>
            <p:cNvSpPr/>
            <p:nvPr/>
          </p:nvSpPr>
          <p:spPr>
            <a:xfrm>
              <a:off x="3803400" y="5192640"/>
              <a:ext cx="269640" cy="405000"/>
            </a:xfrm>
            <a:custGeom>
              <a:avLst/>
              <a:gdLst/>
              <a:ahLst/>
              <a:rect l="l" t="t" r="r" b="b"/>
              <a:pathLst>
                <a:path w="170" h="255">
                  <a:moveTo>
                    <a:pt x="170" y="0"/>
                  </a:moveTo>
                  <a:lnTo>
                    <a:pt x="170" y="170"/>
                  </a:lnTo>
                  <a:lnTo>
                    <a:pt x="0" y="255"/>
                  </a:lnTo>
                  <a:lnTo>
                    <a:pt x="0" y="85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24120" y="4788000"/>
              <a:ext cx="1078920" cy="80964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340"/>
                  </a:moveTo>
                  <a:lnTo>
                    <a:pt x="680" y="510"/>
                  </a:lnTo>
                  <a:lnTo>
                    <a:pt x="0" y="170"/>
                  </a:lnTo>
                  <a:lnTo>
                    <a:pt x="0" y="0"/>
                  </a:lnTo>
                  <a:lnTo>
                    <a:pt x="68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22680" y="4653000"/>
              <a:ext cx="1349280" cy="67464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722680" y="3789360"/>
            <a:ext cx="1349280" cy="1079280"/>
            <a:chOff x="2722680" y="3789360"/>
            <a:chExt cx="1349280" cy="1079280"/>
          </a:xfrm>
        </p:grpSpPr>
        <p:sp>
          <p:nvSpPr>
            <p:cNvPr id="299" name=""/>
            <p:cNvSpPr/>
            <p:nvPr/>
          </p:nvSpPr>
          <p:spPr>
            <a:xfrm>
              <a:off x="2722680" y="3924360"/>
              <a:ext cx="1079280" cy="944280"/>
            </a:xfrm>
            <a:custGeom>
              <a:avLst/>
              <a:gdLst/>
              <a:ahLst/>
              <a:rect l="l" t="t" r="r" b="b"/>
              <a:pathLst>
                <a:path w="680" h="595">
                  <a:moveTo>
                    <a:pt x="680" y="595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680" y="595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1960" y="4329000"/>
              <a:ext cx="269640" cy="539640"/>
            </a:xfrm>
            <a:custGeom>
              <a:avLst/>
              <a:gdLst/>
              <a:ahLst/>
              <a:rect l="l" t="t" r="r" b="b"/>
              <a:pathLst>
                <a:path w="170" h="340">
                  <a:moveTo>
                    <a:pt x="0" y="340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255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22680" y="3789360"/>
              <a:ext cx="1349280" cy="67464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321600" y="4076640"/>
            <a:ext cx="539640" cy="1351080"/>
            <a:chOff x="6321600" y="4076640"/>
            <a:chExt cx="539640" cy="1351080"/>
          </a:xfrm>
        </p:grpSpPr>
        <p:sp>
          <p:nvSpPr>
            <p:cNvPr id="303" name=""/>
            <p:cNvSpPr/>
            <p:nvPr/>
          </p:nvSpPr>
          <p:spPr>
            <a:xfrm>
              <a:off x="6321600" y="4213080"/>
              <a:ext cx="269640" cy="121464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91240" y="4213080"/>
              <a:ext cx="270000" cy="121464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0" y="765"/>
                  </a:moveTo>
                  <a:lnTo>
                    <a:pt x="170" y="680"/>
                  </a:lnTo>
                  <a:lnTo>
                    <a:pt x="170" y="0"/>
                  </a:lnTo>
                  <a:lnTo>
                    <a:pt x="0" y="85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21600" y="4076640"/>
              <a:ext cx="539640" cy="271440"/>
            </a:xfrm>
            <a:custGeom>
              <a:avLst/>
              <a:gdLst/>
              <a:ahLst/>
              <a:rect l="l" t="t" r="r" b="b"/>
              <a:pathLst>
                <a:path w="340" h="171">
                  <a:moveTo>
                    <a:pt x="340" y="86"/>
                  </a:moveTo>
                  <a:lnTo>
                    <a:pt x="170" y="0"/>
                  </a:lnTo>
                  <a:lnTo>
                    <a:pt x="0" y="86"/>
                  </a:lnTo>
                  <a:lnTo>
                    <a:pt x="170" y="171"/>
                  </a:lnTo>
                  <a:lnTo>
                    <a:pt x="340" y="86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113600" y="4005360"/>
            <a:ext cx="811080" cy="1485360"/>
            <a:chOff x="7113600" y="4005360"/>
            <a:chExt cx="811080" cy="1485360"/>
          </a:xfrm>
        </p:grpSpPr>
        <p:sp>
          <p:nvSpPr>
            <p:cNvPr id="307" name=""/>
            <p:cNvSpPr/>
            <p:nvPr/>
          </p:nvSpPr>
          <p:spPr>
            <a:xfrm>
              <a:off x="7113600" y="4276440"/>
              <a:ext cx="269640" cy="121428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13600" y="4005360"/>
              <a:ext cx="811080" cy="4060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83240" y="4140000"/>
              <a:ext cx="541080" cy="1350720"/>
            </a:xfrm>
            <a:custGeom>
              <a:avLst/>
              <a:gdLst/>
              <a:ahLst/>
              <a:rect l="l" t="t" r="r" b="b"/>
              <a:pathLst>
                <a:path w="341" h="851">
                  <a:moveTo>
                    <a:pt x="341" y="0"/>
                  </a:moveTo>
                  <a:lnTo>
                    <a:pt x="0" y="171"/>
                  </a:lnTo>
                  <a:lnTo>
                    <a:pt x="0" y="851"/>
                  </a:lnTo>
                  <a:lnTo>
                    <a:pt x="341" y="681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8121600" y="4508640"/>
            <a:ext cx="811440" cy="944280"/>
            <a:chOff x="8121600" y="4508640"/>
            <a:chExt cx="811440" cy="944280"/>
          </a:xfrm>
        </p:grpSpPr>
        <p:sp>
          <p:nvSpPr>
            <p:cNvPr id="311" name=""/>
            <p:cNvSpPr/>
            <p:nvPr/>
          </p:nvSpPr>
          <p:spPr>
            <a:xfrm>
              <a:off x="8391600" y="4643280"/>
              <a:ext cx="541440" cy="809640"/>
            </a:xfrm>
            <a:custGeom>
              <a:avLst/>
              <a:gdLst/>
              <a:ahLst/>
              <a:rect l="l" t="t" r="r" b="b"/>
              <a:pathLst>
                <a:path w="341" h="510">
                  <a:moveTo>
                    <a:pt x="0" y="51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340"/>
                  </a:lnTo>
                  <a:lnTo>
                    <a:pt x="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121600" y="4778280"/>
              <a:ext cx="270000" cy="674640"/>
            </a:xfrm>
            <a:custGeom>
              <a:avLst/>
              <a:gdLst/>
              <a:ahLst/>
              <a:rect l="l" t="t" r="r" b="b"/>
              <a:pathLst>
                <a:path w="170" h="425">
                  <a:moveTo>
                    <a:pt x="170" y="425"/>
                  </a:moveTo>
                  <a:lnTo>
                    <a:pt x="170" y="85"/>
                  </a:lnTo>
                  <a:lnTo>
                    <a:pt x="0" y="0"/>
                  </a:lnTo>
                  <a:lnTo>
                    <a:pt x="0" y="340"/>
                  </a:lnTo>
                  <a:lnTo>
                    <a:pt x="17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21600" y="4508640"/>
              <a:ext cx="811440" cy="4060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394320" y="5805360"/>
            <a:ext cx="274680" cy="687240"/>
            <a:chOff x="6394320" y="5805360"/>
            <a:chExt cx="274680" cy="687240"/>
          </a:xfrm>
        </p:grpSpPr>
        <p:sp>
          <p:nvSpPr>
            <p:cNvPr id="315" name=""/>
            <p:cNvSpPr/>
            <p:nvPr/>
          </p:nvSpPr>
          <p:spPr>
            <a:xfrm>
              <a:off x="6394320" y="5875200"/>
              <a:ext cx="13788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32200" y="5875200"/>
              <a:ext cx="13680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0" y="765"/>
                  </a:moveTo>
                  <a:lnTo>
                    <a:pt x="170" y="680"/>
                  </a:lnTo>
                  <a:lnTo>
                    <a:pt x="170" y="0"/>
                  </a:lnTo>
                  <a:lnTo>
                    <a:pt x="0" y="85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94320" y="5805360"/>
              <a:ext cx="274680" cy="137880"/>
            </a:xfrm>
            <a:custGeom>
              <a:avLst/>
              <a:gdLst/>
              <a:ahLst/>
              <a:rect l="l" t="t" r="r" b="b"/>
              <a:pathLst>
                <a:path w="340" h="171">
                  <a:moveTo>
                    <a:pt x="340" y="86"/>
                  </a:moveTo>
                  <a:lnTo>
                    <a:pt x="170" y="0"/>
                  </a:lnTo>
                  <a:lnTo>
                    <a:pt x="0" y="86"/>
                  </a:lnTo>
                  <a:lnTo>
                    <a:pt x="170" y="171"/>
                  </a:lnTo>
                  <a:lnTo>
                    <a:pt x="340" y="86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897600" y="5732640"/>
            <a:ext cx="412560" cy="755640"/>
            <a:chOff x="6897600" y="5732640"/>
            <a:chExt cx="412560" cy="755640"/>
          </a:xfrm>
        </p:grpSpPr>
        <p:sp>
          <p:nvSpPr>
            <p:cNvPr id="319" name=""/>
            <p:cNvSpPr/>
            <p:nvPr/>
          </p:nvSpPr>
          <p:spPr>
            <a:xfrm>
              <a:off x="6897600" y="5870880"/>
              <a:ext cx="13788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97600" y="5732640"/>
              <a:ext cx="412560" cy="2062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35480" y="5801040"/>
              <a:ext cx="274680" cy="687240"/>
            </a:xfrm>
            <a:custGeom>
              <a:avLst/>
              <a:gdLst/>
              <a:ahLst/>
              <a:rect l="l" t="t" r="r" b="b"/>
              <a:pathLst>
                <a:path w="341" h="851">
                  <a:moveTo>
                    <a:pt x="341" y="0"/>
                  </a:moveTo>
                  <a:lnTo>
                    <a:pt x="0" y="171"/>
                  </a:lnTo>
                  <a:lnTo>
                    <a:pt x="0" y="851"/>
                  </a:lnTo>
                  <a:lnTo>
                    <a:pt x="341" y="681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7547040" y="5948280"/>
            <a:ext cx="412560" cy="480960"/>
            <a:chOff x="7547040" y="5948280"/>
            <a:chExt cx="412560" cy="480960"/>
          </a:xfrm>
        </p:grpSpPr>
        <p:sp>
          <p:nvSpPr>
            <p:cNvPr id="323" name=""/>
            <p:cNvSpPr/>
            <p:nvPr/>
          </p:nvSpPr>
          <p:spPr>
            <a:xfrm>
              <a:off x="7683480" y="6018120"/>
              <a:ext cx="276120" cy="411120"/>
            </a:xfrm>
            <a:custGeom>
              <a:avLst/>
              <a:gdLst/>
              <a:ahLst/>
              <a:rect l="l" t="t" r="r" b="b"/>
              <a:pathLst>
                <a:path w="341" h="510">
                  <a:moveTo>
                    <a:pt x="0" y="51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340"/>
                  </a:lnTo>
                  <a:lnTo>
                    <a:pt x="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47040" y="6086520"/>
              <a:ext cx="136440" cy="342720"/>
            </a:xfrm>
            <a:custGeom>
              <a:avLst/>
              <a:gdLst/>
              <a:ahLst/>
              <a:rect l="l" t="t" r="r" b="b"/>
              <a:pathLst>
                <a:path w="170" h="425">
                  <a:moveTo>
                    <a:pt x="170" y="425"/>
                  </a:moveTo>
                  <a:lnTo>
                    <a:pt x="170" y="85"/>
                  </a:lnTo>
                  <a:lnTo>
                    <a:pt x="0" y="0"/>
                  </a:lnTo>
                  <a:lnTo>
                    <a:pt x="0" y="340"/>
                  </a:lnTo>
                  <a:lnTo>
                    <a:pt x="17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47040" y="5948280"/>
              <a:ext cx="412560" cy="2080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353880" y="2662200"/>
            <a:ext cx="809640" cy="539640"/>
            <a:chOff x="353880" y="2662200"/>
            <a:chExt cx="809640" cy="539640"/>
          </a:xfrm>
        </p:grpSpPr>
        <p:sp>
          <p:nvSpPr>
            <p:cNvPr id="327" name=""/>
            <p:cNvSpPr/>
            <p:nvPr/>
          </p:nvSpPr>
          <p:spPr>
            <a:xfrm>
              <a:off x="893520" y="2931840"/>
              <a:ext cx="270000" cy="27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0" y="340"/>
                  </a:moveTo>
                  <a:lnTo>
                    <a:pt x="0" y="170"/>
                  </a:lnTo>
                  <a:lnTo>
                    <a:pt x="340" y="0"/>
                  </a:lnTo>
                  <a:lnTo>
                    <a:pt x="340" y="170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3880" y="2796840"/>
              <a:ext cx="539640" cy="40500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51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680" y="340"/>
                  </a:lnTo>
                  <a:lnTo>
                    <a:pt x="68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3880" y="2662200"/>
              <a:ext cx="809640" cy="40464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07800" y="1940040"/>
            <a:ext cx="811080" cy="675720"/>
            <a:chOff x="307800" y="1940040"/>
            <a:chExt cx="811080" cy="675720"/>
          </a:xfrm>
        </p:grpSpPr>
        <p:sp>
          <p:nvSpPr>
            <p:cNvPr id="331" name=""/>
            <p:cNvSpPr/>
            <p:nvPr/>
          </p:nvSpPr>
          <p:spPr>
            <a:xfrm>
              <a:off x="849240" y="2211120"/>
              <a:ext cx="269640" cy="404640"/>
            </a:xfrm>
            <a:custGeom>
              <a:avLst/>
              <a:gdLst/>
              <a:ahLst/>
              <a:rect l="l" t="t" r="r" b="b"/>
              <a:pathLst>
                <a:path w="170" h="255">
                  <a:moveTo>
                    <a:pt x="0" y="255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170"/>
                  </a:lnTo>
                  <a:lnTo>
                    <a:pt x="0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09240" y="207612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34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340" y="170"/>
                  </a:lnTo>
                  <a:lnTo>
                    <a:pt x="34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7800" y="1940040"/>
              <a:ext cx="809640" cy="40464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07800" y="1130400"/>
            <a:ext cx="809640" cy="809640"/>
            <a:chOff x="307800" y="1130400"/>
            <a:chExt cx="809640" cy="809640"/>
          </a:xfrm>
        </p:grpSpPr>
        <p:sp>
          <p:nvSpPr>
            <p:cNvPr id="335" name=""/>
            <p:cNvSpPr/>
            <p:nvPr/>
          </p:nvSpPr>
          <p:spPr>
            <a:xfrm>
              <a:off x="307800" y="1130400"/>
              <a:ext cx="809640" cy="40500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7800" y="1265400"/>
              <a:ext cx="539640" cy="674640"/>
            </a:xfrm>
            <a:custGeom>
              <a:avLst/>
              <a:gdLst/>
              <a:ahLst/>
              <a:rect l="l" t="t" r="r" b="b"/>
              <a:pathLst>
                <a:path w="340" h="425">
                  <a:moveTo>
                    <a:pt x="340" y="425"/>
                  </a:moveTo>
                  <a:lnTo>
                    <a:pt x="340" y="17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34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7440" y="1400400"/>
              <a:ext cx="270000" cy="539640"/>
            </a:xfrm>
            <a:custGeom>
              <a:avLst/>
              <a:gdLst/>
              <a:ahLst/>
              <a:rect l="l" t="t" r="r" b="b"/>
              <a:pathLst>
                <a:path w="170" h="340">
                  <a:moveTo>
                    <a:pt x="0" y="85"/>
                  </a:moveTo>
                  <a:lnTo>
                    <a:pt x="170" y="0"/>
                  </a:lnTo>
                  <a:lnTo>
                    <a:pt x="170" y="255"/>
                  </a:lnTo>
                  <a:lnTo>
                    <a:pt x="0" y="340"/>
                  </a:lnTo>
                  <a:lnTo>
                    <a:pt x="0" y="85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343160" y="2527200"/>
            <a:ext cx="1081080" cy="674640"/>
            <a:chOff x="1343160" y="2527200"/>
            <a:chExt cx="1081080" cy="674640"/>
          </a:xfrm>
        </p:grpSpPr>
        <p:sp>
          <p:nvSpPr>
            <p:cNvPr id="339" name=""/>
            <p:cNvSpPr/>
            <p:nvPr/>
          </p:nvSpPr>
          <p:spPr>
            <a:xfrm>
              <a:off x="1882800" y="2796840"/>
              <a:ext cx="541440" cy="405000"/>
            </a:xfrm>
            <a:custGeom>
              <a:avLst/>
              <a:gdLst/>
              <a:ahLst/>
              <a:rect l="l" t="t" r="r" b="b"/>
              <a:pathLst>
                <a:path w="341" h="255">
                  <a:moveTo>
                    <a:pt x="0" y="25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85"/>
                  </a:lnTo>
                  <a:lnTo>
                    <a:pt x="0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43160" y="2796840"/>
              <a:ext cx="539640" cy="405000"/>
            </a:xfrm>
            <a:custGeom>
              <a:avLst/>
              <a:gdLst/>
              <a:ahLst/>
              <a:rect l="l" t="t" r="r" b="b"/>
              <a:pathLst>
                <a:path w="340" h="255">
                  <a:moveTo>
                    <a:pt x="340" y="170"/>
                  </a:moveTo>
                  <a:lnTo>
                    <a:pt x="340" y="255"/>
                  </a:lnTo>
                  <a:lnTo>
                    <a:pt x="0" y="85"/>
                  </a:lnTo>
                  <a:lnTo>
                    <a:pt x="0" y="0"/>
                  </a:lnTo>
                  <a:lnTo>
                    <a:pt x="34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43160" y="252720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343160" y="1671480"/>
            <a:ext cx="1081080" cy="809640"/>
            <a:chOff x="1343160" y="1671480"/>
            <a:chExt cx="1081080" cy="809640"/>
          </a:xfrm>
        </p:grpSpPr>
        <p:sp>
          <p:nvSpPr>
            <p:cNvPr id="343" name=""/>
            <p:cNvSpPr/>
            <p:nvPr/>
          </p:nvSpPr>
          <p:spPr>
            <a:xfrm>
              <a:off x="1343160" y="167148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882800" y="1941480"/>
              <a:ext cx="541440" cy="539640"/>
            </a:xfrm>
            <a:custGeom>
              <a:avLst/>
              <a:gdLst/>
              <a:ahLst/>
              <a:rect l="l" t="t" r="r" b="b"/>
              <a:pathLst>
                <a:path w="341" h="340">
                  <a:moveTo>
                    <a:pt x="0" y="170"/>
                  </a:moveTo>
                  <a:lnTo>
                    <a:pt x="341" y="0"/>
                  </a:lnTo>
                  <a:lnTo>
                    <a:pt x="341" y="170"/>
                  </a:lnTo>
                  <a:lnTo>
                    <a:pt x="0" y="340"/>
                  </a:lnTo>
                  <a:lnTo>
                    <a:pt x="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43160" y="194148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34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340" y="170"/>
                  </a:lnTo>
                  <a:lnTo>
                    <a:pt x="34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343160" y="636480"/>
            <a:ext cx="1081080" cy="944280"/>
            <a:chOff x="1343160" y="636480"/>
            <a:chExt cx="1081080" cy="944280"/>
          </a:xfrm>
        </p:grpSpPr>
        <p:sp>
          <p:nvSpPr>
            <p:cNvPr id="347" name=""/>
            <p:cNvSpPr/>
            <p:nvPr/>
          </p:nvSpPr>
          <p:spPr>
            <a:xfrm>
              <a:off x="1343160" y="63648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343160" y="906120"/>
              <a:ext cx="539640" cy="674640"/>
            </a:xfrm>
            <a:custGeom>
              <a:avLst/>
              <a:gdLst/>
              <a:ahLst/>
              <a:rect l="l" t="t" r="r" b="b"/>
              <a:pathLst>
                <a:path w="340" h="425">
                  <a:moveTo>
                    <a:pt x="0" y="0"/>
                  </a:moveTo>
                  <a:lnTo>
                    <a:pt x="340" y="170"/>
                  </a:lnTo>
                  <a:lnTo>
                    <a:pt x="340" y="425"/>
                  </a:lnTo>
                  <a:lnTo>
                    <a:pt x="0" y="25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82800" y="906120"/>
              <a:ext cx="541440" cy="674640"/>
            </a:xfrm>
            <a:custGeom>
              <a:avLst/>
              <a:gdLst/>
              <a:ahLst/>
              <a:rect l="l" t="t" r="r" b="b"/>
              <a:pathLst>
                <a:path w="341" h="425">
                  <a:moveTo>
                    <a:pt x="341" y="0"/>
                  </a:moveTo>
                  <a:lnTo>
                    <a:pt x="341" y="255"/>
                  </a:lnTo>
                  <a:lnTo>
                    <a:pt x="0" y="425"/>
                  </a:lnTo>
                  <a:lnTo>
                    <a:pt x="0" y="170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268880" y="2257560"/>
            <a:ext cx="1620720" cy="943920"/>
            <a:chOff x="4268880" y="2257560"/>
            <a:chExt cx="1620720" cy="943920"/>
          </a:xfrm>
        </p:grpSpPr>
        <p:sp>
          <p:nvSpPr>
            <p:cNvPr id="351" name=""/>
            <p:cNvSpPr/>
            <p:nvPr/>
          </p:nvSpPr>
          <p:spPr>
            <a:xfrm>
              <a:off x="5348160" y="2796840"/>
              <a:ext cx="541080" cy="404640"/>
            </a:xfrm>
            <a:custGeom>
              <a:avLst/>
              <a:gdLst/>
              <a:ahLst/>
              <a:rect l="l" t="t" r="r" b="b"/>
              <a:pathLst>
                <a:path w="341" h="255">
                  <a:moveTo>
                    <a:pt x="0" y="25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85"/>
                  </a:lnTo>
                  <a:lnTo>
                    <a:pt x="0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268880" y="2527200"/>
              <a:ext cx="1079280" cy="674280"/>
            </a:xfrm>
            <a:custGeom>
              <a:avLst/>
              <a:gdLst/>
              <a:ahLst/>
              <a:rect l="l" t="t" r="r" b="b"/>
              <a:pathLst>
                <a:path w="680" h="425">
                  <a:moveTo>
                    <a:pt x="680" y="340"/>
                  </a:moveTo>
                  <a:lnTo>
                    <a:pt x="680" y="425"/>
                  </a:lnTo>
                  <a:lnTo>
                    <a:pt x="0" y="85"/>
                  </a:lnTo>
                  <a:lnTo>
                    <a:pt x="0" y="0"/>
                  </a:lnTo>
                  <a:lnTo>
                    <a:pt x="68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68880" y="2257560"/>
              <a:ext cx="1620720" cy="80928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268880" y="1266840"/>
            <a:ext cx="1620720" cy="1079640"/>
            <a:chOff x="4268880" y="1266840"/>
            <a:chExt cx="1620720" cy="1079640"/>
          </a:xfrm>
        </p:grpSpPr>
        <p:sp>
          <p:nvSpPr>
            <p:cNvPr id="355" name=""/>
            <p:cNvSpPr/>
            <p:nvPr/>
          </p:nvSpPr>
          <p:spPr>
            <a:xfrm>
              <a:off x="4268880" y="1266840"/>
              <a:ext cx="1620720" cy="80964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68880" y="1536840"/>
              <a:ext cx="1079280" cy="80964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510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68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48160" y="1806840"/>
              <a:ext cx="541080" cy="539640"/>
            </a:xfrm>
            <a:custGeom>
              <a:avLst/>
              <a:gdLst/>
              <a:ahLst/>
              <a:rect l="l" t="t" r="r" b="b"/>
              <a:pathLst>
                <a:path w="341" h="340">
                  <a:moveTo>
                    <a:pt x="0" y="34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170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4268880" y="187200"/>
            <a:ext cx="1621800" cy="1214280"/>
            <a:chOff x="4268880" y="187200"/>
            <a:chExt cx="1621800" cy="1214280"/>
          </a:xfrm>
        </p:grpSpPr>
        <p:sp>
          <p:nvSpPr>
            <p:cNvPr id="359" name=""/>
            <p:cNvSpPr/>
            <p:nvPr/>
          </p:nvSpPr>
          <p:spPr>
            <a:xfrm>
              <a:off x="5349600" y="726840"/>
              <a:ext cx="541080" cy="674640"/>
            </a:xfrm>
            <a:custGeom>
              <a:avLst/>
              <a:gdLst/>
              <a:ahLst/>
              <a:rect l="l" t="t" r="r" b="b"/>
              <a:pathLst>
                <a:path w="341" h="425">
                  <a:moveTo>
                    <a:pt x="0" y="42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255"/>
                  </a:lnTo>
                  <a:lnTo>
                    <a:pt x="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68880" y="187200"/>
              <a:ext cx="1620720" cy="80964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68880" y="456840"/>
              <a:ext cx="1079280" cy="944640"/>
            </a:xfrm>
            <a:custGeom>
              <a:avLst/>
              <a:gdLst/>
              <a:ahLst/>
              <a:rect l="l" t="t" r="r" b="b"/>
              <a:pathLst>
                <a:path w="680" h="595">
                  <a:moveTo>
                    <a:pt x="680" y="595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680" y="595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603520" y="2392200"/>
            <a:ext cx="1351080" cy="809640"/>
            <a:chOff x="2603520" y="2392200"/>
            <a:chExt cx="1351080" cy="809640"/>
          </a:xfrm>
        </p:grpSpPr>
        <p:sp>
          <p:nvSpPr>
            <p:cNvPr id="363" name=""/>
            <p:cNvSpPr/>
            <p:nvPr/>
          </p:nvSpPr>
          <p:spPr>
            <a:xfrm>
              <a:off x="2603520" y="2392200"/>
              <a:ext cx="1349280" cy="67500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03520" y="2527200"/>
              <a:ext cx="1079640" cy="674640"/>
            </a:xfrm>
            <a:custGeom>
              <a:avLst/>
              <a:gdLst/>
              <a:ahLst/>
              <a:rect l="l" t="t" r="r" b="b"/>
              <a:pathLst>
                <a:path w="680" h="425">
                  <a:moveTo>
                    <a:pt x="0" y="0"/>
                  </a:moveTo>
                  <a:lnTo>
                    <a:pt x="680" y="340"/>
                  </a:lnTo>
                  <a:lnTo>
                    <a:pt x="680" y="425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84600" y="2932200"/>
              <a:ext cx="27000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0" y="170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85"/>
                  </a:lnTo>
                  <a:lnTo>
                    <a:pt x="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603520" y="1717560"/>
            <a:ext cx="1351080" cy="944640"/>
            <a:chOff x="2603520" y="1717560"/>
            <a:chExt cx="1351080" cy="944640"/>
          </a:xfrm>
        </p:grpSpPr>
        <p:sp>
          <p:nvSpPr>
            <p:cNvPr id="367" name=""/>
            <p:cNvSpPr/>
            <p:nvPr/>
          </p:nvSpPr>
          <p:spPr>
            <a:xfrm>
              <a:off x="3684600" y="2257200"/>
              <a:ext cx="270000" cy="405000"/>
            </a:xfrm>
            <a:custGeom>
              <a:avLst/>
              <a:gdLst/>
              <a:ahLst/>
              <a:rect l="l" t="t" r="r" b="b"/>
              <a:pathLst>
                <a:path w="170" h="255">
                  <a:moveTo>
                    <a:pt x="170" y="0"/>
                  </a:moveTo>
                  <a:lnTo>
                    <a:pt x="170" y="170"/>
                  </a:lnTo>
                  <a:lnTo>
                    <a:pt x="0" y="255"/>
                  </a:lnTo>
                  <a:lnTo>
                    <a:pt x="0" y="85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05320" y="1852560"/>
              <a:ext cx="1079280" cy="80964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340"/>
                  </a:moveTo>
                  <a:lnTo>
                    <a:pt x="680" y="510"/>
                  </a:lnTo>
                  <a:lnTo>
                    <a:pt x="0" y="170"/>
                  </a:lnTo>
                  <a:lnTo>
                    <a:pt x="0" y="0"/>
                  </a:lnTo>
                  <a:lnTo>
                    <a:pt x="68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03520" y="1717560"/>
              <a:ext cx="1349640" cy="67464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649600" y="907920"/>
            <a:ext cx="1349280" cy="1079280"/>
            <a:chOff x="2649600" y="907920"/>
            <a:chExt cx="1349280" cy="1079280"/>
          </a:xfrm>
        </p:grpSpPr>
        <p:sp>
          <p:nvSpPr>
            <p:cNvPr id="371" name=""/>
            <p:cNvSpPr/>
            <p:nvPr/>
          </p:nvSpPr>
          <p:spPr>
            <a:xfrm>
              <a:off x="2649600" y="1042920"/>
              <a:ext cx="1079280" cy="944280"/>
            </a:xfrm>
            <a:custGeom>
              <a:avLst/>
              <a:gdLst/>
              <a:ahLst/>
              <a:rect l="l" t="t" r="r" b="b"/>
              <a:pathLst>
                <a:path w="680" h="595">
                  <a:moveTo>
                    <a:pt x="680" y="595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680" y="595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28880" y="1447560"/>
              <a:ext cx="269640" cy="539640"/>
            </a:xfrm>
            <a:custGeom>
              <a:avLst/>
              <a:gdLst/>
              <a:ahLst/>
              <a:rect l="l" t="t" r="r" b="b"/>
              <a:pathLst>
                <a:path w="170" h="340">
                  <a:moveTo>
                    <a:pt x="0" y="340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255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49600" y="907920"/>
              <a:ext cx="1349280" cy="67464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6429240" y="1041480"/>
            <a:ext cx="539640" cy="1350360"/>
            <a:chOff x="6429240" y="1041480"/>
            <a:chExt cx="539640" cy="1350360"/>
          </a:xfrm>
        </p:grpSpPr>
        <p:sp>
          <p:nvSpPr>
            <p:cNvPr id="375" name=""/>
            <p:cNvSpPr/>
            <p:nvPr/>
          </p:nvSpPr>
          <p:spPr>
            <a:xfrm>
              <a:off x="6429240" y="1177560"/>
              <a:ext cx="269640" cy="121428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98880" y="1177560"/>
              <a:ext cx="270000" cy="121428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0" y="765"/>
                  </a:moveTo>
                  <a:lnTo>
                    <a:pt x="170" y="680"/>
                  </a:lnTo>
                  <a:lnTo>
                    <a:pt x="170" y="0"/>
                  </a:lnTo>
                  <a:lnTo>
                    <a:pt x="0" y="85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29240" y="1041480"/>
              <a:ext cx="539640" cy="271080"/>
            </a:xfrm>
            <a:custGeom>
              <a:avLst/>
              <a:gdLst/>
              <a:ahLst/>
              <a:rect l="l" t="t" r="r" b="b"/>
              <a:pathLst>
                <a:path w="340" h="171">
                  <a:moveTo>
                    <a:pt x="340" y="86"/>
                  </a:moveTo>
                  <a:lnTo>
                    <a:pt x="170" y="0"/>
                  </a:lnTo>
                  <a:lnTo>
                    <a:pt x="0" y="86"/>
                  </a:lnTo>
                  <a:lnTo>
                    <a:pt x="170" y="171"/>
                  </a:lnTo>
                  <a:lnTo>
                    <a:pt x="340" y="86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7059600" y="952560"/>
            <a:ext cx="811080" cy="1485360"/>
            <a:chOff x="7059600" y="952560"/>
            <a:chExt cx="811080" cy="1485360"/>
          </a:xfrm>
        </p:grpSpPr>
        <p:sp>
          <p:nvSpPr>
            <p:cNvPr id="379" name=""/>
            <p:cNvSpPr/>
            <p:nvPr/>
          </p:nvSpPr>
          <p:spPr>
            <a:xfrm>
              <a:off x="7059600" y="1223640"/>
              <a:ext cx="269640" cy="121428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59600" y="952560"/>
              <a:ext cx="811080" cy="4060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240" y="1087200"/>
              <a:ext cx="541080" cy="1350720"/>
            </a:xfrm>
            <a:custGeom>
              <a:avLst/>
              <a:gdLst/>
              <a:ahLst/>
              <a:rect l="l" t="t" r="r" b="b"/>
              <a:pathLst>
                <a:path w="341" h="851">
                  <a:moveTo>
                    <a:pt x="341" y="0"/>
                  </a:moveTo>
                  <a:lnTo>
                    <a:pt x="0" y="171"/>
                  </a:lnTo>
                  <a:lnTo>
                    <a:pt x="0" y="851"/>
                  </a:lnTo>
                  <a:lnTo>
                    <a:pt x="341" y="681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8004240" y="1403280"/>
            <a:ext cx="811080" cy="944280"/>
            <a:chOff x="8004240" y="1403280"/>
            <a:chExt cx="811080" cy="944280"/>
          </a:xfrm>
        </p:grpSpPr>
        <p:sp>
          <p:nvSpPr>
            <p:cNvPr id="383" name=""/>
            <p:cNvSpPr/>
            <p:nvPr/>
          </p:nvSpPr>
          <p:spPr>
            <a:xfrm>
              <a:off x="8273880" y="1537920"/>
              <a:ext cx="541080" cy="809640"/>
            </a:xfrm>
            <a:custGeom>
              <a:avLst/>
              <a:gdLst/>
              <a:ahLst/>
              <a:rect l="l" t="t" r="r" b="b"/>
              <a:pathLst>
                <a:path w="341" h="510">
                  <a:moveTo>
                    <a:pt x="0" y="51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340"/>
                  </a:lnTo>
                  <a:lnTo>
                    <a:pt x="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04240" y="1672920"/>
              <a:ext cx="269640" cy="674640"/>
            </a:xfrm>
            <a:custGeom>
              <a:avLst/>
              <a:gdLst/>
              <a:ahLst/>
              <a:rect l="l" t="t" r="r" b="b"/>
              <a:pathLst>
                <a:path w="170" h="425">
                  <a:moveTo>
                    <a:pt x="170" y="425"/>
                  </a:moveTo>
                  <a:lnTo>
                    <a:pt x="170" y="85"/>
                  </a:lnTo>
                  <a:lnTo>
                    <a:pt x="0" y="0"/>
                  </a:lnTo>
                  <a:lnTo>
                    <a:pt x="0" y="340"/>
                  </a:lnTo>
                  <a:lnTo>
                    <a:pt x="17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004240" y="1403280"/>
              <a:ext cx="811080" cy="4060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6429240" y="2581200"/>
            <a:ext cx="274680" cy="687240"/>
            <a:chOff x="6429240" y="2581200"/>
            <a:chExt cx="274680" cy="687240"/>
          </a:xfrm>
        </p:grpSpPr>
        <p:sp>
          <p:nvSpPr>
            <p:cNvPr id="387" name=""/>
            <p:cNvSpPr/>
            <p:nvPr/>
          </p:nvSpPr>
          <p:spPr>
            <a:xfrm>
              <a:off x="6429240" y="2651040"/>
              <a:ext cx="13788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567120" y="2651040"/>
              <a:ext cx="13680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0" y="765"/>
                  </a:moveTo>
                  <a:lnTo>
                    <a:pt x="170" y="680"/>
                  </a:lnTo>
                  <a:lnTo>
                    <a:pt x="170" y="0"/>
                  </a:lnTo>
                  <a:lnTo>
                    <a:pt x="0" y="85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29240" y="2581200"/>
              <a:ext cx="274680" cy="137880"/>
            </a:xfrm>
            <a:custGeom>
              <a:avLst/>
              <a:gdLst/>
              <a:ahLst/>
              <a:rect l="l" t="t" r="r" b="b"/>
              <a:pathLst>
                <a:path w="340" h="171">
                  <a:moveTo>
                    <a:pt x="340" y="86"/>
                  </a:moveTo>
                  <a:lnTo>
                    <a:pt x="170" y="0"/>
                  </a:lnTo>
                  <a:lnTo>
                    <a:pt x="0" y="86"/>
                  </a:lnTo>
                  <a:lnTo>
                    <a:pt x="170" y="171"/>
                  </a:lnTo>
                  <a:lnTo>
                    <a:pt x="340" y="86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6750000" y="2536920"/>
            <a:ext cx="412560" cy="755640"/>
            <a:chOff x="6750000" y="2536920"/>
            <a:chExt cx="412560" cy="755640"/>
          </a:xfrm>
        </p:grpSpPr>
        <p:sp>
          <p:nvSpPr>
            <p:cNvPr id="391" name=""/>
            <p:cNvSpPr/>
            <p:nvPr/>
          </p:nvSpPr>
          <p:spPr>
            <a:xfrm>
              <a:off x="6750000" y="2675160"/>
              <a:ext cx="13788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50000" y="2536920"/>
              <a:ext cx="412560" cy="2062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87880" y="2605320"/>
              <a:ext cx="274680" cy="687240"/>
            </a:xfrm>
            <a:custGeom>
              <a:avLst/>
              <a:gdLst/>
              <a:ahLst/>
              <a:rect l="l" t="t" r="r" b="b"/>
              <a:pathLst>
                <a:path w="341" h="851">
                  <a:moveTo>
                    <a:pt x="341" y="0"/>
                  </a:moveTo>
                  <a:lnTo>
                    <a:pt x="0" y="171"/>
                  </a:lnTo>
                  <a:lnTo>
                    <a:pt x="0" y="851"/>
                  </a:lnTo>
                  <a:lnTo>
                    <a:pt x="341" y="681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7230960" y="2765520"/>
            <a:ext cx="412560" cy="480960"/>
            <a:chOff x="7230960" y="2765520"/>
            <a:chExt cx="412560" cy="480960"/>
          </a:xfrm>
        </p:grpSpPr>
        <p:sp>
          <p:nvSpPr>
            <p:cNvPr id="395" name=""/>
            <p:cNvSpPr/>
            <p:nvPr/>
          </p:nvSpPr>
          <p:spPr>
            <a:xfrm>
              <a:off x="7367400" y="2835360"/>
              <a:ext cx="276120" cy="411120"/>
            </a:xfrm>
            <a:custGeom>
              <a:avLst/>
              <a:gdLst/>
              <a:ahLst/>
              <a:rect l="l" t="t" r="r" b="b"/>
              <a:pathLst>
                <a:path w="341" h="510">
                  <a:moveTo>
                    <a:pt x="0" y="51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340"/>
                  </a:lnTo>
                  <a:lnTo>
                    <a:pt x="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30960" y="2903760"/>
              <a:ext cx="136440" cy="342720"/>
            </a:xfrm>
            <a:custGeom>
              <a:avLst/>
              <a:gdLst/>
              <a:ahLst/>
              <a:rect l="l" t="t" r="r" b="b"/>
              <a:pathLst>
                <a:path w="170" h="425">
                  <a:moveTo>
                    <a:pt x="170" y="425"/>
                  </a:moveTo>
                  <a:lnTo>
                    <a:pt x="170" y="85"/>
                  </a:lnTo>
                  <a:lnTo>
                    <a:pt x="0" y="0"/>
                  </a:lnTo>
                  <a:lnTo>
                    <a:pt x="0" y="340"/>
                  </a:lnTo>
                  <a:lnTo>
                    <a:pt x="17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30960" y="2765520"/>
              <a:ext cx="412560" cy="2080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fedd5c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90600" y="5753160"/>
            <a:ext cx="809640" cy="539640"/>
            <a:chOff x="390600" y="5753160"/>
            <a:chExt cx="809640" cy="539640"/>
          </a:xfrm>
        </p:grpSpPr>
        <p:sp>
          <p:nvSpPr>
            <p:cNvPr id="399" name=""/>
            <p:cNvSpPr/>
            <p:nvPr/>
          </p:nvSpPr>
          <p:spPr>
            <a:xfrm>
              <a:off x="930240" y="6022800"/>
              <a:ext cx="270000" cy="27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0" y="340"/>
                  </a:moveTo>
                  <a:lnTo>
                    <a:pt x="0" y="170"/>
                  </a:lnTo>
                  <a:lnTo>
                    <a:pt x="340" y="0"/>
                  </a:lnTo>
                  <a:lnTo>
                    <a:pt x="340" y="170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0600" y="5887800"/>
              <a:ext cx="539640" cy="40500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51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680" y="340"/>
                  </a:lnTo>
                  <a:lnTo>
                    <a:pt x="68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0600" y="5753160"/>
              <a:ext cx="809640" cy="40464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344520" y="5030640"/>
            <a:ext cx="811080" cy="676440"/>
            <a:chOff x="344520" y="5030640"/>
            <a:chExt cx="811080" cy="676440"/>
          </a:xfrm>
        </p:grpSpPr>
        <p:sp>
          <p:nvSpPr>
            <p:cNvPr id="403" name=""/>
            <p:cNvSpPr/>
            <p:nvPr/>
          </p:nvSpPr>
          <p:spPr>
            <a:xfrm>
              <a:off x="885960" y="5302080"/>
              <a:ext cx="269640" cy="405000"/>
            </a:xfrm>
            <a:custGeom>
              <a:avLst/>
              <a:gdLst/>
              <a:ahLst/>
              <a:rect l="l" t="t" r="r" b="b"/>
              <a:pathLst>
                <a:path w="170" h="255">
                  <a:moveTo>
                    <a:pt x="0" y="255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170"/>
                  </a:lnTo>
                  <a:lnTo>
                    <a:pt x="0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5960" y="5167080"/>
              <a:ext cx="54000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34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340" y="170"/>
                  </a:lnTo>
                  <a:lnTo>
                    <a:pt x="34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4520" y="5030640"/>
              <a:ext cx="809640" cy="40500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344520" y="4221000"/>
            <a:ext cx="809640" cy="809640"/>
            <a:chOff x="344520" y="4221000"/>
            <a:chExt cx="809640" cy="809640"/>
          </a:xfrm>
        </p:grpSpPr>
        <p:sp>
          <p:nvSpPr>
            <p:cNvPr id="407" name=""/>
            <p:cNvSpPr/>
            <p:nvPr/>
          </p:nvSpPr>
          <p:spPr>
            <a:xfrm>
              <a:off x="344520" y="4221000"/>
              <a:ext cx="809640" cy="40500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44520" y="4356000"/>
              <a:ext cx="539640" cy="674640"/>
            </a:xfrm>
            <a:custGeom>
              <a:avLst/>
              <a:gdLst/>
              <a:ahLst/>
              <a:rect l="l" t="t" r="r" b="b"/>
              <a:pathLst>
                <a:path w="340" h="425">
                  <a:moveTo>
                    <a:pt x="340" y="425"/>
                  </a:moveTo>
                  <a:lnTo>
                    <a:pt x="340" y="17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34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84160" y="4491000"/>
              <a:ext cx="270000" cy="539640"/>
            </a:xfrm>
            <a:custGeom>
              <a:avLst/>
              <a:gdLst/>
              <a:ahLst/>
              <a:rect l="l" t="t" r="r" b="b"/>
              <a:pathLst>
                <a:path w="170" h="340">
                  <a:moveTo>
                    <a:pt x="0" y="85"/>
                  </a:moveTo>
                  <a:lnTo>
                    <a:pt x="170" y="0"/>
                  </a:lnTo>
                  <a:lnTo>
                    <a:pt x="170" y="255"/>
                  </a:lnTo>
                  <a:lnTo>
                    <a:pt x="0" y="340"/>
                  </a:lnTo>
                  <a:lnTo>
                    <a:pt x="0" y="85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379520" y="5618160"/>
            <a:ext cx="1081080" cy="674640"/>
            <a:chOff x="1379520" y="5618160"/>
            <a:chExt cx="1081080" cy="674640"/>
          </a:xfrm>
        </p:grpSpPr>
        <p:sp>
          <p:nvSpPr>
            <p:cNvPr id="411" name=""/>
            <p:cNvSpPr/>
            <p:nvPr/>
          </p:nvSpPr>
          <p:spPr>
            <a:xfrm>
              <a:off x="1919160" y="5887800"/>
              <a:ext cx="541440" cy="405000"/>
            </a:xfrm>
            <a:custGeom>
              <a:avLst/>
              <a:gdLst/>
              <a:ahLst/>
              <a:rect l="l" t="t" r="r" b="b"/>
              <a:pathLst>
                <a:path w="341" h="255">
                  <a:moveTo>
                    <a:pt x="0" y="25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85"/>
                  </a:lnTo>
                  <a:lnTo>
                    <a:pt x="0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79520" y="5887800"/>
              <a:ext cx="539640" cy="405000"/>
            </a:xfrm>
            <a:custGeom>
              <a:avLst/>
              <a:gdLst/>
              <a:ahLst/>
              <a:rect l="l" t="t" r="r" b="b"/>
              <a:pathLst>
                <a:path w="340" h="255">
                  <a:moveTo>
                    <a:pt x="340" y="170"/>
                  </a:moveTo>
                  <a:lnTo>
                    <a:pt x="340" y="255"/>
                  </a:lnTo>
                  <a:lnTo>
                    <a:pt x="0" y="85"/>
                  </a:lnTo>
                  <a:lnTo>
                    <a:pt x="0" y="0"/>
                  </a:lnTo>
                  <a:lnTo>
                    <a:pt x="34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79520" y="561816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1379520" y="4762440"/>
            <a:ext cx="1081080" cy="809640"/>
            <a:chOff x="1379520" y="4762440"/>
            <a:chExt cx="1081080" cy="809640"/>
          </a:xfrm>
        </p:grpSpPr>
        <p:sp>
          <p:nvSpPr>
            <p:cNvPr id="415" name=""/>
            <p:cNvSpPr/>
            <p:nvPr/>
          </p:nvSpPr>
          <p:spPr>
            <a:xfrm>
              <a:off x="1379520" y="476244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19160" y="5032440"/>
              <a:ext cx="541440" cy="539640"/>
            </a:xfrm>
            <a:custGeom>
              <a:avLst/>
              <a:gdLst/>
              <a:ahLst/>
              <a:rect l="l" t="t" r="r" b="b"/>
              <a:pathLst>
                <a:path w="341" h="340">
                  <a:moveTo>
                    <a:pt x="0" y="170"/>
                  </a:moveTo>
                  <a:lnTo>
                    <a:pt x="341" y="0"/>
                  </a:lnTo>
                  <a:lnTo>
                    <a:pt x="341" y="170"/>
                  </a:lnTo>
                  <a:lnTo>
                    <a:pt x="0" y="340"/>
                  </a:lnTo>
                  <a:lnTo>
                    <a:pt x="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79520" y="503244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34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340" y="170"/>
                  </a:lnTo>
                  <a:lnTo>
                    <a:pt x="34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379520" y="3727440"/>
            <a:ext cx="1081080" cy="944280"/>
            <a:chOff x="1379520" y="3727440"/>
            <a:chExt cx="1081080" cy="944280"/>
          </a:xfrm>
        </p:grpSpPr>
        <p:sp>
          <p:nvSpPr>
            <p:cNvPr id="419" name=""/>
            <p:cNvSpPr/>
            <p:nvPr/>
          </p:nvSpPr>
          <p:spPr>
            <a:xfrm>
              <a:off x="1379520" y="372744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79520" y="3997080"/>
              <a:ext cx="539640" cy="674640"/>
            </a:xfrm>
            <a:custGeom>
              <a:avLst/>
              <a:gdLst/>
              <a:ahLst/>
              <a:rect l="l" t="t" r="r" b="b"/>
              <a:pathLst>
                <a:path w="340" h="425">
                  <a:moveTo>
                    <a:pt x="0" y="0"/>
                  </a:moveTo>
                  <a:lnTo>
                    <a:pt x="340" y="170"/>
                  </a:lnTo>
                  <a:lnTo>
                    <a:pt x="340" y="425"/>
                  </a:lnTo>
                  <a:lnTo>
                    <a:pt x="0" y="25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19160" y="3997080"/>
              <a:ext cx="541440" cy="674640"/>
            </a:xfrm>
            <a:custGeom>
              <a:avLst/>
              <a:gdLst/>
              <a:ahLst/>
              <a:rect l="l" t="t" r="r" b="b"/>
              <a:pathLst>
                <a:path w="341" h="425">
                  <a:moveTo>
                    <a:pt x="341" y="0"/>
                  </a:moveTo>
                  <a:lnTo>
                    <a:pt x="341" y="255"/>
                  </a:lnTo>
                  <a:lnTo>
                    <a:pt x="0" y="425"/>
                  </a:lnTo>
                  <a:lnTo>
                    <a:pt x="0" y="170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4305240" y="5348160"/>
            <a:ext cx="1620720" cy="944640"/>
            <a:chOff x="4305240" y="5348160"/>
            <a:chExt cx="1620720" cy="944640"/>
          </a:xfrm>
        </p:grpSpPr>
        <p:sp>
          <p:nvSpPr>
            <p:cNvPr id="423" name=""/>
            <p:cNvSpPr/>
            <p:nvPr/>
          </p:nvSpPr>
          <p:spPr>
            <a:xfrm>
              <a:off x="5384520" y="5887800"/>
              <a:ext cx="541080" cy="405000"/>
            </a:xfrm>
            <a:custGeom>
              <a:avLst/>
              <a:gdLst/>
              <a:ahLst/>
              <a:rect l="l" t="t" r="r" b="b"/>
              <a:pathLst>
                <a:path w="341" h="255">
                  <a:moveTo>
                    <a:pt x="0" y="25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85"/>
                  </a:lnTo>
                  <a:lnTo>
                    <a:pt x="0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305240" y="5618160"/>
              <a:ext cx="1079280" cy="674640"/>
            </a:xfrm>
            <a:custGeom>
              <a:avLst/>
              <a:gdLst/>
              <a:ahLst/>
              <a:rect l="l" t="t" r="r" b="b"/>
              <a:pathLst>
                <a:path w="680" h="425">
                  <a:moveTo>
                    <a:pt x="680" y="340"/>
                  </a:moveTo>
                  <a:lnTo>
                    <a:pt x="680" y="425"/>
                  </a:lnTo>
                  <a:lnTo>
                    <a:pt x="0" y="85"/>
                  </a:lnTo>
                  <a:lnTo>
                    <a:pt x="0" y="0"/>
                  </a:lnTo>
                  <a:lnTo>
                    <a:pt x="68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05240" y="5348160"/>
              <a:ext cx="1620720" cy="80964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4305240" y="4357800"/>
            <a:ext cx="1620720" cy="1078920"/>
            <a:chOff x="4305240" y="4357800"/>
            <a:chExt cx="1620720" cy="1078920"/>
          </a:xfrm>
        </p:grpSpPr>
        <p:sp>
          <p:nvSpPr>
            <p:cNvPr id="427" name=""/>
            <p:cNvSpPr/>
            <p:nvPr/>
          </p:nvSpPr>
          <p:spPr>
            <a:xfrm>
              <a:off x="4305240" y="4357800"/>
              <a:ext cx="1620720" cy="80928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05240" y="4627440"/>
              <a:ext cx="1079280" cy="80928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510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68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384520" y="4897440"/>
              <a:ext cx="541080" cy="539280"/>
            </a:xfrm>
            <a:custGeom>
              <a:avLst/>
              <a:gdLst/>
              <a:ahLst/>
              <a:rect l="l" t="t" r="r" b="b"/>
              <a:pathLst>
                <a:path w="341" h="340">
                  <a:moveTo>
                    <a:pt x="0" y="34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170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4305240" y="3278160"/>
            <a:ext cx="1622520" cy="1214280"/>
            <a:chOff x="4305240" y="3278160"/>
            <a:chExt cx="1622520" cy="1214280"/>
          </a:xfrm>
        </p:grpSpPr>
        <p:sp>
          <p:nvSpPr>
            <p:cNvPr id="431" name=""/>
            <p:cNvSpPr/>
            <p:nvPr/>
          </p:nvSpPr>
          <p:spPr>
            <a:xfrm>
              <a:off x="5386320" y="3817800"/>
              <a:ext cx="541440" cy="674640"/>
            </a:xfrm>
            <a:custGeom>
              <a:avLst/>
              <a:gdLst/>
              <a:ahLst/>
              <a:rect l="l" t="t" r="r" b="b"/>
              <a:pathLst>
                <a:path w="341" h="425">
                  <a:moveTo>
                    <a:pt x="0" y="42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255"/>
                  </a:lnTo>
                  <a:lnTo>
                    <a:pt x="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05240" y="3278160"/>
              <a:ext cx="1621080" cy="80964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05240" y="3547800"/>
              <a:ext cx="1079640" cy="944640"/>
            </a:xfrm>
            <a:custGeom>
              <a:avLst/>
              <a:gdLst/>
              <a:ahLst/>
              <a:rect l="l" t="t" r="r" b="b"/>
              <a:pathLst>
                <a:path w="680" h="595">
                  <a:moveTo>
                    <a:pt x="680" y="595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680" y="595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639880" y="5483160"/>
            <a:ext cx="1351080" cy="809640"/>
            <a:chOff x="2639880" y="5483160"/>
            <a:chExt cx="1351080" cy="809640"/>
          </a:xfrm>
        </p:grpSpPr>
        <p:sp>
          <p:nvSpPr>
            <p:cNvPr id="435" name=""/>
            <p:cNvSpPr/>
            <p:nvPr/>
          </p:nvSpPr>
          <p:spPr>
            <a:xfrm>
              <a:off x="2639880" y="5483160"/>
              <a:ext cx="1349640" cy="67464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39880" y="5618160"/>
              <a:ext cx="1079640" cy="674640"/>
            </a:xfrm>
            <a:custGeom>
              <a:avLst/>
              <a:gdLst/>
              <a:ahLst/>
              <a:rect l="l" t="t" r="r" b="b"/>
              <a:pathLst>
                <a:path w="680" h="425">
                  <a:moveTo>
                    <a:pt x="0" y="0"/>
                  </a:moveTo>
                  <a:lnTo>
                    <a:pt x="680" y="340"/>
                  </a:lnTo>
                  <a:lnTo>
                    <a:pt x="680" y="425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20960" y="6022800"/>
              <a:ext cx="270000" cy="27000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0" y="170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85"/>
                  </a:lnTo>
                  <a:lnTo>
                    <a:pt x="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639880" y="4808520"/>
            <a:ext cx="1351080" cy="944640"/>
            <a:chOff x="2639880" y="4808520"/>
            <a:chExt cx="1351080" cy="944640"/>
          </a:xfrm>
        </p:grpSpPr>
        <p:sp>
          <p:nvSpPr>
            <p:cNvPr id="439" name=""/>
            <p:cNvSpPr/>
            <p:nvPr/>
          </p:nvSpPr>
          <p:spPr>
            <a:xfrm>
              <a:off x="3720960" y="5348160"/>
              <a:ext cx="270000" cy="405000"/>
            </a:xfrm>
            <a:custGeom>
              <a:avLst/>
              <a:gdLst/>
              <a:ahLst/>
              <a:rect l="l" t="t" r="r" b="b"/>
              <a:pathLst>
                <a:path w="170" h="255">
                  <a:moveTo>
                    <a:pt x="170" y="0"/>
                  </a:moveTo>
                  <a:lnTo>
                    <a:pt x="170" y="170"/>
                  </a:lnTo>
                  <a:lnTo>
                    <a:pt x="0" y="255"/>
                  </a:lnTo>
                  <a:lnTo>
                    <a:pt x="0" y="85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41680" y="4943520"/>
              <a:ext cx="1079280" cy="80964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340"/>
                  </a:moveTo>
                  <a:lnTo>
                    <a:pt x="680" y="510"/>
                  </a:lnTo>
                  <a:lnTo>
                    <a:pt x="0" y="170"/>
                  </a:lnTo>
                  <a:lnTo>
                    <a:pt x="0" y="0"/>
                  </a:lnTo>
                  <a:lnTo>
                    <a:pt x="68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39880" y="4808520"/>
              <a:ext cx="1349640" cy="67464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685960" y="3998880"/>
            <a:ext cx="1349640" cy="1079280"/>
            <a:chOff x="2685960" y="3998880"/>
            <a:chExt cx="1349640" cy="1079280"/>
          </a:xfrm>
        </p:grpSpPr>
        <p:sp>
          <p:nvSpPr>
            <p:cNvPr id="443" name=""/>
            <p:cNvSpPr/>
            <p:nvPr/>
          </p:nvSpPr>
          <p:spPr>
            <a:xfrm>
              <a:off x="2685960" y="4133880"/>
              <a:ext cx="1079640" cy="944280"/>
            </a:xfrm>
            <a:custGeom>
              <a:avLst/>
              <a:gdLst/>
              <a:ahLst/>
              <a:rect l="l" t="t" r="r" b="b"/>
              <a:pathLst>
                <a:path w="680" h="595">
                  <a:moveTo>
                    <a:pt x="680" y="595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680" y="595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65600" y="4538520"/>
              <a:ext cx="270000" cy="539640"/>
            </a:xfrm>
            <a:custGeom>
              <a:avLst/>
              <a:gdLst/>
              <a:ahLst/>
              <a:rect l="l" t="t" r="r" b="b"/>
              <a:pathLst>
                <a:path w="170" h="340">
                  <a:moveTo>
                    <a:pt x="0" y="340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255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85960" y="3998880"/>
              <a:ext cx="1349640" cy="67464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6465960" y="4132440"/>
            <a:ext cx="539640" cy="1350360"/>
            <a:chOff x="6465960" y="4132440"/>
            <a:chExt cx="539640" cy="1350360"/>
          </a:xfrm>
        </p:grpSpPr>
        <p:sp>
          <p:nvSpPr>
            <p:cNvPr id="447" name=""/>
            <p:cNvSpPr/>
            <p:nvPr/>
          </p:nvSpPr>
          <p:spPr>
            <a:xfrm>
              <a:off x="6465960" y="4268520"/>
              <a:ext cx="269640" cy="121428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735600" y="4268520"/>
              <a:ext cx="270000" cy="121428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0" y="765"/>
                  </a:moveTo>
                  <a:lnTo>
                    <a:pt x="170" y="680"/>
                  </a:lnTo>
                  <a:lnTo>
                    <a:pt x="170" y="0"/>
                  </a:lnTo>
                  <a:lnTo>
                    <a:pt x="0" y="85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465960" y="4132440"/>
              <a:ext cx="539640" cy="271080"/>
            </a:xfrm>
            <a:custGeom>
              <a:avLst/>
              <a:gdLst/>
              <a:ahLst/>
              <a:rect l="l" t="t" r="r" b="b"/>
              <a:pathLst>
                <a:path w="340" h="171">
                  <a:moveTo>
                    <a:pt x="340" y="86"/>
                  </a:moveTo>
                  <a:lnTo>
                    <a:pt x="170" y="0"/>
                  </a:lnTo>
                  <a:lnTo>
                    <a:pt x="0" y="86"/>
                  </a:lnTo>
                  <a:lnTo>
                    <a:pt x="170" y="171"/>
                  </a:lnTo>
                  <a:lnTo>
                    <a:pt x="340" y="86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7095960" y="4043520"/>
            <a:ext cx="811440" cy="1485360"/>
            <a:chOff x="7095960" y="4043520"/>
            <a:chExt cx="811440" cy="1485360"/>
          </a:xfrm>
        </p:grpSpPr>
        <p:sp>
          <p:nvSpPr>
            <p:cNvPr id="451" name=""/>
            <p:cNvSpPr/>
            <p:nvPr/>
          </p:nvSpPr>
          <p:spPr>
            <a:xfrm>
              <a:off x="7095960" y="4314600"/>
              <a:ext cx="270000" cy="121428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095960" y="4043520"/>
              <a:ext cx="811440" cy="4060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65960" y="4178160"/>
              <a:ext cx="541440" cy="1350720"/>
            </a:xfrm>
            <a:custGeom>
              <a:avLst/>
              <a:gdLst/>
              <a:ahLst/>
              <a:rect l="l" t="t" r="r" b="b"/>
              <a:pathLst>
                <a:path w="341" h="851">
                  <a:moveTo>
                    <a:pt x="341" y="0"/>
                  </a:moveTo>
                  <a:lnTo>
                    <a:pt x="0" y="171"/>
                  </a:lnTo>
                  <a:lnTo>
                    <a:pt x="0" y="851"/>
                  </a:lnTo>
                  <a:lnTo>
                    <a:pt x="341" y="681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8040600" y="4494240"/>
            <a:ext cx="811440" cy="944280"/>
            <a:chOff x="8040600" y="4494240"/>
            <a:chExt cx="811440" cy="944280"/>
          </a:xfrm>
        </p:grpSpPr>
        <p:sp>
          <p:nvSpPr>
            <p:cNvPr id="455" name=""/>
            <p:cNvSpPr/>
            <p:nvPr/>
          </p:nvSpPr>
          <p:spPr>
            <a:xfrm>
              <a:off x="8310600" y="4628880"/>
              <a:ext cx="541440" cy="809640"/>
            </a:xfrm>
            <a:custGeom>
              <a:avLst/>
              <a:gdLst/>
              <a:ahLst/>
              <a:rect l="l" t="t" r="r" b="b"/>
              <a:pathLst>
                <a:path w="341" h="510">
                  <a:moveTo>
                    <a:pt x="0" y="51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340"/>
                  </a:lnTo>
                  <a:lnTo>
                    <a:pt x="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040600" y="4763880"/>
              <a:ext cx="270000" cy="674640"/>
            </a:xfrm>
            <a:custGeom>
              <a:avLst/>
              <a:gdLst/>
              <a:ahLst/>
              <a:rect l="l" t="t" r="r" b="b"/>
              <a:pathLst>
                <a:path w="170" h="425">
                  <a:moveTo>
                    <a:pt x="170" y="425"/>
                  </a:moveTo>
                  <a:lnTo>
                    <a:pt x="170" y="85"/>
                  </a:lnTo>
                  <a:lnTo>
                    <a:pt x="0" y="0"/>
                  </a:lnTo>
                  <a:lnTo>
                    <a:pt x="0" y="340"/>
                  </a:lnTo>
                  <a:lnTo>
                    <a:pt x="17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40600" y="4494240"/>
              <a:ext cx="811440" cy="4060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6465960" y="5672160"/>
            <a:ext cx="274680" cy="687240"/>
            <a:chOff x="6465960" y="5672160"/>
            <a:chExt cx="274680" cy="687240"/>
          </a:xfrm>
        </p:grpSpPr>
        <p:sp>
          <p:nvSpPr>
            <p:cNvPr id="459" name=""/>
            <p:cNvSpPr/>
            <p:nvPr/>
          </p:nvSpPr>
          <p:spPr>
            <a:xfrm>
              <a:off x="6465960" y="5742000"/>
              <a:ext cx="13788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03840" y="5742000"/>
              <a:ext cx="13680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0" y="765"/>
                  </a:moveTo>
                  <a:lnTo>
                    <a:pt x="170" y="680"/>
                  </a:lnTo>
                  <a:lnTo>
                    <a:pt x="170" y="0"/>
                  </a:lnTo>
                  <a:lnTo>
                    <a:pt x="0" y="85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65960" y="5672160"/>
              <a:ext cx="274680" cy="137880"/>
            </a:xfrm>
            <a:custGeom>
              <a:avLst/>
              <a:gdLst/>
              <a:ahLst/>
              <a:rect l="l" t="t" r="r" b="b"/>
              <a:pathLst>
                <a:path w="340" h="171">
                  <a:moveTo>
                    <a:pt x="340" y="86"/>
                  </a:moveTo>
                  <a:lnTo>
                    <a:pt x="170" y="0"/>
                  </a:lnTo>
                  <a:lnTo>
                    <a:pt x="0" y="86"/>
                  </a:lnTo>
                  <a:lnTo>
                    <a:pt x="170" y="171"/>
                  </a:lnTo>
                  <a:lnTo>
                    <a:pt x="340" y="86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6786720" y="5627520"/>
            <a:ext cx="412560" cy="755640"/>
            <a:chOff x="6786720" y="5627520"/>
            <a:chExt cx="412560" cy="755640"/>
          </a:xfrm>
        </p:grpSpPr>
        <p:sp>
          <p:nvSpPr>
            <p:cNvPr id="463" name=""/>
            <p:cNvSpPr/>
            <p:nvPr/>
          </p:nvSpPr>
          <p:spPr>
            <a:xfrm>
              <a:off x="6786720" y="5765760"/>
              <a:ext cx="13788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86720" y="5627520"/>
              <a:ext cx="412560" cy="2062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24600" y="5695920"/>
              <a:ext cx="274680" cy="687240"/>
            </a:xfrm>
            <a:custGeom>
              <a:avLst/>
              <a:gdLst/>
              <a:ahLst/>
              <a:rect l="l" t="t" r="r" b="b"/>
              <a:pathLst>
                <a:path w="341" h="851">
                  <a:moveTo>
                    <a:pt x="341" y="0"/>
                  </a:moveTo>
                  <a:lnTo>
                    <a:pt x="0" y="171"/>
                  </a:lnTo>
                  <a:lnTo>
                    <a:pt x="0" y="851"/>
                  </a:lnTo>
                  <a:lnTo>
                    <a:pt x="341" y="681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7267680" y="5856120"/>
            <a:ext cx="412560" cy="480960"/>
            <a:chOff x="7267680" y="5856120"/>
            <a:chExt cx="412560" cy="480960"/>
          </a:xfrm>
        </p:grpSpPr>
        <p:sp>
          <p:nvSpPr>
            <p:cNvPr id="467" name=""/>
            <p:cNvSpPr/>
            <p:nvPr/>
          </p:nvSpPr>
          <p:spPr>
            <a:xfrm>
              <a:off x="7404120" y="5925960"/>
              <a:ext cx="276120" cy="411120"/>
            </a:xfrm>
            <a:custGeom>
              <a:avLst/>
              <a:gdLst/>
              <a:ahLst/>
              <a:rect l="l" t="t" r="r" b="b"/>
              <a:pathLst>
                <a:path w="341" h="510">
                  <a:moveTo>
                    <a:pt x="0" y="51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340"/>
                  </a:lnTo>
                  <a:lnTo>
                    <a:pt x="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67680" y="5994360"/>
              <a:ext cx="136440" cy="342720"/>
            </a:xfrm>
            <a:custGeom>
              <a:avLst/>
              <a:gdLst/>
              <a:ahLst/>
              <a:rect l="l" t="t" r="r" b="b"/>
              <a:pathLst>
                <a:path w="170" h="425">
                  <a:moveTo>
                    <a:pt x="170" y="425"/>
                  </a:moveTo>
                  <a:lnTo>
                    <a:pt x="170" y="85"/>
                  </a:lnTo>
                  <a:lnTo>
                    <a:pt x="0" y="0"/>
                  </a:lnTo>
                  <a:lnTo>
                    <a:pt x="0" y="340"/>
                  </a:lnTo>
                  <a:lnTo>
                    <a:pt x="17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67680" y="5856120"/>
              <a:ext cx="412560" cy="2080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fe9dbd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353880" y="2662200"/>
            <a:ext cx="809640" cy="539640"/>
            <a:chOff x="353880" y="2662200"/>
            <a:chExt cx="809640" cy="539640"/>
          </a:xfrm>
        </p:grpSpPr>
        <p:sp>
          <p:nvSpPr>
            <p:cNvPr id="471" name=""/>
            <p:cNvSpPr/>
            <p:nvPr/>
          </p:nvSpPr>
          <p:spPr>
            <a:xfrm>
              <a:off x="893520" y="2931840"/>
              <a:ext cx="270000" cy="27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0" y="340"/>
                  </a:moveTo>
                  <a:lnTo>
                    <a:pt x="0" y="170"/>
                  </a:lnTo>
                  <a:lnTo>
                    <a:pt x="340" y="0"/>
                  </a:lnTo>
                  <a:lnTo>
                    <a:pt x="340" y="170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3880" y="2796840"/>
              <a:ext cx="539640" cy="40500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51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680" y="340"/>
                  </a:lnTo>
                  <a:lnTo>
                    <a:pt x="68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53880" y="2662200"/>
              <a:ext cx="809640" cy="40464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07800" y="1940040"/>
            <a:ext cx="811080" cy="675720"/>
            <a:chOff x="307800" y="1940040"/>
            <a:chExt cx="811080" cy="675720"/>
          </a:xfrm>
        </p:grpSpPr>
        <p:sp>
          <p:nvSpPr>
            <p:cNvPr id="475" name=""/>
            <p:cNvSpPr/>
            <p:nvPr/>
          </p:nvSpPr>
          <p:spPr>
            <a:xfrm>
              <a:off x="849240" y="2211120"/>
              <a:ext cx="269640" cy="404640"/>
            </a:xfrm>
            <a:custGeom>
              <a:avLst/>
              <a:gdLst/>
              <a:ahLst/>
              <a:rect l="l" t="t" r="r" b="b"/>
              <a:pathLst>
                <a:path w="170" h="255">
                  <a:moveTo>
                    <a:pt x="0" y="255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170"/>
                  </a:lnTo>
                  <a:lnTo>
                    <a:pt x="0" y="255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09240" y="207612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34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340" y="170"/>
                  </a:lnTo>
                  <a:lnTo>
                    <a:pt x="34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07800" y="1940040"/>
              <a:ext cx="809640" cy="40464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307800" y="1130400"/>
            <a:ext cx="809640" cy="809640"/>
            <a:chOff x="307800" y="1130400"/>
            <a:chExt cx="809640" cy="809640"/>
          </a:xfrm>
        </p:grpSpPr>
        <p:sp>
          <p:nvSpPr>
            <p:cNvPr id="479" name=""/>
            <p:cNvSpPr/>
            <p:nvPr/>
          </p:nvSpPr>
          <p:spPr>
            <a:xfrm>
              <a:off x="307800" y="1130400"/>
              <a:ext cx="809640" cy="40500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7800" y="1265400"/>
              <a:ext cx="539640" cy="674640"/>
            </a:xfrm>
            <a:custGeom>
              <a:avLst/>
              <a:gdLst/>
              <a:ahLst/>
              <a:rect l="l" t="t" r="r" b="b"/>
              <a:pathLst>
                <a:path w="340" h="425">
                  <a:moveTo>
                    <a:pt x="340" y="425"/>
                  </a:moveTo>
                  <a:lnTo>
                    <a:pt x="340" y="17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34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47440" y="1400400"/>
              <a:ext cx="270000" cy="539640"/>
            </a:xfrm>
            <a:custGeom>
              <a:avLst/>
              <a:gdLst/>
              <a:ahLst/>
              <a:rect l="l" t="t" r="r" b="b"/>
              <a:pathLst>
                <a:path w="170" h="340">
                  <a:moveTo>
                    <a:pt x="0" y="85"/>
                  </a:moveTo>
                  <a:lnTo>
                    <a:pt x="170" y="0"/>
                  </a:lnTo>
                  <a:lnTo>
                    <a:pt x="170" y="255"/>
                  </a:lnTo>
                  <a:lnTo>
                    <a:pt x="0" y="340"/>
                  </a:lnTo>
                  <a:lnTo>
                    <a:pt x="0" y="85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1343160" y="2527200"/>
            <a:ext cx="1081080" cy="674640"/>
            <a:chOff x="1343160" y="2527200"/>
            <a:chExt cx="1081080" cy="674640"/>
          </a:xfrm>
        </p:grpSpPr>
        <p:sp>
          <p:nvSpPr>
            <p:cNvPr id="483" name=""/>
            <p:cNvSpPr/>
            <p:nvPr/>
          </p:nvSpPr>
          <p:spPr>
            <a:xfrm>
              <a:off x="1882800" y="2796840"/>
              <a:ext cx="541440" cy="405000"/>
            </a:xfrm>
            <a:custGeom>
              <a:avLst/>
              <a:gdLst/>
              <a:ahLst/>
              <a:rect l="l" t="t" r="r" b="b"/>
              <a:pathLst>
                <a:path w="341" h="255">
                  <a:moveTo>
                    <a:pt x="0" y="25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85"/>
                  </a:lnTo>
                  <a:lnTo>
                    <a:pt x="0" y="255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43160" y="2796840"/>
              <a:ext cx="539640" cy="405000"/>
            </a:xfrm>
            <a:custGeom>
              <a:avLst/>
              <a:gdLst/>
              <a:ahLst/>
              <a:rect l="l" t="t" r="r" b="b"/>
              <a:pathLst>
                <a:path w="340" h="255">
                  <a:moveTo>
                    <a:pt x="340" y="170"/>
                  </a:moveTo>
                  <a:lnTo>
                    <a:pt x="340" y="255"/>
                  </a:lnTo>
                  <a:lnTo>
                    <a:pt x="0" y="85"/>
                  </a:lnTo>
                  <a:lnTo>
                    <a:pt x="0" y="0"/>
                  </a:lnTo>
                  <a:lnTo>
                    <a:pt x="34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43160" y="252720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1343160" y="1671480"/>
            <a:ext cx="1081080" cy="809640"/>
            <a:chOff x="1343160" y="1671480"/>
            <a:chExt cx="1081080" cy="809640"/>
          </a:xfrm>
        </p:grpSpPr>
        <p:sp>
          <p:nvSpPr>
            <p:cNvPr id="487" name=""/>
            <p:cNvSpPr/>
            <p:nvPr/>
          </p:nvSpPr>
          <p:spPr>
            <a:xfrm>
              <a:off x="1343160" y="167148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882800" y="1941480"/>
              <a:ext cx="541440" cy="539640"/>
            </a:xfrm>
            <a:custGeom>
              <a:avLst/>
              <a:gdLst/>
              <a:ahLst/>
              <a:rect l="l" t="t" r="r" b="b"/>
              <a:pathLst>
                <a:path w="341" h="340">
                  <a:moveTo>
                    <a:pt x="0" y="170"/>
                  </a:moveTo>
                  <a:lnTo>
                    <a:pt x="341" y="0"/>
                  </a:lnTo>
                  <a:lnTo>
                    <a:pt x="341" y="170"/>
                  </a:lnTo>
                  <a:lnTo>
                    <a:pt x="0" y="340"/>
                  </a:lnTo>
                  <a:lnTo>
                    <a:pt x="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43160" y="194148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34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340" y="170"/>
                  </a:lnTo>
                  <a:lnTo>
                    <a:pt x="34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1343160" y="636480"/>
            <a:ext cx="1081080" cy="944280"/>
            <a:chOff x="1343160" y="636480"/>
            <a:chExt cx="1081080" cy="944280"/>
          </a:xfrm>
        </p:grpSpPr>
        <p:sp>
          <p:nvSpPr>
            <p:cNvPr id="491" name=""/>
            <p:cNvSpPr/>
            <p:nvPr/>
          </p:nvSpPr>
          <p:spPr>
            <a:xfrm>
              <a:off x="1343160" y="63648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43160" y="906120"/>
              <a:ext cx="539640" cy="674640"/>
            </a:xfrm>
            <a:custGeom>
              <a:avLst/>
              <a:gdLst/>
              <a:ahLst/>
              <a:rect l="l" t="t" r="r" b="b"/>
              <a:pathLst>
                <a:path w="340" h="425">
                  <a:moveTo>
                    <a:pt x="0" y="0"/>
                  </a:moveTo>
                  <a:lnTo>
                    <a:pt x="340" y="170"/>
                  </a:lnTo>
                  <a:lnTo>
                    <a:pt x="340" y="425"/>
                  </a:lnTo>
                  <a:lnTo>
                    <a:pt x="0" y="25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82800" y="906120"/>
              <a:ext cx="541440" cy="674640"/>
            </a:xfrm>
            <a:custGeom>
              <a:avLst/>
              <a:gdLst/>
              <a:ahLst/>
              <a:rect l="l" t="t" r="r" b="b"/>
              <a:pathLst>
                <a:path w="341" h="425">
                  <a:moveTo>
                    <a:pt x="341" y="0"/>
                  </a:moveTo>
                  <a:lnTo>
                    <a:pt x="341" y="255"/>
                  </a:lnTo>
                  <a:lnTo>
                    <a:pt x="0" y="425"/>
                  </a:lnTo>
                  <a:lnTo>
                    <a:pt x="0" y="170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4268880" y="2257560"/>
            <a:ext cx="1620720" cy="943920"/>
            <a:chOff x="4268880" y="2257560"/>
            <a:chExt cx="1620720" cy="943920"/>
          </a:xfrm>
        </p:grpSpPr>
        <p:sp>
          <p:nvSpPr>
            <p:cNvPr id="495" name=""/>
            <p:cNvSpPr/>
            <p:nvPr/>
          </p:nvSpPr>
          <p:spPr>
            <a:xfrm>
              <a:off x="5348160" y="2796840"/>
              <a:ext cx="541080" cy="404640"/>
            </a:xfrm>
            <a:custGeom>
              <a:avLst/>
              <a:gdLst/>
              <a:ahLst/>
              <a:rect l="l" t="t" r="r" b="b"/>
              <a:pathLst>
                <a:path w="341" h="255">
                  <a:moveTo>
                    <a:pt x="0" y="25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85"/>
                  </a:lnTo>
                  <a:lnTo>
                    <a:pt x="0" y="255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68880" y="2527200"/>
              <a:ext cx="1079280" cy="674280"/>
            </a:xfrm>
            <a:custGeom>
              <a:avLst/>
              <a:gdLst/>
              <a:ahLst/>
              <a:rect l="l" t="t" r="r" b="b"/>
              <a:pathLst>
                <a:path w="680" h="425">
                  <a:moveTo>
                    <a:pt x="680" y="340"/>
                  </a:moveTo>
                  <a:lnTo>
                    <a:pt x="680" y="425"/>
                  </a:lnTo>
                  <a:lnTo>
                    <a:pt x="0" y="85"/>
                  </a:lnTo>
                  <a:lnTo>
                    <a:pt x="0" y="0"/>
                  </a:lnTo>
                  <a:lnTo>
                    <a:pt x="68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68880" y="2257560"/>
              <a:ext cx="1620720" cy="80928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4268880" y="1266840"/>
            <a:ext cx="1620720" cy="1079640"/>
            <a:chOff x="4268880" y="1266840"/>
            <a:chExt cx="1620720" cy="1079640"/>
          </a:xfrm>
        </p:grpSpPr>
        <p:sp>
          <p:nvSpPr>
            <p:cNvPr id="499" name=""/>
            <p:cNvSpPr/>
            <p:nvPr/>
          </p:nvSpPr>
          <p:spPr>
            <a:xfrm>
              <a:off x="4268880" y="1266840"/>
              <a:ext cx="1620720" cy="80964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268880" y="1536840"/>
              <a:ext cx="1079280" cy="80964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510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68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348160" y="1806840"/>
              <a:ext cx="541080" cy="539640"/>
            </a:xfrm>
            <a:custGeom>
              <a:avLst/>
              <a:gdLst/>
              <a:ahLst/>
              <a:rect l="l" t="t" r="r" b="b"/>
              <a:pathLst>
                <a:path w="341" h="340">
                  <a:moveTo>
                    <a:pt x="0" y="34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170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4268880" y="187200"/>
            <a:ext cx="1621800" cy="1214280"/>
            <a:chOff x="4268880" y="187200"/>
            <a:chExt cx="1621800" cy="1214280"/>
          </a:xfrm>
        </p:grpSpPr>
        <p:sp>
          <p:nvSpPr>
            <p:cNvPr id="503" name=""/>
            <p:cNvSpPr/>
            <p:nvPr/>
          </p:nvSpPr>
          <p:spPr>
            <a:xfrm>
              <a:off x="5349600" y="726840"/>
              <a:ext cx="541080" cy="674640"/>
            </a:xfrm>
            <a:custGeom>
              <a:avLst/>
              <a:gdLst/>
              <a:ahLst/>
              <a:rect l="l" t="t" r="r" b="b"/>
              <a:pathLst>
                <a:path w="341" h="425">
                  <a:moveTo>
                    <a:pt x="0" y="42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255"/>
                  </a:lnTo>
                  <a:lnTo>
                    <a:pt x="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68880" y="187200"/>
              <a:ext cx="1620720" cy="80964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68880" y="456840"/>
              <a:ext cx="1079280" cy="944640"/>
            </a:xfrm>
            <a:custGeom>
              <a:avLst/>
              <a:gdLst/>
              <a:ahLst/>
              <a:rect l="l" t="t" r="r" b="b"/>
              <a:pathLst>
                <a:path w="680" h="595">
                  <a:moveTo>
                    <a:pt x="680" y="595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680" y="595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2603520" y="2392200"/>
            <a:ext cx="1351080" cy="809640"/>
            <a:chOff x="2603520" y="2392200"/>
            <a:chExt cx="1351080" cy="809640"/>
          </a:xfrm>
        </p:grpSpPr>
        <p:sp>
          <p:nvSpPr>
            <p:cNvPr id="507" name=""/>
            <p:cNvSpPr/>
            <p:nvPr/>
          </p:nvSpPr>
          <p:spPr>
            <a:xfrm>
              <a:off x="2603520" y="2392200"/>
              <a:ext cx="1349280" cy="67500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03520" y="2527200"/>
              <a:ext cx="1079640" cy="674640"/>
            </a:xfrm>
            <a:custGeom>
              <a:avLst/>
              <a:gdLst/>
              <a:ahLst/>
              <a:rect l="l" t="t" r="r" b="b"/>
              <a:pathLst>
                <a:path w="680" h="425">
                  <a:moveTo>
                    <a:pt x="0" y="0"/>
                  </a:moveTo>
                  <a:lnTo>
                    <a:pt x="680" y="340"/>
                  </a:lnTo>
                  <a:lnTo>
                    <a:pt x="680" y="425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84600" y="2932200"/>
              <a:ext cx="27000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0" y="170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85"/>
                  </a:lnTo>
                  <a:lnTo>
                    <a:pt x="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603520" y="1717560"/>
            <a:ext cx="1351080" cy="944640"/>
            <a:chOff x="2603520" y="1717560"/>
            <a:chExt cx="1351080" cy="944640"/>
          </a:xfrm>
        </p:grpSpPr>
        <p:sp>
          <p:nvSpPr>
            <p:cNvPr id="511" name=""/>
            <p:cNvSpPr/>
            <p:nvPr/>
          </p:nvSpPr>
          <p:spPr>
            <a:xfrm>
              <a:off x="3684600" y="2257200"/>
              <a:ext cx="270000" cy="405000"/>
            </a:xfrm>
            <a:custGeom>
              <a:avLst/>
              <a:gdLst/>
              <a:ahLst/>
              <a:rect l="l" t="t" r="r" b="b"/>
              <a:pathLst>
                <a:path w="170" h="255">
                  <a:moveTo>
                    <a:pt x="170" y="0"/>
                  </a:moveTo>
                  <a:lnTo>
                    <a:pt x="170" y="170"/>
                  </a:lnTo>
                  <a:lnTo>
                    <a:pt x="0" y="255"/>
                  </a:lnTo>
                  <a:lnTo>
                    <a:pt x="0" y="85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605320" y="1852560"/>
              <a:ext cx="1079280" cy="80964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340"/>
                  </a:moveTo>
                  <a:lnTo>
                    <a:pt x="680" y="510"/>
                  </a:lnTo>
                  <a:lnTo>
                    <a:pt x="0" y="170"/>
                  </a:lnTo>
                  <a:lnTo>
                    <a:pt x="0" y="0"/>
                  </a:lnTo>
                  <a:lnTo>
                    <a:pt x="68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603520" y="1717560"/>
              <a:ext cx="1349640" cy="67464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2649600" y="907920"/>
            <a:ext cx="1349280" cy="1079280"/>
            <a:chOff x="2649600" y="907920"/>
            <a:chExt cx="1349280" cy="1079280"/>
          </a:xfrm>
        </p:grpSpPr>
        <p:sp>
          <p:nvSpPr>
            <p:cNvPr id="515" name=""/>
            <p:cNvSpPr/>
            <p:nvPr/>
          </p:nvSpPr>
          <p:spPr>
            <a:xfrm>
              <a:off x="2649600" y="1042920"/>
              <a:ext cx="1079280" cy="944280"/>
            </a:xfrm>
            <a:custGeom>
              <a:avLst/>
              <a:gdLst/>
              <a:ahLst/>
              <a:rect l="l" t="t" r="r" b="b"/>
              <a:pathLst>
                <a:path w="680" h="595">
                  <a:moveTo>
                    <a:pt x="680" y="595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680" y="595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28880" y="1447560"/>
              <a:ext cx="269640" cy="539640"/>
            </a:xfrm>
            <a:custGeom>
              <a:avLst/>
              <a:gdLst/>
              <a:ahLst/>
              <a:rect l="l" t="t" r="r" b="b"/>
              <a:pathLst>
                <a:path w="170" h="340">
                  <a:moveTo>
                    <a:pt x="0" y="340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255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649600" y="907920"/>
              <a:ext cx="1349280" cy="67464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6429240" y="1041480"/>
            <a:ext cx="539640" cy="1350360"/>
            <a:chOff x="6429240" y="1041480"/>
            <a:chExt cx="539640" cy="1350360"/>
          </a:xfrm>
        </p:grpSpPr>
        <p:sp>
          <p:nvSpPr>
            <p:cNvPr id="519" name=""/>
            <p:cNvSpPr/>
            <p:nvPr/>
          </p:nvSpPr>
          <p:spPr>
            <a:xfrm>
              <a:off x="6429240" y="1177560"/>
              <a:ext cx="269640" cy="121428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98880" y="1177560"/>
              <a:ext cx="270000" cy="121428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0" y="765"/>
                  </a:moveTo>
                  <a:lnTo>
                    <a:pt x="170" y="680"/>
                  </a:lnTo>
                  <a:lnTo>
                    <a:pt x="170" y="0"/>
                  </a:lnTo>
                  <a:lnTo>
                    <a:pt x="0" y="85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29240" y="1041480"/>
              <a:ext cx="539640" cy="271080"/>
            </a:xfrm>
            <a:custGeom>
              <a:avLst/>
              <a:gdLst/>
              <a:ahLst/>
              <a:rect l="l" t="t" r="r" b="b"/>
              <a:pathLst>
                <a:path w="340" h="171">
                  <a:moveTo>
                    <a:pt x="340" y="86"/>
                  </a:moveTo>
                  <a:lnTo>
                    <a:pt x="170" y="0"/>
                  </a:lnTo>
                  <a:lnTo>
                    <a:pt x="0" y="86"/>
                  </a:lnTo>
                  <a:lnTo>
                    <a:pt x="170" y="171"/>
                  </a:lnTo>
                  <a:lnTo>
                    <a:pt x="340" y="86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7059600" y="952560"/>
            <a:ext cx="811080" cy="1485360"/>
            <a:chOff x="7059600" y="952560"/>
            <a:chExt cx="811080" cy="1485360"/>
          </a:xfrm>
        </p:grpSpPr>
        <p:sp>
          <p:nvSpPr>
            <p:cNvPr id="523" name=""/>
            <p:cNvSpPr/>
            <p:nvPr/>
          </p:nvSpPr>
          <p:spPr>
            <a:xfrm>
              <a:off x="7059600" y="1223640"/>
              <a:ext cx="269640" cy="121428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059600" y="952560"/>
              <a:ext cx="811080" cy="4060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29240" y="1087200"/>
              <a:ext cx="541080" cy="1350720"/>
            </a:xfrm>
            <a:custGeom>
              <a:avLst/>
              <a:gdLst/>
              <a:ahLst/>
              <a:rect l="l" t="t" r="r" b="b"/>
              <a:pathLst>
                <a:path w="341" h="851">
                  <a:moveTo>
                    <a:pt x="341" y="0"/>
                  </a:moveTo>
                  <a:lnTo>
                    <a:pt x="0" y="171"/>
                  </a:lnTo>
                  <a:lnTo>
                    <a:pt x="0" y="851"/>
                  </a:lnTo>
                  <a:lnTo>
                    <a:pt x="341" y="681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8004240" y="1403280"/>
            <a:ext cx="811080" cy="944280"/>
            <a:chOff x="8004240" y="1403280"/>
            <a:chExt cx="811080" cy="944280"/>
          </a:xfrm>
        </p:grpSpPr>
        <p:sp>
          <p:nvSpPr>
            <p:cNvPr id="527" name=""/>
            <p:cNvSpPr/>
            <p:nvPr/>
          </p:nvSpPr>
          <p:spPr>
            <a:xfrm>
              <a:off x="8273880" y="1537920"/>
              <a:ext cx="541080" cy="809640"/>
            </a:xfrm>
            <a:custGeom>
              <a:avLst/>
              <a:gdLst/>
              <a:ahLst/>
              <a:rect l="l" t="t" r="r" b="b"/>
              <a:pathLst>
                <a:path w="341" h="510">
                  <a:moveTo>
                    <a:pt x="0" y="51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340"/>
                  </a:lnTo>
                  <a:lnTo>
                    <a:pt x="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004240" y="1672920"/>
              <a:ext cx="269640" cy="674640"/>
            </a:xfrm>
            <a:custGeom>
              <a:avLst/>
              <a:gdLst/>
              <a:ahLst/>
              <a:rect l="l" t="t" r="r" b="b"/>
              <a:pathLst>
                <a:path w="170" h="425">
                  <a:moveTo>
                    <a:pt x="170" y="425"/>
                  </a:moveTo>
                  <a:lnTo>
                    <a:pt x="170" y="85"/>
                  </a:lnTo>
                  <a:lnTo>
                    <a:pt x="0" y="0"/>
                  </a:lnTo>
                  <a:lnTo>
                    <a:pt x="0" y="340"/>
                  </a:lnTo>
                  <a:lnTo>
                    <a:pt x="17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04240" y="1403280"/>
              <a:ext cx="811080" cy="4060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6429240" y="2581200"/>
            <a:ext cx="274680" cy="687240"/>
            <a:chOff x="6429240" y="2581200"/>
            <a:chExt cx="274680" cy="687240"/>
          </a:xfrm>
        </p:grpSpPr>
        <p:sp>
          <p:nvSpPr>
            <p:cNvPr id="531" name=""/>
            <p:cNvSpPr/>
            <p:nvPr/>
          </p:nvSpPr>
          <p:spPr>
            <a:xfrm>
              <a:off x="6429240" y="2651040"/>
              <a:ext cx="13788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67120" y="2651040"/>
              <a:ext cx="13680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0" y="765"/>
                  </a:moveTo>
                  <a:lnTo>
                    <a:pt x="170" y="680"/>
                  </a:lnTo>
                  <a:lnTo>
                    <a:pt x="170" y="0"/>
                  </a:lnTo>
                  <a:lnTo>
                    <a:pt x="0" y="85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429240" y="2581200"/>
              <a:ext cx="274680" cy="137880"/>
            </a:xfrm>
            <a:custGeom>
              <a:avLst/>
              <a:gdLst/>
              <a:ahLst/>
              <a:rect l="l" t="t" r="r" b="b"/>
              <a:pathLst>
                <a:path w="340" h="171">
                  <a:moveTo>
                    <a:pt x="340" y="86"/>
                  </a:moveTo>
                  <a:lnTo>
                    <a:pt x="170" y="0"/>
                  </a:lnTo>
                  <a:lnTo>
                    <a:pt x="0" y="86"/>
                  </a:lnTo>
                  <a:lnTo>
                    <a:pt x="170" y="171"/>
                  </a:lnTo>
                  <a:lnTo>
                    <a:pt x="340" y="86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6750000" y="2536920"/>
            <a:ext cx="412560" cy="755640"/>
            <a:chOff x="6750000" y="2536920"/>
            <a:chExt cx="412560" cy="755640"/>
          </a:xfrm>
        </p:grpSpPr>
        <p:sp>
          <p:nvSpPr>
            <p:cNvPr id="535" name=""/>
            <p:cNvSpPr/>
            <p:nvPr/>
          </p:nvSpPr>
          <p:spPr>
            <a:xfrm>
              <a:off x="6750000" y="2675160"/>
              <a:ext cx="13788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750000" y="2536920"/>
              <a:ext cx="412560" cy="2062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87880" y="2605320"/>
              <a:ext cx="274680" cy="687240"/>
            </a:xfrm>
            <a:custGeom>
              <a:avLst/>
              <a:gdLst/>
              <a:ahLst/>
              <a:rect l="l" t="t" r="r" b="b"/>
              <a:pathLst>
                <a:path w="341" h="851">
                  <a:moveTo>
                    <a:pt x="341" y="0"/>
                  </a:moveTo>
                  <a:lnTo>
                    <a:pt x="0" y="171"/>
                  </a:lnTo>
                  <a:lnTo>
                    <a:pt x="0" y="851"/>
                  </a:lnTo>
                  <a:lnTo>
                    <a:pt x="341" y="681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7230960" y="2765520"/>
            <a:ext cx="412560" cy="480960"/>
            <a:chOff x="7230960" y="2765520"/>
            <a:chExt cx="412560" cy="480960"/>
          </a:xfrm>
        </p:grpSpPr>
        <p:sp>
          <p:nvSpPr>
            <p:cNvPr id="539" name=""/>
            <p:cNvSpPr/>
            <p:nvPr/>
          </p:nvSpPr>
          <p:spPr>
            <a:xfrm>
              <a:off x="7367400" y="2835360"/>
              <a:ext cx="276120" cy="411120"/>
            </a:xfrm>
            <a:custGeom>
              <a:avLst/>
              <a:gdLst/>
              <a:ahLst/>
              <a:rect l="l" t="t" r="r" b="b"/>
              <a:pathLst>
                <a:path w="341" h="510">
                  <a:moveTo>
                    <a:pt x="0" y="51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340"/>
                  </a:lnTo>
                  <a:lnTo>
                    <a:pt x="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230960" y="2903760"/>
              <a:ext cx="136440" cy="342720"/>
            </a:xfrm>
            <a:custGeom>
              <a:avLst/>
              <a:gdLst/>
              <a:ahLst/>
              <a:rect l="l" t="t" r="r" b="b"/>
              <a:pathLst>
                <a:path w="170" h="425">
                  <a:moveTo>
                    <a:pt x="170" y="425"/>
                  </a:moveTo>
                  <a:lnTo>
                    <a:pt x="170" y="85"/>
                  </a:lnTo>
                  <a:lnTo>
                    <a:pt x="0" y="0"/>
                  </a:lnTo>
                  <a:lnTo>
                    <a:pt x="0" y="340"/>
                  </a:lnTo>
                  <a:lnTo>
                    <a:pt x="17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30960" y="2765520"/>
              <a:ext cx="412560" cy="2080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390600" y="5753160"/>
            <a:ext cx="809640" cy="539640"/>
            <a:chOff x="390600" y="5753160"/>
            <a:chExt cx="809640" cy="539640"/>
          </a:xfrm>
        </p:grpSpPr>
        <p:sp>
          <p:nvSpPr>
            <p:cNvPr id="543" name=""/>
            <p:cNvSpPr/>
            <p:nvPr/>
          </p:nvSpPr>
          <p:spPr>
            <a:xfrm>
              <a:off x="930240" y="6022800"/>
              <a:ext cx="270000" cy="27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0" y="340"/>
                  </a:moveTo>
                  <a:lnTo>
                    <a:pt x="0" y="170"/>
                  </a:lnTo>
                  <a:lnTo>
                    <a:pt x="340" y="0"/>
                  </a:lnTo>
                  <a:lnTo>
                    <a:pt x="340" y="170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0600" y="5887800"/>
              <a:ext cx="539640" cy="40500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51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680" y="340"/>
                  </a:lnTo>
                  <a:lnTo>
                    <a:pt x="68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90600" y="5753160"/>
              <a:ext cx="809640" cy="40464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44520" y="5030640"/>
            <a:ext cx="811080" cy="676440"/>
            <a:chOff x="344520" y="5030640"/>
            <a:chExt cx="811080" cy="676440"/>
          </a:xfrm>
        </p:grpSpPr>
        <p:sp>
          <p:nvSpPr>
            <p:cNvPr id="547" name=""/>
            <p:cNvSpPr/>
            <p:nvPr/>
          </p:nvSpPr>
          <p:spPr>
            <a:xfrm>
              <a:off x="885960" y="5302080"/>
              <a:ext cx="269640" cy="405000"/>
            </a:xfrm>
            <a:custGeom>
              <a:avLst/>
              <a:gdLst/>
              <a:ahLst/>
              <a:rect l="l" t="t" r="r" b="b"/>
              <a:pathLst>
                <a:path w="170" h="255">
                  <a:moveTo>
                    <a:pt x="0" y="255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170"/>
                  </a:lnTo>
                  <a:lnTo>
                    <a:pt x="0" y="255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45960" y="5167080"/>
              <a:ext cx="54000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34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340" y="170"/>
                  </a:lnTo>
                  <a:lnTo>
                    <a:pt x="34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4520" y="5030640"/>
              <a:ext cx="809640" cy="40500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344520" y="4221000"/>
            <a:ext cx="809640" cy="809640"/>
            <a:chOff x="344520" y="4221000"/>
            <a:chExt cx="809640" cy="809640"/>
          </a:xfrm>
        </p:grpSpPr>
        <p:sp>
          <p:nvSpPr>
            <p:cNvPr id="551" name=""/>
            <p:cNvSpPr/>
            <p:nvPr/>
          </p:nvSpPr>
          <p:spPr>
            <a:xfrm>
              <a:off x="344520" y="4221000"/>
              <a:ext cx="809640" cy="40500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44520" y="4356000"/>
              <a:ext cx="539640" cy="674640"/>
            </a:xfrm>
            <a:custGeom>
              <a:avLst/>
              <a:gdLst/>
              <a:ahLst/>
              <a:rect l="l" t="t" r="r" b="b"/>
              <a:pathLst>
                <a:path w="340" h="425">
                  <a:moveTo>
                    <a:pt x="340" y="425"/>
                  </a:moveTo>
                  <a:lnTo>
                    <a:pt x="340" y="17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34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84160" y="4491000"/>
              <a:ext cx="270000" cy="539640"/>
            </a:xfrm>
            <a:custGeom>
              <a:avLst/>
              <a:gdLst/>
              <a:ahLst/>
              <a:rect l="l" t="t" r="r" b="b"/>
              <a:pathLst>
                <a:path w="170" h="340">
                  <a:moveTo>
                    <a:pt x="0" y="85"/>
                  </a:moveTo>
                  <a:lnTo>
                    <a:pt x="170" y="0"/>
                  </a:lnTo>
                  <a:lnTo>
                    <a:pt x="170" y="255"/>
                  </a:lnTo>
                  <a:lnTo>
                    <a:pt x="0" y="340"/>
                  </a:lnTo>
                  <a:lnTo>
                    <a:pt x="0" y="85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1379520" y="5618160"/>
            <a:ext cx="1081080" cy="674640"/>
            <a:chOff x="1379520" y="5618160"/>
            <a:chExt cx="1081080" cy="674640"/>
          </a:xfrm>
        </p:grpSpPr>
        <p:sp>
          <p:nvSpPr>
            <p:cNvPr id="555" name=""/>
            <p:cNvSpPr/>
            <p:nvPr/>
          </p:nvSpPr>
          <p:spPr>
            <a:xfrm>
              <a:off x="1919160" y="5887800"/>
              <a:ext cx="541440" cy="405000"/>
            </a:xfrm>
            <a:custGeom>
              <a:avLst/>
              <a:gdLst/>
              <a:ahLst/>
              <a:rect l="l" t="t" r="r" b="b"/>
              <a:pathLst>
                <a:path w="341" h="255">
                  <a:moveTo>
                    <a:pt x="0" y="25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85"/>
                  </a:lnTo>
                  <a:lnTo>
                    <a:pt x="0" y="255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379520" y="5887800"/>
              <a:ext cx="539640" cy="405000"/>
            </a:xfrm>
            <a:custGeom>
              <a:avLst/>
              <a:gdLst/>
              <a:ahLst/>
              <a:rect l="l" t="t" r="r" b="b"/>
              <a:pathLst>
                <a:path w="340" h="255">
                  <a:moveTo>
                    <a:pt x="340" y="170"/>
                  </a:moveTo>
                  <a:lnTo>
                    <a:pt x="340" y="255"/>
                  </a:lnTo>
                  <a:lnTo>
                    <a:pt x="0" y="85"/>
                  </a:lnTo>
                  <a:lnTo>
                    <a:pt x="0" y="0"/>
                  </a:lnTo>
                  <a:lnTo>
                    <a:pt x="34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379520" y="561816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1379520" y="4762440"/>
            <a:ext cx="1081080" cy="809640"/>
            <a:chOff x="1379520" y="4762440"/>
            <a:chExt cx="1081080" cy="809640"/>
          </a:xfrm>
        </p:grpSpPr>
        <p:sp>
          <p:nvSpPr>
            <p:cNvPr id="559" name=""/>
            <p:cNvSpPr/>
            <p:nvPr/>
          </p:nvSpPr>
          <p:spPr>
            <a:xfrm>
              <a:off x="1379520" y="476244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919160" y="5032440"/>
              <a:ext cx="541440" cy="539640"/>
            </a:xfrm>
            <a:custGeom>
              <a:avLst/>
              <a:gdLst/>
              <a:ahLst/>
              <a:rect l="l" t="t" r="r" b="b"/>
              <a:pathLst>
                <a:path w="341" h="340">
                  <a:moveTo>
                    <a:pt x="0" y="170"/>
                  </a:moveTo>
                  <a:lnTo>
                    <a:pt x="341" y="0"/>
                  </a:lnTo>
                  <a:lnTo>
                    <a:pt x="341" y="170"/>
                  </a:lnTo>
                  <a:lnTo>
                    <a:pt x="0" y="340"/>
                  </a:lnTo>
                  <a:lnTo>
                    <a:pt x="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79520" y="503244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34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340" y="170"/>
                  </a:lnTo>
                  <a:lnTo>
                    <a:pt x="34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379520" y="3727440"/>
            <a:ext cx="1081080" cy="944280"/>
            <a:chOff x="1379520" y="3727440"/>
            <a:chExt cx="1081080" cy="944280"/>
          </a:xfrm>
        </p:grpSpPr>
        <p:sp>
          <p:nvSpPr>
            <p:cNvPr id="563" name=""/>
            <p:cNvSpPr/>
            <p:nvPr/>
          </p:nvSpPr>
          <p:spPr>
            <a:xfrm>
              <a:off x="1379520" y="372744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379520" y="3997080"/>
              <a:ext cx="539640" cy="674640"/>
            </a:xfrm>
            <a:custGeom>
              <a:avLst/>
              <a:gdLst/>
              <a:ahLst/>
              <a:rect l="l" t="t" r="r" b="b"/>
              <a:pathLst>
                <a:path w="340" h="425">
                  <a:moveTo>
                    <a:pt x="0" y="0"/>
                  </a:moveTo>
                  <a:lnTo>
                    <a:pt x="340" y="170"/>
                  </a:lnTo>
                  <a:lnTo>
                    <a:pt x="340" y="425"/>
                  </a:lnTo>
                  <a:lnTo>
                    <a:pt x="0" y="25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19160" y="3997080"/>
              <a:ext cx="541440" cy="674640"/>
            </a:xfrm>
            <a:custGeom>
              <a:avLst/>
              <a:gdLst/>
              <a:ahLst/>
              <a:rect l="l" t="t" r="r" b="b"/>
              <a:pathLst>
                <a:path w="341" h="425">
                  <a:moveTo>
                    <a:pt x="341" y="0"/>
                  </a:moveTo>
                  <a:lnTo>
                    <a:pt x="341" y="255"/>
                  </a:lnTo>
                  <a:lnTo>
                    <a:pt x="0" y="425"/>
                  </a:lnTo>
                  <a:lnTo>
                    <a:pt x="0" y="170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4305240" y="5348160"/>
            <a:ext cx="1620720" cy="944640"/>
            <a:chOff x="4305240" y="5348160"/>
            <a:chExt cx="1620720" cy="944640"/>
          </a:xfrm>
        </p:grpSpPr>
        <p:sp>
          <p:nvSpPr>
            <p:cNvPr id="567" name=""/>
            <p:cNvSpPr/>
            <p:nvPr/>
          </p:nvSpPr>
          <p:spPr>
            <a:xfrm>
              <a:off x="5384520" y="5887800"/>
              <a:ext cx="541080" cy="405000"/>
            </a:xfrm>
            <a:custGeom>
              <a:avLst/>
              <a:gdLst/>
              <a:ahLst/>
              <a:rect l="l" t="t" r="r" b="b"/>
              <a:pathLst>
                <a:path w="341" h="255">
                  <a:moveTo>
                    <a:pt x="0" y="25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85"/>
                  </a:lnTo>
                  <a:lnTo>
                    <a:pt x="0" y="255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05240" y="5618160"/>
              <a:ext cx="1079280" cy="674640"/>
            </a:xfrm>
            <a:custGeom>
              <a:avLst/>
              <a:gdLst/>
              <a:ahLst/>
              <a:rect l="l" t="t" r="r" b="b"/>
              <a:pathLst>
                <a:path w="680" h="425">
                  <a:moveTo>
                    <a:pt x="680" y="340"/>
                  </a:moveTo>
                  <a:lnTo>
                    <a:pt x="680" y="425"/>
                  </a:lnTo>
                  <a:lnTo>
                    <a:pt x="0" y="85"/>
                  </a:lnTo>
                  <a:lnTo>
                    <a:pt x="0" y="0"/>
                  </a:lnTo>
                  <a:lnTo>
                    <a:pt x="68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305240" y="5348160"/>
              <a:ext cx="1620720" cy="80964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305240" y="4357800"/>
            <a:ext cx="1620720" cy="1078920"/>
            <a:chOff x="4305240" y="4357800"/>
            <a:chExt cx="1620720" cy="1078920"/>
          </a:xfrm>
        </p:grpSpPr>
        <p:sp>
          <p:nvSpPr>
            <p:cNvPr id="571" name=""/>
            <p:cNvSpPr/>
            <p:nvPr/>
          </p:nvSpPr>
          <p:spPr>
            <a:xfrm>
              <a:off x="4305240" y="4357800"/>
              <a:ext cx="1620720" cy="80928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5240" y="4627440"/>
              <a:ext cx="1079280" cy="80928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510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68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84520" y="4897440"/>
              <a:ext cx="541080" cy="539280"/>
            </a:xfrm>
            <a:custGeom>
              <a:avLst/>
              <a:gdLst/>
              <a:ahLst/>
              <a:rect l="l" t="t" r="r" b="b"/>
              <a:pathLst>
                <a:path w="341" h="340">
                  <a:moveTo>
                    <a:pt x="0" y="34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170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305240" y="3278160"/>
            <a:ext cx="1622520" cy="1214280"/>
            <a:chOff x="4305240" y="3278160"/>
            <a:chExt cx="1622520" cy="1214280"/>
          </a:xfrm>
        </p:grpSpPr>
        <p:sp>
          <p:nvSpPr>
            <p:cNvPr id="575" name=""/>
            <p:cNvSpPr/>
            <p:nvPr/>
          </p:nvSpPr>
          <p:spPr>
            <a:xfrm>
              <a:off x="5386320" y="3817800"/>
              <a:ext cx="541440" cy="674640"/>
            </a:xfrm>
            <a:custGeom>
              <a:avLst/>
              <a:gdLst/>
              <a:ahLst/>
              <a:rect l="l" t="t" r="r" b="b"/>
              <a:pathLst>
                <a:path w="341" h="425">
                  <a:moveTo>
                    <a:pt x="0" y="42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255"/>
                  </a:lnTo>
                  <a:lnTo>
                    <a:pt x="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305240" y="3278160"/>
              <a:ext cx="1621080" cy="80964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305240" y="3547800"/>
              <a:ext cx="1079640" cy="944640"/>
            </a:xfrm>
            <a:custGeom>
              <a:avLst/>
              <a:gdLst/>
              <a:ahLst/>
              <a:rect l="l" t="t" r="r" b="b"/>
              <a:pathLst>
                <a:path w="680" h="595">
                  <a:moveTo>
                    <a:pt x="680" y="595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680" y="595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2639880" y="5483160"/>
            <a:ext cx="1351080" cy="809640"/>
            <a:chOff x="2639880" y="5483160"/>
            <a:chExt cx="1351080" cy="809640"/>
          </a:xfrm>
        </p:grpSpPr>
        <p:sp>
          <p:nvSpPr>
            <p:cNvPr id="579" name=""/>
            <p:cNvSpPr/>
            <p:nvPr/>
          </p:nvSpPr>
          <p:spPr>
            <a:xfrm>
              <a:off x="2639880" y="5483160"/>
              <a:ext cx="1349640" cy="67464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639880" y="5618160"/>
              <a:ext cx="1079640" cy="674640"/>
            </a:xfrm>
            <a:custGeom>
              <a:avLst/>
              <a:gdLst/>
              <a:ahLst/>
              <a:rect l="l" t="t" r="r" b="b"/>
              <a:pathLst>
                <a:path w="680" h="425">
                  <a:moveTo>
                    <a:pt x="0" y="0"/>
                  </a:moveTo>
                  <a:lnTo>
                    <a:pt x="680" y="340"/>
                  </a:lnTo>
                  <a:lnTo>
                    <a:pt x="680" y="425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720960" y="6022800"/>
              <a:ext cx="270000" cy="27000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0" y="170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85"/>
                  </a:lnTo>
                  <a:lnTo>
                    <a:pt x="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2639880" y="4808520"/>
            <a:ext cx="1351080" cy="944640"/>
            <a:chOff x="2639880" y="4808520"/>
            <a:chExt cx="1351080" cy="944640"/>
          </a:xfrm>
        </p:grpSpPr>
        <p:sp>
          <p:nvSpPr>
            <p:cNvPr id="583" name=""/>
            <p:cNvSpPr/>
            <p:nvPr/>
          </p:nvSpPr>
          <p:spPr>
            <a:xfrm>
              <a:off x="3720960" y="5348160"/>
              <a:ext cx="270000" cy="405000"/>
            </a:xfrm>
            <a:custGeom>
              <a:avLst/>
              <a:gdLst/>
              <a:ahLst/>
              <a:rect l="l" t="t" r="r" b="b"/>
              <a:pathLst>
                <a:path w="170" h="255">
                  <a:moveTo>
                    <a:pt x="170" y="0"/>
                  </a:moveTo>
                  <a:lnTo>
                    <a:pt x="170" y="170"/>
                  </a:lnTo>
                  <a:lnTo>
                    <a:pt x="0" y="255"/>
                  </a:lnTo>
                  <a:lnTo>
                    <a:pt x="0" y="85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41680" y="4943520"/>
              <a:ext cx="1079280" cy="80964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340"/>
                  </a:moveTo>
                  <a:lnTo>
                    <a:pt x="680" y="510"/>
                  </a:lnTo>
                  <a:lnTo>
                    <a:pt x="0" y="170"/>
                  </a:lnTo>
                  <a:lnTo>
                    <a:pt x="0" y="0"/>
                  </a:lnTo>
                  <a:lnTo>
                    <a:pt x="68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639880" y="4808520"/>
              <a:ext cx="1349640" cy="67464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2685960" y="3998880"/>
            <a:ext cx="1349640" cy="1079280"/>
            <a:chOff x="2685960" y="3998880"/>
            <a:chExt cx="1349640" cy="1079280"/>
          </a:xfrm>
        </p:grpSpPr>
        <p:sp>
          <p:nvSpPr>
            <p:cNvPr id="587" name=""/>
            <p:cNvSpPr/>
            <p:nvPr/>
          </p:nvSpPr>
          <p:spPr>
            <a:xfrm>
              <a:off x="2685960" y="4133880"/>
              <a:ext cx="1079640" cy="944280"/>
            </a:xfrm>
            <a:custGeom>
              <a:avLst/>
              <a:gdLst/>
              <a:ahLst/>
              <a:rect l="l" t="t" r="r" b="b"/>
              <a:pathLst>
                <a:path w="680" h="595">
                  <a:moveTo>
                    <a:pt x="680" y="595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680" y="595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765600" y="4538520"/>
              <a:ext cx="270000" cy="539640"/>
            </a:xfrm>
            <a:custGeom>
              <a:avLst/>
              <a:gdLst/>
              <a:ahLst/>
              <a:rect l="l" t="t" r="r" b="b"/>
              <a:pathLst>
                <a:path w="170" h="340">
                  <a:moveTo>
                    <a:pt x="0" y="340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255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685960" y="3998880"/>
              <a:ext cx="1349640" cy="67464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465960" y="4132440"/>
            <a:ext cx="539640" cy="1350360"/>
            <a:chOff x="6465960" y="4132440"/>
            <a:chExt cx="539640" cy="1350360"/>
          </a:xfrm>
        </p:grpSpPr>
        <p:sp>
          <p:nvSpPr>
            <p:cNvPr id="591" name=""/>
            <p:cNvSpPr/>
            <p:nvPr/>
          </p:nvSpPr>
          <p:spPr>
            <a:xfrm>
              <a:off x="6465960" y="4268520"/>
              <a:ext cx="269640" cy="121428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735600" y="4268520"/>
              <a:ext cx="270000" cy="121428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0" y="765"/>
                  </a:moveTo>
                  <a:lnTo>
                    <a:pt x="170" y="680"/>
                  </a:lnTo>
                  <a:lnTo>
                    <a:pt x="170" y="0"/>
                  </a:lnTo>
                  <a:lnTo>
                    <a:pt x="0" y="85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465960" y="4132440"/>
              <a:ext cx="539640" cy="271080"/>
            </a:xfrm>
            <a:custGeom>
              <a:avLst/>
              <a:gdLst/>
              <a:ahLst/>
              <a:rect l="l" t="t" r="r" b="b"/>
              <a:pathLst>
                <a:path w="340" h="171">
                  <a:moveTo>
                    <a:pt x="340" y="86"/>
                  </a:moveTo>
                  <a:lnTo>
                    <a:pt x="170" y="0"/>
                  </a:lnTo>
                  <a:lnTo>
                    <a:pt x="0" y="86"/>
                  </a:lnTo>
                  <a:lnTo>
                    <a:pt x="170" y="171"/>
                  </a:lnTo>
                  <a:lnTo>
                    <a:pt x="340" y="86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7095960" y="4043520"/>
            <a:ext cx="811440" cy="1485360"/>
            <a:chOff x="7095960" y="4043520"/>
            <a:chExt cx="811440" cy="1485360"/>
          </a:xfrm>
        </p:grpSpPr>
        <p:sp>
          <p:nvSpPr>
            <p:cNvPr id="595" name=""/>
            <p:cNvSpPr/>
            <p:nvPr/>
          </p:nvSpPr>
          <p:spPr>
            <a:xfrm>
              <a:off x="7095960" y="4314600"/>
              <a:ext cx="270000" cy="121428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95960" y="4043520"/>
              <a:ext cx="811440" cy="4060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365960" y="4178160"/>
              <a:ext cx="541440" cy="1350720"/>
            </a:xfrm>
            <a:custGeom>
              <a:avLst/>
              <a:gdLst/>
              <a:ahLst/>
              <a:rect l="l" t="t" r="r" b="b"/>
              <a:pathLst>
                <a:path w="341" h="851">
                  <a:moveTo>
                    <a:pt x="341" y="0"/>
                  </a:moveTo>
                  <a:lnTo>
                    <a:pt x="0" y="171"/>
                  </a:lnTo>
                  <a:lnTo>
                    <a:pt x="0" y="851"/>
                  </a:lnTo>
                  <a:lnTo>
                    <a:pt x="341" y="681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8040600" y="4494240"/>
            <a:ext cx="811440" cy="944280"/>
            <a:chOff x="8040600" y="4494240"/>
            <a:chExt cx="811440" cy="944280"/>
          </a:xfrm>
        </p:grpSpPr>
        <p:sp>
          <p:nvSpPr>
            <p:cNvPr id="599" name=""/>
            <p:cNvSpPr/>
            <p:nvPr/>
          </p:nvSpPr>
          <p:spPr>
            <a:xfrm>
              <a:off x="8310600" y="4628880"/>
              <a:ext cx="541440" cy="809640"/>
            </a:xfrm>
            <a:custGeom>
              <a:avLst/>
              <a:gdLst/>
              <a:ahLst/>
              <a:rect l="l" t="t" r="r" b="b"/>
              <a:pathLst>
                <a:path w="341" h="510">
                  <a:moveTo>
                    <a:pt x="0" y="51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340"/>
                  </a:lnTo>
                  <a:lnTo>
                    <a:pt x="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040600" y="4763880"/>
              <a:ext cx="270000" cy="674640"/>
            </a:xfrm>
            <a:custGeom>
              <a:avLst/>
              <a:gdLst/>
              <a:ahLst/>
              <a:rect l="l" t="t" r="r" b="b"/>
              <a:pathLst>
                <a:path w="170" h="425">
                  <a:moveTo>
                    <a:pt x="170" y="425"/>
                  </a:moveTo>
                  <a:lnTo>
                    <a:pt x="170" y="85"/>
                  </a:lnTo>
                  <a:lnTo>
                    <a:pt x="0" y="0"/>
                  </a:lnTo>
                  <a:lnTo>
                    <a:pt x="0" y="340"/>
                  </a:lnTo>
                  <a:lnTo>
                    <a:pt x="17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040600" y="4494240"/>
              <a:ext cx="811440" cy="4060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465960" y="5672160"/>
            <a:ext cx="274680" cy="687240"/>
            <a:chOff x="6465960" y="5672160"/>
            <a:chExt cx="274680" cy="687240"/>
          </a:xfrm>
        </p:grpSpPr>
        <p:sp>
          <p:nvSpPr>
            <p:cNvPr id="603" name=""/>
            <p:cNvSpPr/>
            <p:nvPr/>
          </p:nvSpPr>
          <p:spPr>
            <a:xfrm>
              <a:off x="6465960" y="5742000"/>
              <a:ext cx="13788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03840" y="5742000"/>
              <a:ext cx="13680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0" y="765"/>
                  </a:moveTo>
                  <a:lnTo>
                    <a:pt x="170" y="680"/>
                  </a:lnTo>
                  <a:lnTo>
                    <a:pt x="170" y="0"/>
                  </a:lnTo>
                  <a:lnTo>
                    <a:pt x="0" y="85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65960" y="5672160"/>
              <a:ext cx="274680" cy="137880"/>
            </a:xfrm>
            <a:custGeom>
              <a:avLst/>
              <a:gdLst/>
              <a:ahLst/>
              <a:rect l="l" t="t" r="r" b="b"/>
              <a:pathLst>
                <a:path w="340" h="171">
                  <a:moveTo>
                    <a:pt x="340" y="86"/>
                  </a:moveTo>
                  <a:lnTo>
                    <a:pt x="170" y="0"/>
                  </a:lnTo>
                  <a:lnTo>
                    <a:pt x="0" y="86"/>
                  </a:lnTo>
                  <a:lnTo>
                    <a:pt x="170" y="171"/>
                  </a:lnTo>
                  <a:lnTo>
                    <a:pt x="340" y="86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6786720" y="5627520"/>
            <a:ext cx="412560" cy="755640"/>
            <a:chOff x="6786720" y="5627520"/>
            <a:chExt cx="412560" cy="755640"/>
          </a:xfrm>
        </p:grpSpPr>
        <p:sp>
          <p:nvSpPr>
            <p:cNvPr id="607" name=""/>
            <p:cNvSpPr/>
            <p:nvPr/>
          </p:nvSpPr>
          <p:spPr>
            <a:xfrm>
              <a:off x="6786720" y="5765760"/>
              <a:ext cx="13788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786720" y="5627520"/>
              <a:ext cx="412560" cy="2062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924600" y="5695920"/>
              <a:ext cx="274680" cy="687240"/>
            </a:xfrm>
            <a:custGeom>
              <a:avLst/>
              <a:gdLst/>
              <a:ahLst/>
              <a:rect l="l" t="t" r="r" b="b"/>
              <a:pathLst>
                <a:path w="341" h="851">
                  <a:moveTo>
                    <a:pt x="341" y="0"/>
                  </a:moveTo>
                  <a:lnTo>
                    <a:pt x="0" y="171"/>
                  </a:lnTo>
                  <a:lnTo>
                    <a:pt x="0" y="851"/>
                  </a:lnTo>
                  <a:lnTo>
                    <a:pt x="341" y="681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7267680" y="5856120"/>
            <a:ext cx="412560" cy="480960"/>
            <a:chOff x="7267680" y="5856120"/>
            <a:chExt cx="412560" cy="480960"/>
          </a:xfrm>
        </p:grpSpPr>
        <p:sp>
          <p:nvSpPr>
            <p:cNvPr id="611" name=""/>
            <p:cNvSpPr/>
            <p:nvPr/>
          </p:nvSpPr>
          <p:spPr>
            <a:xfrm>
              <a:off x="7404120" y="5925960"/>
              <a:ext cx="276120" cy="411120"/>
            </a:xfrm>
            <a:custGeom>
              <a:avLst/>
              <a:gdLst/>
              <a:ahLst/>
              <a:rect l="l" t="t" r="r" b="b"/>
              <a:pathLst>
                <a:path w="341" h="510">
                  <a:moveTo>
                    <a:pt x="0" y="51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340"/>
                  </a:lnTo>
                  <a:lnTo>
                    <a:pt x="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267680" y="5994360"/>
              <a:ext cx="136440" cy="342720"/>
            </a:xfrm>
            <a:custGeom>
              <a:avLst/>
              <a:gdLst/>
              <a:ahLst/>
              <a:rect l="l" t="t" r="r" b="b"/>
              <a:pathLst>
                <a:path w="170" h="425">
                  <a:moveTo>
                    <a:pt x="170" y="425"/>
                  </a:moveTo>
                  <a:lnTo>
                    <a:pt x="170" y="85"/>
                  </a:lnTo>
                  <a:lnTo>
                    <a:pt x="0" y="0"/>
                  </a:lnTo>
                  <a:lnTo>
                    <a:pt x="0" y="340"/>
                  </a:lnTo>
                  <a:lnTo>
                    <a:pt x="17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67680" y="5856120"/>
              <a:ext cx="412560" cy="2080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"/>
          <p:cNvGrpSpPr/>
          <p:nvPr/>
        </p:nvGrpSpPr>
        <p:grpSpPr>
          <a:xfrm>
            <a:off x="415800" y="2637000"/>
            <a:ext cx="809640" cy="539640"/>
            <a:chOff x="415800" y="2637000"/>
            <a:chExt cx="809640" cy="539640"/>
          </a:xfrm>
        </p:grpSpPr>
        <p:sp>
          <p:nvSpPr>
            <p:cNvPr id="615" name=""/>
            <p:cNvSpPr/>
            <p:nvPr/>
          </p:nvSpPr>
          <p:spPr>
            <a:xfrm>
              <a:off x="955440" y="2906640"/>
              <a:ext cx="270000" cy="27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0" y="340"/>
                  </a:moveTo>
                  <a:lnTo>
                    <a:pt x="0" y="170"/>
                  </a:lnTo>
                  <a:lnTo>
                    <a:pt x="340" y="0"/>
                  </a:lnTo>
                  <a:lnTo>
                    <a:pt x="340" y="170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15800" y="2771640"/>
              <a:ext cx="539640" cy="40500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51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680" y="340"/>
                  </a:lnTo>
                  <a:lnTo>
                    <a:pt x="680" y="51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15800" y="2637000"/>
              <a:ext cx="809640" cy="40464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15800" y="1916280"/>
            <a:ext cx="811080" cy="675720"/>
            <a:chOff x="415800" y="1916280"/>
            <a:chExt cx="811080" cy="675720"/>
          </a:xfrm>
        </p:grpSpPr>
        <p:sp>
          <p:nvSpPr>
            <p:cNvPr id="619" name=""/>
            <p:cNvSpPr/>
            <p:nvPr/>
          </p:nvSpPr>
          <p:spPr>
            <a:xfrm>
              <a:off x="957240" y="2187360"/>
              <a:ext cx="269640" cy="404640"/>
            </a:xfrm>
            <a:custGeom>
              <a:avLst/>
              <a:gdLst/>
              <a:ahLst/>
              <a:rect l="l" t="t" r="r" b="b"/>
              <a:pathLst>
                <a:path w="170" h="255">
                  <a:moveTo>
                    <a:pt x="0" y="255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170"/>
                  </a:lnTo>
                  <a:lnTo>
                    <a:pt x="0" y="255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7240" y="205236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34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340" y="170"/>
                  </a:lnTo>
                  <a:lnTo>
                    <a:pt x="340" y="34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15800" y="1916280"/>
              <a:ext cx="809640" cy="40464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4232160" y="333360"/>
            <a:ext cx="1622520" cy="1214280"/>
            <a:chOff x="4232160" y="333360"/>
            <a:chExt cx="1622520" cy="1214280"/>
          </a:xfrm>
        </p:grpSpPr>
        <p:sp>
          <p:nvSpPr>
            <p:cNvPr id="623" name=""/>
            <p:cNvSpPr/>
            <p:nvPr/>
          </p:nvSpPr>
          <p:spPr>
            <a:xfrm>
              <a:off x="5313240" y="873000"/>
              <a:ext cx="541440" cy="674640"/>
            </a:xfrm>
            <a:custGeom>
              <a:avLst/>
              <a:gdLst/>
              <a:ahLst/>
              <a:rect l="l" t="t" r="r" b="b"/>
              <a:pathLst>
                <a:path w="341" h="425">
                  <a:moveTo>
                    <a:pt x="0" y="42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255"/>
                  </a:lnTo>
                  <a:lnTo>
                    <a:pt x="0" y="425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232160" y="333360"/>
              <a:ext cx="1621080" cy="80964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232160" y="603000"/>
              <a:ext cx="1079640" cy="944640"/>
            </a:xfrm>
            <a:custGeom>
              <a:avLst/>
              <a:gdLst/>
              <a:ahLst/>
              <a:rect l="l" t="t" r="r" b="b"/>
              <a:pathLst>
                <a:path w="680" h="595">
                  <a:moveTo>
                    <a:pt x="680" y="595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680" y="595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8048520" y="1484280"/>
            <a:ext cx="811440" cy="944280"/>
            <a:chOff x="8048520" y="1484280"/>
            <a:chExt cx="811440" cy="944280"/>
          </a:xfrm>
        </p:grpSpPr>
        <p:sp>
          <p:nvSpPr>
            <p:cNvPr id="627" name=""/>
            <p:cNvSpPr/>
            <p:nvPr/>
          </p:nvSpPr>
          <p:spPr>
            <a:xfrm>
              <a:off x="8318520" y="1618920"/>
              <a:ext cx="541440" cy="809640"/>
            </a:xfrm>
            <a:custGeom>
              <a:avLst/>
              <a:gdLst/>
              <a:ahLst/>
              <a:rect l="l" t="t" r="r" b="b"/>
              <a:pathLst>
                <a:path w="341" h="510">
                  <a:moveTo>
                    <a:pt x="0" y="51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340"/>
                  </a:lnTo>
                  <a:lnTo>
                    <a:pt x="0" y="51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048520" y="1753920"/>
              <a:ext cx="270000" cy="674640"/>
            </a:xfrm>
            <a:custGeom>
              <a:avLst/>
              <a:gdLst/>
              <a:ahLst/>
              <a:rect l="l" t="t" r="r" b="b"/>
              <a:pathLst>
                <a:path w="170" h="425">
                  <a:moveTo>
                    <a:pt x="170" y="425"/>
                  </a:moveTo>
                  <a:lnTo>
                    <a:pt x="170" y="85"/>
                  </a:lnTo>
                  <a:lnTo>
                    <a:pt x="0" y="0"/>
                  </a:lnTo>
                  <a:lnTo>
                    <a:pt x="0" y="340"/>
                  </a:lnTo>
                  <a:lnTo>
                    <a:pt x="170" y="425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048520" y="1484280"/>
              <a:ext cx="811440" cy="4060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88880" y="5661000"/>
            <a:ext cx="809640" cy="539640"/>
            <a:chOff x="488880" y="5661000"/>
            <a:chExt cx="809640" cy="539640"/>
          </a:xfrm>
        </p:grpSpPr>
        <p:sp>
          <p:nvSpPr>
            <p:cNvPr id="631" name=""/>
            <p:cNvSpPr/>
            <p:nvPr/>
          </p:nvSpPr>
          <p:spPr>
            <a:xfrm>
              <a:off x="1028520" y="5930640"/>
              <a:ext cx="270000" cy="27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0" y="340"/>
                  </a:moveTo>
                  <a:lnTo>
                    <a:pt x="0" y="170"/>
                  </a:lnTo>
                  <a:lnTo>
                    <a:pt x="340" y="0"/>
                  </a:lnTo>
                  <a:lnTo>
                    <a:pt x="340" y="170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88880" y="5795640"/>
              <a:ext cx="539640" cy="40500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51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680" y="340"/>
                  </a:lnTo>
                  <a:lnTo>
                    <a:pt x="680" y="51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8880" y="5661000"/>
              <a:ext cx="809640" cy="40464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722680" y="5445000"/>
            <a:ext cx="1350360" cy="809640"/>
            <a:chOff x="2722680" y="5445000"/>
            <a:chExt cx="1350360" cy="809640"/>
          </a:xfrm>
        </p:grpSpPr>
        <p:sp>
          <p:nvSpPr>
            <p:cNvPr id="635" name=""/>
            <p:cNvSpPr/>
            <p:nvPr/>
          </p:nvSpPr>
          <p:spPr>
            <a:xfrm>
              <a:off x="2722680" y="5445000"/>
              <a:ext cx="1348920" cy="67500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722680" y="5580000"/>
              <a:ext cx="1079280" cy="674640"/>
            </a:xfrm>
            <a:custGeom>
              <a:avLst/>
              <a:gdLst/>
              <a:ahLst/>
              <a:rect l="l" t="t" r="r" b="b"/>
              <a:pathLst>
                <a:path w="680" h="425">
                  <a:moveTo>
                    <a:pt x="0" y="0"/>
                  </a:moveTo>
                  <a:lnTo>
                    <a:pt x="680" y="340"/>
                  </a:lnTo>
                  <a:lnTo>
                    <a:pt x="680" y="425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803400" y="5985000"/>
              <a:ext cx="26964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0" y="170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85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415800" y="2637000"/>
            <a:ext cx="809640" cy="539640"/>
            <a:chOff x="415800" y="2637000"/>
            <a:chExt cx="809640" cy="539640"/>
          </a:xfrm>
        </p:grpSpPr>
        <p:sp>
          <p:nvSpPr>
            <p:cNvPr id="639" name=""/>
            <p:cNvSpPr/>
            <p:nvPr/>
          </p:nvSpPr>
          <p:spPr>
            <a:xfrm>
              <a:off x="955440" y="2906640"/>
              <a:ext cx="270000" cy="27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0" y="340"/>
                  </a:moveTo>
                  <a:lnTo>
                    <a:pt x="0" y="170"/>
                  </a:lnTo>
                  <a:lnTo>
                    <a:pt x="340" y="0"/>
                  </a:lnTo>
                  <a:lnTo>
                    <a:pt x="340" y="170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5800" y="2771640"/>
              <a:ext cx="539640" cy="40500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51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680" y="340"/>
                  </a:lnTo>
                  <a:lnTo>
                    <a:pt x="68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15800" y="2637000"/>
              <a:ext cx="809640" cy="40464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15800" y="1916280"/>
            <a:ext cx="811080" cy="675720"/>
            <a:chOff x="415800" y="1916280"/>
            <a:chExt cx="811080" cy="675720"/>
          </a:xfrm>
        </p:grpSpPr>
        <p:sp>
          <p:nvSpPr>
            <p:cNvPr id="643" name=""/>
            <p:cNvSpPr/>
            <p:nvPr/>
          </p:nvSpPr>
          <p:spPr>
            <a:xfrm>
              <a:off x="957240" y="2187360"/>
              <a:ext cx="269640" cy="404640"/>
            </a:xfrm>
            <a:custGeom>
              <a:avLst/>
              <a:gdLst/>
              <a:ahLst/>
              <a:rect l="l" t="t" r="r" b="b"/>
              <a:pathLst>
                <a:path w="170" h="255">
                  <a:moveTo>
                    <a:pt x="0" y="255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170"/>
                  </a:lnTo>
                  <a:lnTo>
                    <a:pt x="0" y="255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7240" y="205236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34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340" y="170"/>
                  </a:lnTo>
                  <a:lnTo>
                    <a:pt x="34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15800" y="1916280"/>
              <a:ext cx="809640" cy="40464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415800" y="1052640"/>
            <a:ext cx="809640" cy="809640"/>
            <a:chOff x="415800" y="1052640"/>
            <a:chExt cx="809640" cy="809640"/>
          </a:xfrm>
        </p:grpSpPr>
        <p:grpSp>
          <p:nvGrpSpPr>
            <p:cNvPr id="647" name=""/>
            <p:cNvGrpSpPr/>
            <p:nvPr/>
          </p:nvGrpSpPr>
          <p:grpSpPr>
            <a:xfrm>
              <a:off x="415800" y="1052640"/>
              <a:ext cx="809640" cy="809640"/>
              <a:chOff x="415800" y="1052640"/>
              <a:chExt cx="809640" cy="809640"/>
            </a:xfrm>
          </p:grpSpPr>
          <p:sp>
            <p:nvSpPr>
              <p:cNvPr id="648" name=""/>
              <p:cNvSpPr/>
              <p:nvPr/>
            </p:nvSpPr>
            <p:spPr>
              <a:xfrm>
                <a:off x="415800" y="1052640"/>
                <a:ext cx="809640" cy="40500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15800" y="1187640"/>
                <a:ext cx="539640" cy="674640"/>
              </a:xfrm>
              <a:custGeom>
                <a:avLst/>
                <a:gdLst/>
                <a:ahLst/>
                <a:rect l="l" t="t" r="r" b="b"/>
                <a:pathLst>
                  <a:path w="340" h="425">
                    <a:moveTo>
                      <a:pt x="340" y="425"/>
                    </a:moveTo>
                    <a:lnTo>
                      <a:pt x="340" y="17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340" y="42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55440" y="1322640"/>
                <a:ext cx="27000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85"/>
                    </a:move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415800" y="1052640"/>
              <a:ext cx="809640" cy="809640"/>
              <a:chOff x="415800" y="1052640"/>
              <a:chExt cx="809640" cy="809640"/>
            </a:xfrm>
          </p:grpSpPr>
          <p:sp>
            <p:nvSpPr>
              <p:cNvPr id="652" name=""/>
              <p:cNvSpPr/>
              <p:nvPr/>
            </p:nvSpPr>
            <p:spPr>
              <a:xfrm>
                <a:off x="415800" y="1052640"/>
                <a:ext cx="809640" cy="40500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15800" y="1187640"/>
                <a:ext cx="539640" cy="674640"/>
              </a:xfrm>
              <a:custGeom>
                <a:avLst/>
                <a:gdLst/>
                <a:ahLst/>
                <a:rect l="l" t="t" r="r" b="b"/>
                <a:pathLst>
                  <a:path w="340" h="425">
                    <a:moveTo>
                      <a:pt x="340" y="425"/>
                    </a:moveTo>
                    <a:lnTo>
                      <a:pt x="340" y="17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340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955440" y="1322640"/>
                <a:ext cx="27000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85"/>
                    </a:move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lnTo>
                      <a:pt x="0" y="8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5" name=""/>
          <p:cNvGrpSpPr/>
          <p:nvPr/>
        </p:nvGrpSpPr>
        <p:grpSpPr>
          <a:xfrm>
            <a:off x="1352520" y="2492280"/>
            <a:ext cx="1081080" cy="674640"/>
            <a:chOff x="1352520" y="2492280"/>
            <a:chExt cx="1081080" cy="674640"/>
          </a:xfrm>
        </p:grpSpPr>
        <p:grpSp>
          <p:nvGrpSpPr>
            <p:cNvPr id="656" name=""/>
            <p:cNvGrpSpPr/>
            <p:nvPr/>
          </p:nvGrpSpPr>
          <p:grpSpPr>
            <a:xfrm>
              <a:off x="1352520" y="2492280"/>
              <a:ext cx="1081080" cy="674640"/>
              <a:chOff x="1352520" y="2492280"/>
              <a:chExt cx="1081080" cy="674640"/>
            </a:xfrm>
          </p:grpSpPr>
          <p:sp>
            <p:nvSpPr>
              <p:cNvPr id="657" name=""/>
              <p:cNvSpPr/>
              <p:nvPr/>
            </p:nvSpPr>
            <p:spPr>
              <a:xfrm>
                <a:off x="1892160" y="2761920"/>
                <a:ext cx="54144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352520" y="2761920"/>
                <a:ext cx="539640" cy="405000"/>
              </a:xfrm>
              <a:custGeom>
                <a:avLst/>
                <a:gdLst/>
                <a:ahLst/>
                <a:rect l="l" t="t" r="r" b="b"/>
                <a:pathLst>
                  <a:path w="340" h="255">
                    <a:moveTo>
                      <a:pt x="340" y="170"/>
                    </a:moveTo>
                    <a:lnTo>
                      <a:pt x="340" y="25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340" y="17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52520" y="249228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1352520" y="2492280"/>
              <a:ext cx="1081080" cy="674640"/>
              <a:chOff x="1352520" y="2492280"/>
              <a:chExt cx="1081080" cy="674640"/>
            </a:xfrm>
          </p:grpSpPr>
          <p:sp>
            <p:nvSpPr>
              <p:cNvPr id="661" name=""/>
              <p:cNvSpPr/>
              <p:nvPr/>
            </p:nvSpPr>
            <p:spPr>
              <a:xfrm>
                <a:off x="1892160" y="2761920"/>
                <a:ext cx="54144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52520" y="2761920"/>
                <a:ext cx="539640" cy="405000"/>
              </a:xfrm>
              <a:custGeom>
                <a:avLst/>
                <a:gdLst/>
                <a:ahLst/>
                <a:rect l="l" t="t" r="r" b="b"/>
                <a:pathLst>
                  <a:path w="340" h="255">
                    <a:moveTo>
                      <a:pt x="340" y="170"/>
                    </a:moveTo>
                    <a:lnTo>
                      <a:pt x="340" y="25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340" y="1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52520" y="249228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4" name=""/>
          <p:cNvGrpSpPr/>
          <p:nvPr/>
        </p:nvGrpSpPr>
        <p:grpSpPr>
          <a:xfrm>
            <a:off x="1352520" y="1628640"/>
            <a:ext cx="1081080" cy="809640"/>
            <a:chOff x="1352520" y="1628640"/>
            <a:chExt cx="1081080" cy="809640"/>
          </a:xfrm>
        </p:grpSpPr>
        <p:grpSp>
          <p:nvGrpSpPr>
            <p:cNvPr id="665" name=""/>
            <p:cNvGrpSpPr/>
            <p:nvPr/>
          </p:nvGrpSpPr>
          <p:grpSpPr>
            <a:xfrm>
              <a:off x="1352520" y="1628640"/>
              <a:ext cx="1081080" cy="809640"/>
              <a:chOff x="1352520" y="1628640"/>
              <a:chExt cx="1081080" cy="809640"/>
            </a:xfrm>
          </p:grpSpPr>
          <p:sp>
            <p:nvSpPr>
              <p:cNvPr id="666" name=""/>
              <p:cNvSpPr/>
              <p:nvPr/>
            </p:nvSpPr>
            <p:spPr>
              <a:xfrm>
                <a:off x="1352520" y="162864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892160" y="1898640"/>
                <a:ext cx="541440" cy="53964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0" y="170"/>
                    </a:moveTo>
                    <a:lnTo>
                      <a:pt x="341" y="0"/>
                    </a:lnTo>
                    <a:lnTo>
                      <a:pt x="341" y="170"/>
                    </a:lnTo>
                    <a:lnTo>
                      <a:pt x="0" y="340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352520" y="1898640"/>
                <a:ext cx="539640" cy="53964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340" y="34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340" y="170"/>
                    </a:lnTo>
                    <a:lnTo>
                      <a:pt x="34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1352520" y="1628640"/>
              <a:ext cx="1081080" cy="809640"/>
              <a:chOff x="1352520" y="1628640"/>
              <a:chExt cx="1081080" cy="809640"/>
            </a:xfrm>
          </p:grpSpPr>
          <p:sp>
            <p:nvSpPr>
              <p:cNvPr id="670" name=""/>
              <p:cNvSpPr/>
              <p:nvPr/>
            </p:nvSpPr>
            <p:spPr>
              <a:xfrm>
                <a:off x="1352520" y="162864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2160" y="1898640"/>
                <a:ext cx="541440" cy="53964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0" y="170"/>
                    </a:moveTo>
                    <a:lnTo>
                      <a:pt x="341" y="0"/>
                    </a:lnTo>
                    <a:lnTo>
                      <a:pt x="341" y="170"/>
                    </a:lnTo>
                    <a:lnTo>
                      <a:pt x="0" y="340"/>
                    </a:lnTo>
                    <a:lnTo>
                      <a:pt x="0" y="1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52520" y="1898640"/>
                <a:ext cx="539640" cy="53964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340" y="34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340" y="170"/>
                    </a:lnTo>
                    <a:lnTo>
                      <a:pt x="34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3" name=""/>
          <p:cNvGrpSpPr/>
          <p:nvPr/>
        </p:nvGrpSpPr>
        <p:grpSpPr>
          <a:xfrm>
            <a:off x="1352520" y="549360"/>
            <a:ext cx="1081080" cy="944280"/>
            <a:chOff x="1352520" y="549360"/>
            <a:chExt cx="1081080" cy="944280"/>
          </a:xfrm>
        </p:grpSpPr>
        <p:grpSp>
          <p:nvGrpSpPr>
            <p:cNvPr id="674" name=""/>
            <p:cNvGrpSpPr/>
            <p:nvPr/>
          </p:nvGrpSpPr>
          <p:grpSpPr>
            <a:xfrm>
              <a:off x="1352520" y="549360"/>
              <a:ext cx="1081080" cy="944280"/>
              <a:chOff x="1352520" y="549360"/>
              <a:chExt cx="1081080" cy="944280"/>
            </a:xfrm>
          </p:grpSpPr>
          <p:sp>
            <p:nvSpPr>
              <p:cNvPr id="675" name=""/>
              <p:cNvSpPr/>
              <p:nvPr/>
            </p:nvSpPr>
            <p:spPr>
              <a:xfrm>
                <a:off x="1352520" y="54936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52520" y="819000"/>
                <a:ext cx="539640" cy="674640"/>
              </a:xfrm>
              <a:custGeom>
                <a:avLst/>
                <a:gdLst/>
                <a:ahLst/>
                <a:rect l="l" t="t" r="r" b="b"/>
                <a:pathLst>
                  <a:path w="340" h="425">
                    <a:moveTo>
                      <a:pt x="0" y="0"/>
                    </a:moveTo>
                    <a:lnTo>
                      <a:pt x="340" y="170"/>
                    </a:lnTo>
                    <a:lnTo>
                      <a:pt x="340" y="425"/>
                    </a:lnTo>
                    <a:lnTo>
                      <a:pt x="0" y="2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892160" y="819000"/>
                <a:ext cx="541440" cy="674640"/>
              </a:xfrm>
              <a:custGeom>
                <a:avLst/>
                <a:gdLst/>
                <a:ahLst/>
                <a:rect l="l" t="t" r="r" b="b"/>
                <a:pathLst>
                  <a:path w="341" h="425">
                    <a:moveTo>
                      <a:pt x="341" y="0"/>
                    </a:moveTo>
                    <a:lnTo>
                      <a:pt x="341" y="255"/>
                    </a:lnTo>
                    <a:lnTo>
                      <a:pt x="0" y="425"/>
                    </a:lnTo>
                    <a:lnTo>
                      <a:pt x="0" y="170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1352520" y="549360"/>
              <a:ext cx="1081080" cy="944280"/>
              <a:chOff x="1352520" y="549360"/>
              <a:chExt cx="1081080" cy="944280"/>
            </a:xfrm>
          </p:grpSpPr>
          <p:sp>
            <p:nvSpPr>
              <p:cNvPr id="679" name=""/>
              <p:cNvSpPr/>
              <p:nvPr/>
            </p:nvSpPr>
            <p:spPr>
              <a:xfrm>
                <a:off x="1352520" y="54936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52520" y="819000"/>
                <a:ext cx="539640" cy="674640"/>
              </a:xfrm>
              <a:custGeom>
                <a:avLst/>
                <a:gdLst/>
                <a:ahLst/>
                <a:rect l="l" t="t" r="r" b="b"/>
                <a:pathLst>
                  <a:path w="340" h="425">
                    <a:moveTo>
                      <a:pt x="0" y="0"/>
                    </a:moveTo>
                    <a:lnTo>
                      <a:pt x="340" y="170"/>
                    </a:lnTo>
                    <a:lnTo>
                      <a:pt x="340" y="425"/>
                    </a:lnTo>
                    <a:lnTo>
                      <a:pt x="0" y="25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892160" y="819000"/>
                <a:ext cx="541440" cy="674640"/>
              </a:xfrm>
              <a:custGeom>
                <a:avLst/>
                <a:gdLst/>
                <a:ahLst/>
                <a:rect l="l" t="t" r="r" b="b"/>
                <a:pathLst>
                  <a:path w="341" h="425">
                    <a:moveTo>
                      <a:pt x="341" y="0"/>
                    </a:moveTo>
                    <a:lnTo>
                      <a:pt x="341" y="255"/>
                    </a:lnTo>
                    <a:lnTo>
                      <a:pt x="0" y="425"/>
                    </a:lnTo>
                    <a:lnTo>
                      <a:pt x="0" y="170"/>
                    </a:lnTo>
                    <a:lnTo>
                      <a:pt x="3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2" name=""/>
          <p:cNvGrpSpPr/>
          <p:nvPr/>
        </p:nvGrpSpPr>
        <p:grpSpPr>
          <a:xfrm>
            <a:off x="4160880" y="2492280"/>
            <a:ext cx="1620720" cy="944640"/>
            <a:chOff x="4160880" y="2492280"/>
            <a:chExt cx="1620720" cy="944640"/>
          </a:xfrm>
        </p:grpSpPr>
        <p:grpSp>
          <p:nvGrpSpPr>
            <p:cNvPr id="683" name=""/>
            <p:cNvGrpSpPr/>
            <p:nvPr/>
          </p:nvGrpSpPr>
          <p:grpSpPr>
            <a:xfrm>
              <a:off x="4160880" y="2492280"/>
              <a:ext cx="1620720" cy="944640"/>
              <a:chOff x="4160880" y="2492280"/>
              <a:chExt cx="1620720" cy="944640"/>
            </a:xfrm>
          </p:grpSpPr>
          <p:sp>
            <p:nvSpPr>
              <p:cNvPr id="684" name=""/>
              <p:cNvSpPr/>
              <p:nvPr/>
            </p:nvSpPr>
            <p:spPr>
              <a:xfrm>
                <a:off x="5240160" y="3031920"/>
                <a:ext cx="54108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160880" y="2762280"/>
                <a:ext cx="1079280" cy="67464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680" y="340"/>
                    </a:move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160880" y="2492280"/>
                <a:ext cx="162072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4160880" y="2492280"/>
              <a:ext cx="1620720" cy="944640"/>
              <a:chOff x="4160880" y="2492280"/>
              <a:chExt cx="1620720" cy="944640"/>
            </a:xfrm>
          </p:grpSpPr>
          <p:sp>
            <p:nvSpPr>
              <p:cNvPr id="688" name=""/>
              <p:cNvSpPr/>
              <p:nvPr/>
            </p:nvSpPr>
            <p:spPr>
              <a:xfrm>
                <a:off x="5240160" y="3031920"/>
                <a:ext cx="54108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160880" y="2762280"/>
                <a:ext cx="1079280" cy="67464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680" y="340"/>
                    </a:move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160880" y="2492280"/>
                <a:ext cx="162072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1" name=""/>
          <p:cNvGrpSpPr/>
          <p:nvPr/>
        </p:nvGrpSpPr>
        <p:grpSpPr>
          <a:xfrm>
            <a:off x="4160880" y="1413000"/>
            <a:ext cx="1620720" cy="1078920"/>
            <a:chOff x="4160880" y="1413000"/>
            <a:chExt cx="1620720" cy="1078920"/>
          </a:xfrm>
        </p:grpSpPr>
        <p:grpSp>
          <p:nvGrpSpPr>
            <p:cNvPr id="692" name=""/>
            <p:cNvGrpSpPr/>
            <p:nvPr/>
          </p:nvGrpSpPr>
          <p:grpSpPr>
            <a:xfrm>
              <a:off x="4160880" y="1413000"/>
              <a:ext cx="1620720" cy="1078920"/>
              <a:chOff x="4160880" y="1413000"/>
              <a:chExt cx="1620720" cy="1078920"/>
            </a:xfrm>
          </p:grpSpPr>
          <p:sp>
            <p:nvSpPr>
              <p:cNvPr id="693" name=""/>
              <p:cNvSpPr/>
              <p:nvPr/>
            </p:nvSpPr>
            <p:spPr>
              <a:xfrm>
                <a:off x="4160880" y="1413000"/>
                <a:ext cx="1620720" cy="80928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160880" y="1682640"/>
                <a:ext cx="1079280" cy="80928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510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170"/>
                    </a:lnTo>
                    <a:lnTo>
                      <a:pt x="680" y="51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240160" y="1952640"/>
                <a:ext cx="541080" cy="53928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0" y="34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170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4160880" y="1413000"/>
              <a:ext cx="1620720" cy="1078920"/>
              <a:chOff x="4160880" y="1413000"/>
              <a:chExt cx="1620720" cy="1078920"/>
            </a:xfrm>
          </p:grpSpPr>
          <p:sp>
            <p:nvSpPr>
              <p:cNvPr id="697" name=""/>
              <p:cNvSpPr/>
              <p:nvPr/>
            </p:nvSpPr>
            <p:spPr>
              <a:xfrm>
                <a:off x="4160880" y="1413000"/>
                <a:ext cx="1620720" cy="80928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160880" y="1682640"/>
                <a:ext cx="1079280" cy="80928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510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170"/>
                    </a:lnTo>
                    <a:lnTo>
                      <a:pt x="68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240160" y="1952640"/>
                <a:ext cx="541080" cy="53928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0" y="34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170"/>
                    </a:lnTo>
                    <a:lnTo>
                      <a:pt x="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0" name=""/>
          <p:cNvGrpSpPr/>
          <p:nvPr/>
        </p:nvGrpSpPr>
        <p:grpSpPr>
          <a:xfrm>
            <a:off x="4232160" y="333360"/>
            <a:ext cx="1622520" cy="1214280"/>
            <a:chOff x="4232160" y="333360"/>
            <a:chExt cx="1622520" cy="1214280"/>
          </a:xfrm>
        </p:grpSpPr>
        <p:sp>
          <p:nvSpPr>
            <p:cNvPr id="701" name=""/>
            <p:cNvSpPr/>
            <p:nvPr/>
          </p:nvSpPr>
          <p:spPr>
            <a:xfrm>
              <a:off x="5313240" y="873000"/>
              <a:ext cx="541440" cy="674640"/>
            </a:xfrm>
            <a:custGeom>
              <a:avLst/>
              <a:gdLst/>
              <a:ahLst/>
              <a:rect l="l" t="t" r="r" b="b"/>
              <a:pathLst>
                <a:path w="341" h="425">
                  <a:moveTo>
                    <a:pt x="0" y="42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255"/>
                  </a:lnTo>
                  <a:lnTo>
                    <a:pt x="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232160" y="333360"/>
              <a:ext cx="1621080" cy="80964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232160" y="603000"/>
              <a:ext cx="1079640" cy="944640"/>
            </a:xfrm>
            <a:custGeom>
              <a:avLst/>
              <a:gdLst/>
              <a:ahLst/>
              <a:rect l="l" t="t" r="r" b="b"/>
              <a:pathLst>
                <a:path w="680" h="595">
                  <a:moveTo>
                    <a:pt x="680" y="595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680" y="595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2649600" y="2421000"/>
            <a:ext cx="1351080" cy="809640"/>
            <a:chOff x="2649600" y="2421000"/>
            <a:chExt cx="1351080" cy="809640"/>
          </a:xfrm>
        </p:grpSpPr>
        <p:grpSp>
          <p:nvGrpSpPr>
            <p:cNvPr id="705" name=""/>
            <p:cNvGrpSpPr/>
            <p:nvPr/>
          </p:nvGrpSpPr>
          <p:grpSpPr>
            <a:xfrm>
              <a:off x="2649600" y="2421000"/>
              <a:ext cx="1351080" cy="809640"/>
              <a:chOff x="2649600" y="2421000"/>
              <a:chExt cx="1351080" cy="809640"/>
            </a:xfrm>
          </p:grpSpPr>
          <p:sp>
            <p:nvSpPr>
              <p:cNvPr id="706" name=""/>
              <p:cNvSpPr/>
              <p:nvPr/>
            </p:nvSpPr>
            <p:spPr>
              <a:xfrm>
                <a:off x="2649600" y="2421000"/>
                <a:ext cx="1349280" cy="67500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649600" y="2556000"/>
                <a:ext cx="1079640" cy="67464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0" y="0"/>
                    </a:moveTo>
                    <a:lnTo>
                      <a:pt x="680" y="340"/>
                    </a:ln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730680" y="2961000"/>
                <a:ext cx="270000" cy="269640"/>
              </a:xfrm>
              <a:custGeom>
                <a:avLst/>
                <a:gdLst/>
                <a:ahLst/>
                <a:rect l="l" t="t" r="r" b="b"/>
                <a:pathLst>
                  <a:path w="170" h="170">
                    <a:moveTo>
                      <a:pt x="0" y="170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85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2649600" y="2421000"/>
              <a:ext cx="1351080" cy="809640"/>
              <a:chOff x="2649600" y="2421000"/>
              <a:chExt cx="1351080" cy="809640"/>
            </a:xfrm>
          </p:grpSpPr>
          <p:sp>
            <p:nvSpPr>
              <p:cNvPr id="710" name=""/>
              <p:cNvSpPr/>
              <p:nvPr/>
            </p:nvSpPr>
            <p:spPr>
              <a:xfrm>
                <a:off x="2649600" y="2421000"/>
                <a:ext cx="1349280" cy="67500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649600" y="2556000"/>
                <a:ext cx="1079640" cy="67464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0" y="0"/>
                    </a:moveTo>
                    <a:lnTo>
                      <a:pt x="680" y="340"/>
                    </a:ln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730680" y="2961000"/>
                <a:ext cx="270000" cy="269640"/>
              </a:xfrm>
              <a:custGeom>
                <a:avLst/>
                <a:gdLst/>
                <a:ahLst/>
                <a:rect l="l" t="t" r="r" b="b"/>
                <a:pathLst>
                  <a:path w="170" h="170">
                    <a:moveTo>
                      <a:pt x="0" y="170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85"/>
                    </a:lnTo>
                    <a:lnTo>
                      <a:pt x="0" y="1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2649600" y="1628640"/>
            <a:ext cx="1351080" cy="944640"/>
            <a:chOff x="2649600" y="1628640"/>
            <a:chExt cx="1351080" cy="944640"/>
          </a:xfrm>
        </p:grpSpPr>
        <p:grpSp>
          <p:nvGrpSpPr>
            <p:cNvPr id="714" name=""/>
            <p:cNvGrpSpPr/>
            <p:nvPr/>
          </p:nvGrpSpPr>
          <p:grpSpPr>
            <a:xfrm>
              <a:off x="2649600" y="1628640"/>
              <a:ext cx="1351080" cy="944640"/>
              <a:chOff x="2649600" y="1628640"/>
              <a:chExt cx="1351080" cy="944640"/>
            </a:xfrm>
          </p:grpSpPr>
          <p:sp>
            <p:nvSpPr>
              <p:cNvPr id="715" name=""/>
              <p:cNvSpPr/>
              <p:nvPr/>
            </p:nvSpPr>
            <p:spPr>
              <a:xfrm>
                <a:off x="3730680" y="2168280"/>
                <a:ext cx="270000" cy="405000"/>
              </a:xfrm>
              <a:custGeom>
                <a:avLst/>
                <a:gdLst/>
                <a:ahLst/>
                <a:rect l="l" t="t" r="r" b="b"/>
                <a:pathLst>
                  <a:path w="170" h="255">
                    <a:moveTo>
                      <a:pt x="170" y="0"/>
                    </a:moveTo>
                    <a:lnTo>
                      <a:pt x="170" y="170"/>
                    </a:lnTo>
                    <a:lnTo>
                      <a:pt x="0" y="255"/>
                    </a:lnTo>
                    <a:lnTo>
                      <a:pt x="0" y="85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651400" y="1763640"/>
                <a:ext cx="1079280" cy="80964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340"/>
                    </a:moveTo>
                    <a:lnTo>
                      <a:pt x="680" y="510"/>
                    </a:lnTo>
                    <a:lnTo>
                      <a:pt x="0" y="170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649600" y="1628640"/>
                <a:ext cx="134964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2649600" y="1628640"/>
              <a:ext cx="1351080" cy="944640"/>
              <a:chOff x="2649600" y="1628640"/>
              <a:chExt cx="1351080" cy="944640"/>
            </a:xfrm>
          </p:grpSpPr>
          <p:sp>
            <p:nvSpPr>
              <p:cNvPr id="719" name=""/>
              <p:cNvSpPr/>
              <p:nvPr/>
            </p:nvSpPr>
            <p:spPr>
              <a:xfrm>
                <a:off x="3730680" y="2168280"/>
                <a:ext cx="270000" cy="405000"/>
              </a:xfrm>
              <a:custGeom>
                <a:avLst/>
                <a:gdLst/>
                <a:ahLst/>
                <a:rect l="l" t="t" r="r" b="b"/>
                <a:pathLst>
                  <a:path w="170" h="255">
                    <a:moveTo>
                      <a:pt x="170" y="0"/>
                    </a:moveTo>
                    <a:lnTo>
                      <a:pt x="170" y="170"/>
                    </a:lnTo>
                    <a:lnTo>
                      <a:pt x="0" y="255"/>
                    </a:lnTo>
                    <a:lnTo>
                      <a:pt x="0" y="85"/>
                    </a:lnTo>
                    <a:lnTo>
                      <a:pt x="1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651400" y="1763640"/>
                <a:ext cx="1079280" cy="80964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340"/>
                    </a:moveTo>
                    <a:lnTo>
                      <a:pt x="680" y="510"/>
                    </a:lnTo>
                    <a:lnTo>
                      <a:pt x="0" y="170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649600" y="1628640"/>
                <a:ext cx="134964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2649600" y="765000"/>
            <a:ext cx="1349280" cy="1079280"/>
            <a:chOff x="2649600" y="765000"/>
            <a:chExt cx="1349280" cy="1079280"/>
          </a:xfrm>
        </p:grpSpPr>
        <p:grpSp>
          <p:nvGrpSpPr>
            <p:cNvPr id="723" name=""/>
            <p:cNvGrpSpPr/>
            <p:nvPr/>
          </p:nvGrpSpPr>
          <p:grpSpPr>
            <a:xfrm>
              <a:off x="2649600" y="765000"/>
              <a:ext cx="1349280" cy="1079280"/>
              <a:chOff x="2649600" y="765000"/>
              <a:chExt cx="1349280" cy="1079280"/>
            </a:xfrm>
          </p:grpSpPr>
          <p:sp>
            <p:nvSpPr>
              <p:cNvPr id="724" name=""/>
              <p:cNvSpPr/>
              <p:nvPr/>
            </p:nvSpPr>
            <p:spPr>
              <a:xfrm>
                <a:off x="2649600" y="900000"/>
                <a:ext cx="1079280" cy="944280"/>
              </a:xfrm>
              <a:custGeom>
                <a:avLst/>
                <a:gdLst/>
                <a:ahLst/>
                <a:rect l="l" t="t" r="r" b="b"/>
                <a:pathLst>
                  <a:path w="680" h="595">
                    <a:moveTo>
                      <a:pt x="680" y="595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680" y="59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728880" y="1304640"/>
                <a:ext cx="26964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340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649600" y="765000"/>
                <a:ext cx="134928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2649600" y="765000"/>
              <a:ext cx="1349280" cy="1079280"/>
              <a:chOff x="2649600" y="765000"/>
              <a:chExt cx="1349280" cy="1079280"/>
            </a:xfrm>
          </p:grpSpPr>
          <p:sp>
            <p:nvSpPr>
              <p:cNvPr id="728" name=""/>
              <p:cNvSpPr/>
              <p:nvPr/>
            </p:nvSpPr>
            <p:spPr>
              <a:xfrm>
                <a:off x="2649600" y="900000"/>
                <a:ext cx="1079280" cy="944280"/>
              </a:xfrm>
              <a:custGeom>
                <a:avLst/>
                <a:gdLst/>
                <a:ahLst/>
                <a:rect l="l" t="t" r="r" b="b"/>
                <a:pathLst>
                  <a:path w="680" h="595">
                    <a:moveTo>
                      <a:pt x="680" y="595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680" y="5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728880" y="1304640"/>
                <a:ext cx="26964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340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649600" y="765000"/>
                <a:ext cx="134928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1" name=""/>
          <p:cNvGrpSpPr/>
          <p:nvPr/>
        </p:nvGrpSpPr>
        <p:grpSpPr>
          <a:xfrm>
            <a:off x="6248520" y="1052640"/>
            <a:ext cx="539640" cy="1350360"/>
            <a:chOff x="6248520" y="1052640"/>
            <a:chExt cx="539640" cy="1350360"/>
          </a:xfrm>
        </p:grpSpPr>
        <p:grpSp>
          <p:nvGrpSpPr>
            <p:cNvPr id="732" name=""/>
            <p:cNvGrpSpPr/>
            <p:nvPr/>
          </p:nvGrpSpPr>
          <p:grpSpPr>
            <a:xfrm>
              <a:off x="6248520" y="1052640"/>
              <a:ext cx="539640" cy="1350360"/>
              <a:chOff x="6248520" y="1052640"/>
              <a:chExt cx="539640" cy="1350360"/>
            </a:xfrm>
          </p:grpSpPr>
          <p:sp>
            <p:nvSpPr>
              <p:cNvPr id="733" name=""/>
              <p:cNvSpPr/>
              <p:nvPr/>
            </p:nvSpPr>
            <p:spPr>
              <a:xfrm>
                <a:off x="6248520" y="1188720"/>
                <a:ext cx="269640" cy="121428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518160" y="1188720"/>
                <a:ext cx="270000" cy="121428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0" y="765"/>
                    </a:moveTo>
                    <a:lnTo>
                      <a:pt x="170" y="680"/>
                    </a:lnTo>
                    <a:lnTo>
                      <a:pt x="170" y="0"/>
                    </a:lnTo>
                    <a:lnTo>
                      <a:pt x="0" y="85"/>
                    </a:lnTo>
                    <a:lnTo>
                      <a:pt x="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248520" y="1052640"/>
                <a:ext cx="539640" cy="271080"/>
              </a:xfrm>
              <a:custGeom>
                <a:avLst/>
                <a:gdLst/>
                <a:ahLst/>
                <a:rect l="l" t="t" r="r" b="b"/>
                <a:pathLst>
                  <a:path w="340" h="171">
                    <a:moveTo>
                      <a:pt x="340" y="86"/>
                    </a:moveTo>
                    <a:lnTo>
                      <a:pt x="170" y="0"/>
                    </a:lnTo>
                    <a:lnTo>
                      <a:pt x="0" y="86"/>
                    </a:lnTo>
                    <a:lnTo>
                      <a:pt x="170" y="171"/>
                    </a:lnTo>
                    <a:lnTo>
                      <a:pt x="340" y="8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6248520" y="1052640"/>
              <a:ext cx="539640" cy="1350360"/>
              <a:chOff x="6248520" y="1052640"/>
              <a:chExt cx="539640" cy="1350360"/>
            </a:xfrm>
          </p:grpSpPr>
          <p:sp>
            <p:nvSpPr>
              <p:cNvPr id="737" name=""/>
              <p:cNvSpPr/>
              <p:nvPr/>
            </p:nvSpPr>
            <p:spPr>
              <a:xfrm>
                <a:off x="6248520" y="1188720"/>
                <a:ext cx="269640" cy="121428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518160" y="1188720"/>
                <a:ext cx="270000" cy="121428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0" y="765"/>
                    </a:moveTo>
                    <a:lnTo>
                      <a:pt x="170" y="680"/>
                    </a:lnTo>
                    <a:lnTo>
                      <a:pt x="170" y="0"/>
                    </a:lnTo>
                    <a:lnTo>
                      <a:pt x="0" y="85"/>
                    </a:lnTo>
                    <a:lnTo>
                      <a:pt x="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248520" y="1052640"/>
                <a:ext cx="539640" cy="271080"/>
              </a:xfrm>
              <a:custGeom>
                <a:avLst/>
                <a:gdLst/>
                <a:ahLst/>
                <a:rect l="l" t="t" r="r" b="b"/>
                <a:pathLst>
                  <a:path w="340" h="171">
                    <a:moveTo>
                      <a:pt x="340" y="86"/>
                    </a:moveTo>
                    <a:lnTo>
                      <a:pt x="170" y="0"/>
                    </a:lnTo>
                    <a:lnTo>
                      <a:pt x="0" y="86"/>
                    </a:lnTo>
                    <a:lnTo>
                      <a:pt x="170" y="171"/>
                    </a:lnTo>
                    <a:lnTo>
                      <a:pt x="340" y="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0" name=""/>
          <p:cNvGrpSpPr/>
          <p:nvPr/>
        </p:nvGrpSpPr>
        <p:grpSpPr>
          <a:xfrm>
            <a:off x="7040520" y="981000"/>
            <a:ext cx="811080" cy="1486080"/>
            <a:chOff x="7040520" y="981000"/>
            <a:chExt cx="811080" cy="1486080"/>
          </a:xfrm>
        </p:grpSpPr>
        <p:grpSp>
          <p:nvGrpSpPr>
            <p:cNvPr id="741" name=""/>
            <p:cNvGrpSpPr/>
            <p:nvPr/>
          </p:nvGrpSpPr>
          <p:grpSpPr>
            <a:xfrm>
              <a:off x="7040520" y="981000"/>
              <a:ext cx="811080" cy="1486080"/>
              <a:chOff x="7040520" y="981000"/>
              <a:chExt cx="811080" cy="1486080"/>
            </a:xfrm>
          </p:grpSpPr>
          <p:sp>
            <p:nvSpPr>
              <p:cNvPr id="742" name=""/>
              <p:cNvSpPr/>
              <p:nvPr/>
            </p:nvSpPr>
            <p:spPr>
              <a:xfrm>
                <a:off x="7040520" y="1252440"/>
                <a:ext cx="269640" cy="121464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040520" y="981000"/>
                <a:ext cx="811080" cy="40644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310160" y="1116000"/>
                <a:ext cx="541080" cy="135108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7040520" y="981000"/>
              <a:ext cx="811080" cy="1486080"/>
              <a:chOff x="7040520" y="981000"/>
              <a:chExt cx="811080" cy="1486080"/>
            </a:xfrm>
          </p:grpSpPr>
          <p:sp>
            <p:nvSpPr>
              <p:cNvPr id="746" name=""/>
              <p:cNvSpPr/>
              <p:nvPr/>
            </p:nvSpPr>
            <p:spPr>
              <a:xfrm>
                <a:off x="7040520" y="1252440"/>
                <a:ext cx="269640" cy="121464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040520" y="981000"/>
                <a:ext cx="811080" cy="40644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310160" y="1116000"/>
                <a:ext cx="541080" cy="135108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9" name=""/>
          <p:cNvGrpSpPr/>
          <p:nvPr/>
        </p:nvGrpSpPr>
        <p:grpSpPr>
          <a:xfrm>
            <a:off x="8048520" y="1484280"/>
            <a:ext cx="811440" cy="944280"/>
            <a:chOff x="8048520" y="1484280"/>
            <a:chExt cx="811440" cy="944280"/>
          </a:xfrm>
        </p:grpSpPr>
        <p:sp>
          <p:nvSpPr>
            <p:cNvPr id="750" name=""/>
            <p:cNvSpPr/>
            <p:nvPr/>
          </p:nvSpPr>
          <p:spPr>
            <a:xfrm>
              <a:off x="8318520" y="1618920"/>
              <a:ext cx="541440" cy="809640"/>
            </a:xfrm>
            <a:custGeom>
              <a:avLst/>
              <a:gdLst/>
              <a:ahLst/>
              <a:rect l="l" t="t" r="r" b="b"/>
              <a:pathLst>
                <a:path w="341" h="510">
                  <a:moveTo>
                    <a:pt x="0" y="51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340"/>
                  </a:lnTo>
                  <a:lnTo>
                    <a:pt x="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048520" y="1753920"/>
              <a:ext cx="270000" cy="674640"/>
            </a:xfrm>
            <a:custGeom>
              <a:avLst/>
              <a:gdLst/>
              <a:ahLst/>
              <a:rect l="l" t="t" r="r" b="b"/>
              <a:pathLst>
                <a:path w="170" h="425">
                  <a:moveTo>
                    <a:pt x="170" y="425"/>
                  </a:moveTo>
                  <a:lnTo>
                    <a:pt x="170" y="85"/>
                  </a:lnTo>
                  <a:lnTo>
                    <a:pt x="0" y="0"/>
                  </a:lnTo>
                  <a:lnTo>
                    <a:pt x="0" y="340"/>
                  </a:lnTo>
                  <a:lnTo>
                    <a:pt x="17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048520" y="1484280"/>
              <a:ext cx="811440" cy="4060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3333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6321600" y="2781360"/>
            <a:ext cx="274320" cy="687240"/>
            <a:chOff x="6321600" y="2781360"/>
            <a:chExt cx="274320" cy="687240"/>
          </a:xfrm>
        </p:grpSpPr>
        <p:grpSp>
          <p:nvGrpSpPr>
            <p:cNvPr id="754" name=""/>
            <p:cNvGrpSpPr/>
            <p:nvPr/>
          </p:nvGrpSpPr>
          <p:grpSpPr>
            <a:xfrm>
              <a:off x="6321600" y="2781360"/>
              <a:ext cx="274320" cy="687240"/>
              <a:chOff x="6321600" y="2781360"/>
              <a:chExt cx="274320" cy="687240"/>
            </a:xfrm>
          </p:grpSpPr>
          <p:sp>
            <p:nvSpPr>
              <p:cNvPr id="755" name=""/>
              <p:cNvSpPr/>
              <p:nvPr/>
            </p:nvSpPr>
            <p:spPr>
              <a:xfrm>
                <a:off x="6321600" y="2851200"/>
                <a:ext cx="13752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459120" y="2851200"/>
                <a:ext cx="13644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0" y="765"/>
                    </a:moveTo>
                    <a:lnTo>
                      <a:pt x="170" y="680"/>
                    </a:lnTo>
                    <a:lnTo>
                      <a:pt x="170" y="0"/>
                    </a:lnTo>
                    <a:lnTo>
                      <a:pt x="0" y="85"/>
                    </a:lnTo>
                    <a:lnTo>
                      <a:pt x="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321600" y="2781360"/>
                <a:ext cx="274320" cy="137880"/>
              </a:xfrm>
              <a:custGeom>
                <a:avLst/>
                <a:gdLst/>
                <a:ahLst/>
                <a:rect l="l" t="t" r="r" b="b"/>
                <a:pathLst>
                  <a:path w="340" h="171">
                    <a:moveTo>
                      <a:pt x="340" y="86"/>
                    </a:moveTo>
                    <a:lnTo>
                      <a:pt x="170" y="0"/>
                    </a:lnTo>
                    <a:lnTo>
                      <a:pt x="0" y="86"/>
                    </a:lnTo>
                    <a:lnTo>
                      <a:pt x="170" y="171"/>
                    </a:lnTo>
                    <a:lnTo>
                      <a:pt x="340" y="8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6321600" y="2781360"/>
              <a:ext cx="274320" cy="687240"/>
              <a:chOff x="6321600" y="2781360"/>
              <a:chExt cx="274320" cy="687240"/>
            </a:xfrm>
          </p:grpSpPr>
          <p:sp>
            <p:nvSpPr>
              <p:cNvPr id="759" name=""/>
              <p:cNvSpPr/>
              <p:nvPr/>
            </p:nvSpPr>
            <p:spPr>
              <a:xfrm>
                <a:off x="6321600" y="2851200"/>
                <a:ext cx="13752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459120" y="2851200"/>
                <a:ext cx="13644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0" y="765"/>
                    </a:moveTo>
                    <a:lnTo>
                      <a:pt x="170" y="680"/>
                    </a:lnTo>
                    <a:lnTo>
                      <a:pt x="170" y="0"/>
                    </a:lnTo>
                    <a:lnTo>
                      <a:pt x="0" y="85"/>
                    </a:lnTo>
                    <a:lnTo>
                      <a:pt x="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321600" y="2781360"/>
                <a:ext cx="274320" cy="137880"/>
              </a:xfrm>
              <a:custGeom>
                <a:avLst/>
                <a:gdLst/>
                <a:ahLst/>
                <a:rect l="l" t="t" r="r" b="b"/>
                <a:pathLst>
                  <a:path w="340" h="171">
                    <a:moveTo>
                      <a:pt x="340" y="86"/>
                    </a:moveTo>
                    <a:lnTo>
                      <a:pt x="170" y="0"/>
                    </a:lnTo>
                    <a:lnTo>
                      <a:pt x="0" y="86"/>
                    </a:lnTo>
                    <a:lnTo>
                      <a:pt x="170" y="171"/>
                    </a:lnTo>
                    <a:lnTo>
                      <a:pt x="340" y="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2" name=""/>
          <p:cNvGrpSpPr/>
          <p:nvPr/>
        </p:nvGrpSpPr>
        <p:grpSpPr>
          <a:xfrm>
            <a:off x="6824520" y="2708280"/>
            <a:ext cx="412560" cy="755640"/>
            <a:chOff x="6824520" y="2708280"/>
            <a:chExt cx="412560" cy="755640"/>
          </a:xfrm>
        </p:grpSpPr>
        <p:grpSp>
          <p:nvGrpSpPr>
            <p:cNvPr id="763" name=""/>
            <p:cNvGrpSpPr/>
            <p:nvPr/>
          </p:nvGrpSpPr>
          <p:grpSpPr>
            <a:xfrm>
              <a:off x="6824520" y="2708280"/>
              <a:ext cx="412560" cy="755640"/>
              <a:chOff x="6824520" y="2708280"/>
              <a:chExt cx="412560" cy="755640"/>
            </a:xfrm>
          </p:grpSpPr>
          <p:sp>
            <p:nvSpPr>
              <p:cNvPr id="764" name=""/>
              <p:cNvSpPr/>
              <p:nvPr/>
            </p:nvSpPr>
            <p:spPr>
              <a:xfrm>
                <a:off x="6824520" y="2846520"/>
                <a:ext cx="13788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824520" y="2708280"/>
                <a:ext cx="412560" cy="2062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962400" y="2776680"/>
                <a:ext cx="274680" cy="68724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6824520" y="2708280"/>
              <a:ext cx="412560" cy="755640"/>
              <a:chOff x="6824520" y="2708280"/>
              <a:chExt cx="412560" cy="755640"/>
            </a:xfrm>
          </p:grpSpPr>
          <p:sp>
            <p:nvSpPr>
              <p:cNvPr id="768" name=""/>
              <p:cNvSpPr/>
              <p:nvPr/>
            </p:nvSpPr>
            <p:spPr>
              <a:xfrm>
                <a:off x="6824520" y="2846520"/>
                <a:ext cx="13788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824520" y="2708280"/>
                <a:ext cx="412560" cy="2062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962400" y="2776680"/>
                <a:ext cx="274680" cy="68724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1" name=""/>
          <p:cNvGrpSpPr/>
          <p:nvPr/>
        </p:nvGrpSpPr>
        <p:grpSpPr>
          <a:xfrm>
            <a:off x="7473960" y="2924280"/>
            <a:ext cx="412560" cy="480960"/>
            <a:chOff x="7473960" y="2924280"/>
            <a:chExt cx="412560" cy="480960"/>
          </a:xfrm>
        </p:grpSpPr>
        <p:grpSp>
          <p:nvGrpSpPr>
            <p:cNvPr id="772" name=""/>
            <p:cNvGrpSpPr/>
            <p:nvPr/>
          </p:nvGrpSpPr>
          <p:grpSpPr>
            <a:xfrm>
              <a:off x="7473960" y="2924280"/>
              <a:ext cx="412560" cy="480960"/>
              <a:chOff x="7473960" y="2924280"/>
              <a:chExt cx="412560" cy="480960"/>
            </a:xfrm>
          </p:grpSpPr>
          <p:sp>
            <p:nvSpPr>
              <p:cNvPr id="773" name=""/>
              <p:cNvSpPr/>
              <p:nvPr/>
            </p:nvSpPr>
            <p:spPr>
              <a:xfrm>
                <a:off x="7610400" y="2994120"/>
                <a:ext cx="276120" cy="41112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473960" y="3062520"/>
                <a:ext cx="136440" cy="34272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473960" y="2924280"/>
                <a:ext cx="412560" cy="208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7473960" y="2924280"/>
              <a:ext cx="412560" cy="480960"/>
              <a:chOff x="7473960" y="2924280"/>
              <a:chExt cx="412560" cy="480960"/>
            </a:xfrm>
          </p:grpSpPr>
          <p:sp>
            <p:nvSpPr>
              <p:cNvPr id="777" name=""/>
              <p:cNvSpPr/>
              <p:nvPr/>
            </p:nvSpPr>
            <p:spPr>
              <a:xfrm>
                <a:off x="7610400" y="2994120"/>
                <a:ext cx="276120" cy="41112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473960" y="3062520"/>
                <a:ext cx="136440" cy="34272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473960" y="2924280"/>
                <a:ext cx="412560" cy="208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7c7c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488880" y="5661000"/>
            <a:ext cx="809640" cy="539640"/>
            <a:chOff x="488880" y="5661000"/>
            <a:chExt cx="809640" cy="539640"/>
          </a:xfrm>
        </p:grpSpPr>
        <p:sp>
          <p:nvSpPr>
            <p:cNvPr id="781" name=""/>
            <p:cNvSpPr/>
            <p:nvPr/>
          </p:nvSpPr>
          <p:spPr>
            <a:xfrm>
              <a:off x="1028520" y="5930640"/>
              <a:ext cx="270000" cy="27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0" y="340"/>
                  </a:moveTo>
                  <a:lnTo>
                    <a:pt x="0" y="170"/>
                  </a:lnTo>
                  <a:lnTo>
                    <a:pt x="340" y="0"/>
                  </a:lnTo>
                  <a:lnTo>
                    <a:pt x="340" y="170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88880" y="5795640"/>
              <a:ext cx="539640" cy="40500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51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680" y="340"/>
                  </a:lnTo>
                  <a:lnTo>
                    <a:pt x="68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88880" y="5661000"/>
              <a:ext cx="809640" cy="40464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488880" y="4940280"/>
            <a:ext cx="811080" cy="676440"/>
            <a:chOff x="488880" y="4940280"/>
            <a:chExt cx="811080" cy="676440"/>
          </a:xfrm>
        </p:grpSpPr>
        <p:grpSp>
          <p:nvGrpSpPr>
            <p:cNvPr id="785" name=""/>
            <p:cNvGrpSpPr/>
            <p:nvPr/>
          </p:nvGrpSpPr>
          <p:grpSpPr>
            <a:xfrm>
              <a:off x="488880" y="4940280"/>
              <a:ext cx="811080" cy="676440"/>
              <a:chOff x="488880" y="4940280"/>
              <a:chExt cx="811080" cy="676440"/>
            </a:xfrm>
          </p:grpSpPr>
          <p:sp>
            <p:nvSpPr>
              <p:cNvPr id="786" name=""/>
              <p:cNvSpPr/>
              <p:nvPr/>
            </p:nvSpPr>
            <p:spPr>
              <a:xfrm>
                <a:off x="1030320" y="5211720"/>
                <a:ext cx="269640" cy="405000"/>
              </a:xfrm>
              <a:custGeom>
                <a:avLst/>
                <a:gdLst/>
                <a:ahLst/>
                <a:rect l="l" t="t" r="r" b="b"/>
                <a:pathLst>
                  <a:path w="170" h="255">
                    <a:moveTo>
                      <a:pt x="0" y="255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170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90320" y="5076720"/>
                <a:ext cx="540000" cy="54000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340" y="34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340" y="170"/>
                    </a:lnTo>
                    <a:lnTo>
                      <a:pt x="34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88880" y="4940280"/>
                <a:ext cx="809640" cy="40500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488880" y="4940280"/>
              <a:ext cx="811080" cy="676440"/>
              <a:chOff x="488880" y="4940280"/>
              <a:chExt cx="811080" cy="676440"/>
            </a:xfrm>
          </p:grpSpPr>
          <p:sp>
            <p:nvSpPr>
              <p:cNvPr id="790" name=""/>
              <p:cNvSpPr/>
              <p:nvPr/>
            </p:nvSpPr>
            <p:spPr>
              <a:xfrm>
                <a:off x="1030320" y="5211720"/>
                <a:ext cx="269640" cy="405000"/>
              </a:xfrm>
              <a:custGeom>
                <a:avLst/>
                <a:gdLst/>
                <a:ahLst/>
                <a:rect l="l" t="t" r="r" b="b"/>
                <a:pathLst>
                  <a:path w="170" h="255">
                    <a:moveTo>
                      <a:pt x="0" y="255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170"/>
                    </a:lnTo>
                    <a:lnTo>
                      <a:pt x="0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90320" y="5076720"/>
                <a:ext cx="540000" cy="54000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340" y="34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340" y="170"/>
                    </a:lnTo>
                    <a:lnTo>
                      <a:pt x="34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88880" y="4940280"/>
                <a:ext cx="809640" cy="40500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3" name=""/>
          <p:cNvGrpSpPr/>
          <p:nvPr/>
        </p:nvGrpSpPr>
        <p:grpSpPr>
          <a:xfrm>
            <a:off x="488880" y="4076640"/>
            <a:ext cx="809640" cy="809640"/>
            <a:chOff x="488880" y="4076640"/>
            <a:chExt cx="809640" cy="809640"/>
          </a:xfrm>
        </p:grpSpPr>
        <p:grpSp>
          <p:nvGrpSpPr>
            <p:cNvPr id="794" name=""/>
            <p:cNvGrpSpPr/>
            <p:nvPr/>
          </p:nvGrpSpPr>
          <p:grpSpPr>
            <a:xfrm>
              <a:off x="488880" y="4076640"/>
              <a:ext cx="809640" cy="809640"/>
              <a:chOff x="488880" y="4076640"/>
              <a:chExt cx="809640" cy="809640"/>
            </a:xfrm>
          </p:grpSpPr>
          <p:sp>
            <p:nvSpPr>
              <p:cNvPr id="795" name=""/>
              <p:cNvSpPr/>
              <p:nvPr/>
            </p:nvSpPr>
            <p:spPr>
              <a:xfrm>
                <a:off x="488880" y="4076640"/>
                <a:ext cx="809640" cy="40500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88880" y="4211640"/>
                <a:ext cx="539640" cy="674640"/>
              </a:xfrm>
              <a:custGeom>
                <a:avLst/>
                <a:gdLst/>
                <a:ahLst/>
                <a:rect l="l" t="t" r="r" b="b"/>
                <a:pathLst>
                  <a:path w="340" h="425">
                    <a:moveTo>
                      <a:pt x="340" y="425"/>
                    </a:moveTo>
                    <a:lnTo>
                      <a:pt x="340" y="17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340" y="42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028520" y="4346640"/>
                <a:ext cx="27000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85"/>
                    </a:move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488880" y="4076640"/>
              <a:ext cx="809640" cy="809640"/>
              <a:chOff x="488880" y="4076640"/>
              <a:chExt cx="809640" cy="809640"/>
            </a:xfrm>
          </p:grpSpPr>
          <p:sp>
            <p:nvSpPr>
              <p:cNvPr id="799" name=""/>
              <p:cNvSpPr/>
              <p:nvPr/>
            </p:nvSpPr>
            <p:spPr>
              <a:xfrm>
                <a:off x="488880" y="4076640"/>
                <a:ext cx="809640" cy="40500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88880" y="4211640"/>
                <a:ext cx="539640" cy="674640"/>
              </a:xfrm>
              <a:custGeom>
                <a:avLst/>
                <a:gdLst/>
                <a:ahLst/>
                <a:rect l="l" t="t" r="r" b="b"/>
                <a:pathLst>
                  <a:path w="340" h="425">
                    <a:moveTo>
                      <a:pt x="340" y="425"/>
                    </a:moveTo>
                    <a:lnTo>
                      <a:pt x="340" y="17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340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028520" y="4346640"/>
                <a:ext cx="27000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85"/>
                    </a:move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lnTo>
                      <a:pt x="0" y="8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1425600" y="5516640"/>
            <a:ext cx="1081080" cy="674640"/>
            <a:chOff x="1425600" y="5516640"/>
            <a:chExt cx="1081080" cy="674640"/>
          </a:xfrm>
        </p:grpSpPr>
        <p:grpSp>
          <p:nvGrpSpPr>
            <p:cNvPr id="803" name=""/>
            <p:cNvGrpSpPr/>
            <p:nvPr/>
          </p:nvGrpSpPr>
          <p:grpSpPr>
            <a:xfrm>
              <a:off x="1425600" y="5516640"/>
              <a:ext cx="1081080" cy="674640"/>
              <a:chOff x="1425600" y="5516640"/>
              <a:chExt cx="1081080" cy="674640"/>
            </a:xfrm>
          </p:grpSpPr>
          <p:sp>
            <p:nvSpPr>
              <p:cNvPr id="804" name=""/>
              <p:cNvSpPr/>
              <p:nvPr/>
            </p:nvSpPr>
            <p:spPr>
              <a:xfrm>
                <a:off x="1965240" y="5786280"/>
                <a:ext cx="54144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425600" y="5786280"/>
                <a:ext cx="539640" cy="405000"/>
              </a:xfrm>
              <a:custGeom>
                <a:avLst/>
                <a:gdLst/>
                <a:ahLst/>
                <a:rect l="l" t="t" r="r" b="b"/>
                <a:pathLst>
                  <a:path w="340" h="255">
                    <a:moveTo>
                      <a:pt x="340" y="170"/>
                    </a:moveTo>
                    <a:lnTo>
                      <a:pt x="340" y="25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340" y="17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425600" y="551664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1425600" y="5516640"/>
              <a:ext cx="1081080" cy="674640"/>
              <a:chOff x="1425600" y="5516640"/>
              <a:chExt cx="1081080" cy="674640"/>
            </a:xfrm>
          </p:grpSpPr>
          <p:sp>
            <p:nvSpPr>
              <p:cNvPr id="808" name=""/>
              <p:cNvSpPr/>
              <p:nvPr/>
            </p:nvSpPr>
            <p:spPr>
              <a:xfrm>
                <a:off x="1965240" y="5786280"/>
                <a:ext cx="54144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425600" y="5786280"/>
                <a:ext cx="539640" cy="405000"/>
              </a:xfrm>
              <a:custGeom>
                <a:avLst/>
                <a:gdLst/>
                <a:ahLst/>
                <a:rect l="l" t="t" r="r" b="b"/>
                <a:pathLst>
                  <a:path w="340" h="255">
                    <a:moveTo>
                      <a:pt x="340" y="170"/>
                    </a:moveTo>
                    <a:lnTo>
                      <a:pt x="340" y="25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340" y="1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425600" y="551664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"/>
          <p:cNvGrpSpPr/>
          <p:nvPr/>
        </p:nvGrpSpPr>
        <p:grpSpPr>
          <a:xfrm>
            <a:off x="1425600" y="4653000"/>
            <a:ext cx="1081080" cy="809640"/>
            <a:chOff x="1425600" y="4653000"/>
            <a:chExt cx="1081080" cy="809640"/>
          </a:xfrm>
        </p:grpSpPr>
        <p:grpSp>
          <p:nvGrpSpPr>
            <p:cNvPr id="812" name=""/>
            <p:cNvGrpSpPr/>
            <p:nvPr/>
          </p:nvGrpSpPr>
          <p:grpSpPr>
            <a:xfrm>
              <a:off x="1425600" y="4653000"/>
              <a:ext cx="1081080" cy="809640"/>
              <a:chOff x="1425600" y="4653000"/>
              <a:chExt cx="1081080" cy="809640"/>
            </a:xfrm>
          </p:grpSpPr>
          <p:sp>
            <p:nvSpPr>
              <p:cNvPr id="813" name=""/>
              <p:cNvSpPr/>
              <p:nvPr/>
            </p:nvSpPr>
            <p:spPr>
              <a:xfrm>
                <a:off x="1425600" y="465300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965240" y="4923000"/>
                <a:ext cx="541440" cy="53964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0" y="170"/>
                    </a:moveTo>
                    <a:lnTo>
                      <a:pt x="341" y="0"/>
                    </a:lnTo>
                    <a:lnTo>
                      <a:pt x="341" y="170"/>
                    </a:lnTo>
                    <a:lnTo>
                      <a:pt x="0" y="340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425600" y="4923000"/>
                <a:ext cx="539640" cy="53964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340" y="34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340" y="170"/>
                    </a:lnTo>
                    <a:lnTo>
                      <a:pt x="34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1425600" y="4653000"/>
              <a:ext cx="1081080" cy="809640"/>
              <a:chOff x="1425600" y="4653000"/>
              <a:chExt cx="1081080" cy="809640"/>
            </a:xfrm>
          </p:grpSpPr>
          <p:sp>
            <p:nvSpPr>
              <p:cNvPr id="817" name=""/>
              <p:cNvSpPr/>
              <p:nvPr/>
            </p:nvSpPr>
            <p:spPr>
              <a:xfrm>
                <a:off x="1425600" y="465300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965240" y="4923000"/>
                <a:ext cx="541440" cy="53964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0" y="170"/>
                    </a:moveTo>
                    <a:lnTo>
                      <a:pt x="341" y="0"/>
                    </a:lnTo>
                    <a:lnTo>
                      <a:pt x="341" y="170"/>
                    </a:lnTo>
                    <a:lnTo>
                      <a:pt x="0" y="340"/>
                    </a:lnTo>
                    <a:lnTo>
                      <a:pt x="0" y="1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425600" y="4923000"/>
                <a:ext cx="539640" cy="53964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340" y="34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340" y="170"/>
                    </a:lnTo>
                    <a:lnTo>
                      <a:pt x="34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0" name=""/>
          <p:cNvGrpSpPr/>
          <p:nvPr/>
        </p:nvGrpSpPr>
        <p:grpSpPr>
          <a:xfrm>
            <a:off x="1425600" y="3573360"/>
            <a:ext cx="1081080" cy="944280"/>
            <a:chOff x="1425600" y="3573360"/>
            <a:chExt cx="1081080" cy="944280"/>
          </a:xfrm>
        </p:grpSpPr>
        <p:grpSp>
          <p:nvGrpSpPr>
            <p:cNvPr id="821" name=""/>
            <p:cNvGrpSpPr/>
            <p:nvPr/>
          </p:nvGrpSpPr>
          <p:grpSpPr>
            <a:xfrm>
              <a:off x="1425600" y="3573360"/>
              <a:ext cx="1081080" cy="944280"/>
              <a:chOff x="1425600" y="3573360"/>
              <a:chExt cx="1081080" cy="944280"/>
            </a:xfrm>
          </p:grpSpPr>
          <p:sp>
            <p:nvSpPr>
              <p:cNvPr id="822" name=""/>
              <p:cNvSpPr/>
              <p:nvPr/>
            </p:nvSpPr>
            <p:spPr>
              <a:xfrm>
                <a:off x="1425600" y="357336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425600" y="3843000"/>
                <a:ext cx="539640" cy="674640"/>
              </a:xfrm>
              <a:custGeom>
                <a:avLst/>
                <a:gdLst/>
                <a:ahLst/>
                <a:rect l="l" t="t" r="r" b="b"/>
                <a:pathLst>
                  <a:path w="340" h="425">
                    <a:moveTo>
                      <a:pt x="0" y="0"/>
                    </a:moveTo>
                    <a:lnTo>
                      <a:pt x="340" y="170"/>
                    </a:lnTo>
                    <a:lnTo>
                      <a:pt x="340" y="425"/>
                    </a:lnTo>
                    <a:lnTo>
                      <a:pt x="0" y="2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965240" y="3843000"/>
                <a:ext cx="541440" cy="674640"/>
              </a:xfrm>
              <a:custGeom>
                <a:avLst/>
                <a:gdLst/>
                <a:ahLst/>
                <a:rect l="l" t="t" r="r" b="b"/>
                <a:pathLst>
                  <a:path w="341" h="425">
                    <a:moveTo>
                      <a:pt x="341" y="0"/>
                    </a:moveTo>
                    <a:lnTo>
                      <a:pt x="341" y="255"/>
                    </a:lnTo>
                    <a:lnTo>
                      <a:pt x="0" y="425"/>
                    </a:lnTo>
                    <a:lnTo>
                      <a:pt x="0" y="170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1425600" y="3573360"/>
              <a:ext cx="1081080" cy="944280"/>
              <a:chOff x="1425600" y="3573360"/>
              <a:chExt cx="1081080" cy="944280"/>
            </a:xfrm>
          </p:grpSpPr>
          <p:sp>
            <p:nvSpPr>
              <p:cNvPr id="826" name=""/>
              <p:cNvSpPr/>
              <p:nvPr/>
            </p:nvSpPr>
            <p:spPr>
              <a:xfrm>
                <a:off x="1425600" y="357336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425600" y="3843000"/>
                <a:ext cx="539640" cy="674640"/>
              </a:xfrm>
              <a:custGeom>
                <a:avLst/>
                <a:gdLst/>
                <a:ahLst/>
                <a:rect l="l" t="t" r="r" b="b"/>
                <a:pathLst>
                  <a:path w="340" h="425">
                    <a:moveTo>
                      <a:pt x="0" y="0"/>
                    </a:moveTo>
                    <a:lnTo>
                      <a:pt x="340" y="170"/>
                    </a:lnTo>
                    <a:lnTo>
                      <a:pt x="340" y="425"/>
                    </a:lnTo>
                    <a:lnTo>
                      <a:pt x="0" y="25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965240" y="3843000"/>
                <a:ext cx="541440" cy="674640"/>
              </a:xfrm>
              <a:custGeom>
                <a:avLst/>
                <a:gdLst/>
                <a:ahLst/>
                <a:rect l="l" t="t" r="r" b="b"/>
                <a:pathLst>
                  <a:path w="341" h="425">
                    <a:moveTo>
                      <a:pt x="341" y="0"/>
                    </a:moveTo>
                    <a:lnTo>
                      <a:pt x="341" y="255"/>
                    </a:lnTo>
                    <a:lnTo>
                      <a:pt x="0" y="425"/>
                    </a:lnTo>
                    <a:lnTo>
                      <a:pt x="0" y="170"/>
                    </a:lnTo>
                    <a:lnTo>
                      <a:pt x="3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9" name=""/>
          <p:cNvGrpSpPr/>
          <p:nvPr/>
        </p:nvGrpSpPr>
        <p:grpSpPr>
          <a:xfrm>
            <a:off x="4233960" y="5516640"/>
            <a:ext cx="1620720" cy="944640"/>
            <a:chOff x="4233960" y="5516640"/>
            <a:chExt cx="1620720" cy="944640"/>
          </a:xfrm>
        </p:grpSpPr>
        <p:grpSp>
          <p:nvGrpSpPr>
            <p:cNvPr id="830" name=""/>
            <p:cNvGrpSpPr/>
            <p:nvPr/>
          </p:nvGrpSpPr>
          <p:grpSpPr>
            <a:xfrm>
              <a:off x="4233960" y="5516640"/>
              <a:ext cx="1620720" cy="944640"/>
              <a:chOff x="4233960" y="5516640"/>
              <a:chExt cx="1620720" cy="944640"/>
            </a:xfrm>
          </p:grpSpPr>
          <p:sp>
            <p:nvSpPr>
              <p:cNvPr id="831" name=""/>
              <p:cNvSpPr/>
              <p:nvPr/>
            </p:nvSpPr>
            <p:spPr>
              <a:xfrm>
                <a:off x="5313240" y="6056280"/>
                <a:ext cx="54108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233960" y="5786640"/>
                <a:ext cx="1079280" cy="67464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680" y="340"/>
                    </a:move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233960" y="5516640"/>
                <a:ext cx="162072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4233960" y="5516640"/>
              <a:ext cx="1620720" cy="944640"/>
              <a:chOff x="4233960" y="5516640"/>
              <a:chExt cx="1620720" cy="944640"/>
            </a:xfrm>
          </p:grpSpPr>
          <p:sp>
            <p:nvSpPr>
              <p:cNvPr id="835" name=""/>
              <p:cNvSpPr/>
              <p:nvPr/>
            </p:nvSpPr>
            <p:spPr>
              <a:xfrm>
                <a:off x="5313240" y="6056280"/>
                <a:ext cx="54108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233960" y="5786640"/>
                <a:ext cx="1079280" cy="67464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680" y="340"/>
                    </a:move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233960" y="5516640"/>
                <a:ext cx="162072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8" name=""/>
          <p:cNvGrpSpPr/>
          <p:nvPr/>
        </p:nvGrpSpPr>
        <p:grpSpPr>
          <a:xfrm>
            <a:off x="4233960" y="4437000"/>
            <a:ext cx="1620720" cy="1079640"/>
            <a:chOff x="4233960" y="4437000"/>
            <a:chExt cx="1620720" cy="1079640"/>
          </a:xfrm>
        </p:grpSpPr>
        <p:grpSp>
          <p:nvGrpSpPr>
            <p:cNvPr id="839" name=""/>
            <p:cNvGrpSpPr/>
            <p:nvPr/>
          </p:nvGrpSpPr>
          <p:grpSpPr>
            <a:xfrm>
              <a:off x="4233960" y="4437000"/>
              <a:ext cx="1620720" cy="1079640"/>
              <a:chOff x="4233960" y="4437000"/>
              <a:chExt cx="1620720" cy="1079640"/>
            </a:xfrm>
          </p:grpSpPr>
          <p:sp>
            <p:nvSpPr>
              <p:cNvPr id="840" name=""/>
              <p:cNvSpPr/>
              <p:nvPr/>
            </p:nvSpPr>
            <p:spPr>
              <a:xfrm>
                <a:off x="4233960" y="4437000"/>
                <a:ext cx="162072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233960" y="4707000"/>
                <a:ext cx="1079280" cy="80964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510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170"/>
                    </a:lnTo>
                    <a:lnTo>
                      <a:pt x="680" y="51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313240" y="4977000"/>
                <a:ext cx="541080" cy="53964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0" y="34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170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4233960" y="4437000"/>
              <a:ext cx="1620720" cy="1079640"/>
              <a:chOff x="4233960" y="4437000"/>
              <a:chExt cx="1620720" cy="1079640"/>
            </a:xfrm>
          </p:grpSpPr>
          <p:sp>
            <p:nvSpPr>
              <p:cNvPr id="844" name=""/>
              <p:cNvSpPr/>
              <p:nvPr/>
            </p:nvSpPr>
            <p:spPr>
              <a:xfrm>
                <a:off x="4233960" y="4437000"/>
                <a:ext cx="162072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233960" y="4707000"/>
                <a:ext cx="1079280" cy="80964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510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170"/>
                    </a:lnTo>
                    <a:lnTo>
                      <a:pt x="68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313240" y="4977000"/>
                <a:ext cx="541080" cy="53964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0" y="34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170"/>
                    </a:lnTo>
                    <a:lnTo>
                      <a:pt x="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7" name=""/>
          <p:cNvGrpSpPr/>
          <p:nvPr/>
        </p:nvGrpSpPr>
        <p:grpSpPr>
          <a:xfrm>
            <a:off x="4305240" y="3357720"/>
            <a:ext cx="1622520" cy="1214280"/>
            <a:chOff x="4305240" y="3357720"/>
            <a:chExt cx="1622520" cy="1214280"/>
          </a:xfrm>
        </p:grpSpPr>
        <p:grpSp>
          <p:nvGrpSpPr>
            <p:cNvPr id="848" name=""/>
            <p:cNvGrpSpPr/>
            <p:nvPr/>
          </p:nvGrpSpPr>
          <p:grpSpPr>
            <a:xfrm>
              <a:off x="4305240" y="3357720"/>
              <a:ext cx="1622520" cy="1214280"/>
              <a:chOff x="4305240" y="3357720"/>
              <a:chExt cx="1622520" cy="1214280"/>
            </a:xfrm>
          </p:grpSpPr>
          <p:sp>
            <p:nvSpPr>
              <p:cNvPr id="849" name=""/>
              <p:cNvSpPr/>
              <p:nvPr/>
            </p:nvSpPr>
            <p:spPr>
              <a:xfrm>
                <a:off x="5386320" y="3897360"/>
                <a:ext cx="541440" cy="674640"/>
              </a:xfrm>
              <a:custGeom>
                <a:avLst/>
                <a:gdLst/>
                <a:ahLst/>
                <a:rect l="l" t="t" r="r" b="b"/>
                <a:pathLst>
                  <a:path w="341" h="425">
                    <a:moveTo>
                      <a:pt x="0" y="42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255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305240" y="3357720"/>
                <a:ext cx="162108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305240" y="3627360"/>
                <a:ext cx="1079640" cy="944640"/>
              </a:xfrm>
              <a:custGeom>
                <a:avLst/>
                <a:gdLst/>
                <a:ahLst/>
                <a:rect l="l" t="t" r="r" b="b"/>
                <a:pathLst>
                  <a:path w="680" h="595">
                    <a:moveTo>
                      <a:pt x="680" y="595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680" y="59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4305240" y="3357720"/>
              <a:ext cx="1622520" cy="1214280"/>
              <a:chOff x="4305240" y="3357720"/>
              <a:chExt cx="1622520" cy="1214280"/>
            </a:xfrm>
          </p:grpSpPr>
          <p:sp>
            <p:nvSpPr>
              <p:cNvPr id="853" name=""/>
              <p:cNvSpPr/>
              <p:nvPr/>
            </p:nvSpPr>
            <p:spPr>
              <a:xfrm>
                <a:off x="5386320" y="3897360"/>
                <a:ext cx="541440" cy="674640"/>
              </a:xfrm>
              <a:custGeom>
                <a:avLst/>
                <a:gdLst/>
                <a:ahLst/>
                <a:rect l="l" t="t" r="r" b="b"/>
                <a:pathLst>
                  <a:path w="341" h="425">
                    <a:moveTo>
                      <a:pt x="0" y="42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255"/>
                    </a:lnTo>
                    <a:lnTo>
                      <a:pt x="0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305240" y="3357720"/>
                <a:ext cx="162108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305240" y="3627360"/>
                <a:ext cx="1079640" cy="944640"/>
              </a:xfrm>
              <a:custGeom>
                <a:avLst/>
                <a:gdLst/>
                <a:ahLst/>
                <a:rect l="l" t="t" r="r" b="b"/>
                <a:pathLst>
                  <a:path w="680" h="595">
                    <a:moveTo>
                      <a:pt x="680" y="595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680" y="5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6" name=""/>
          <p:cNvGrpSpPr/>
          <p:nvPr/>
        </p:nvGrpSpPr>
        <p:grpSpPr>
          <a:xfrm>
            <a:off x="2722680" y="5445000"/>
            <a:ext cx="1350360" cy="809640"/>
            <a:chOff x="2722680" y="5445000"/>
            <a:chExt cx="1350360" cy="809640"/>
          </a:xfrm>
        </p:grpSpPr>
        <p:sp>
          <p:nvSpPr>
            <p:cNvPr id="857" name=""/>
            <p:cNvSpPr/>
            <p:nvPr/>
          </p:nvSpPr>
          <p:spPr>
            <a:xfrm>
              <a:off x="2722680" y="5445000"/>
              <a:ext cx="1348920" cy="67500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22680" y="5580000"/>
              <a:ext cx="1079280" cy="674640"/>
            </a:xfrm>
            <a:custGeom>
              <a:avLst/>
              <a:gdLst/>
              <a:ahLst/>
              <a:rect l="l" t="t" r="r" b="b"/>
              <a:pathLst>
                <a:path w="680" h="425">
                  <a:moveTo>
                    <a:pt x="0" y="0"/>
                  </a:moveTo>
                  <a:lnTo>
                    <a:pt x="680" y="340"/>
                  </a:lnTo>
                  <a:lnTo>
                    <a:pt x="680" y="425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803400" y="5985000"/>
              <a:ext cx="26964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0" y="170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85"/>
                  </a:lnTo>
                  <a:lnTo>
                    <a:pt x="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2722680" y="4653000"/>
            <a:ext cx="1350360" cy="944640"/>
            <a:chOff x="2722680" y="4653000"/>
            <a:chExt cx="1350360" cy="944640"/>
          </a:xfrm>
        </p:grpSpPr>
        <p:grpSp>
          <p:nvGrpSpPr>
            <p:cNvPr id="861" name=""/>
            <p:cNvGrpSpPr/>
            <p:nvPr/>
          </p:nvGrpSpPr>
          <p:grpSpPr>
            <a:xfrm>
              <a:off x="2722680" y="4653000"/>
              <a:ext cx="1350360" cy="944640"/>
              <a:chOff x="2722680" y="4653000"/>
              <a:chExt cx="1350360" cy="944640"/>
            </a:xfrm>
          </p:grpSpPr>
          <p:sp>
            <p:nvSpPr>
              <p:cNvPr id="862" name=""/>
              <p:cNvSpPr/>
              <p:nvPr/>
            </p:nvSpPr>
            <p:spPr>
              <a:xfrm>
                <a:off x="3803400" y="5192640"/>
                <a:ext cx="269640" cy="405000"/>
              </a:xfrm>
              <a:custGeom>
                <a:avLst/>
                <a:gdLst/>
                <a:ahLst/>
                <a:rect l="l" t="t" r="r" b="b"/>
                <a:pathLst>
                  <a:path w="170" h="255">
                    <a:moveTo>
                      <a:pt x="170" y="0"/>
                    </a:moveTo>
                    <a:lnTo>
                      <a:pt x="170" y="170"/>
                    </a:lnTo>
                    <a:lnTo>
                      <a:pt x="0" y="255"/>
                    </a:lnTo>
                    <a:lnTo>
                      <a:pt x="0" y="85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724120" y="4788000"/>
                <a:ext cx="1078920" cy="80964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340"/>
                    </a:moveTo>
                    <a:lnTo>
                      <a:pt x="680" y="510"/>
                    </a:lnTo>
                    <a:lnTo>
                      <a:pt x="0" y="170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722680" y="4653000"/>
                <a:ext cx="134928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2722680" y="4653000"/>
              <a:ext cx="1350360" cy="944640"/>
              <a:chOff x="2722680" y="4653000"/>
              <a:chExt cx="1350360" cy="944640"/>
            </a:xfrm>
          </p:grpSpPr>
          <p:sp>
            <p:nvSpPr>
              <p:cNvPr id="866" name=""/>
              <p:cNvSpPr/>
              <p:nvPr/>
            </p:nvSpPr>
            <p:spPr>
              <a:xfrm>
                <a:off x="3803400" y="5192640"/>
                <a:ext cx="269640" cy="405000"/>
              </a:xfrm>
              <a:custGeom>
                <a:avLst/>
                <a:gdLst/>
                <a:ahLst/>
                <a:rect l="l" t="t" r="r" b="b"/>
                <a:pathLst>
                  <a:path w="170" h="255">
                    <a:moveTo>
                      <a:pt x="170" y="0"/>
                    </a:moveTo>
                    <a:lnTo>
                      <a:pt x="170" y="170"/>
                    </a:lnTo>
                    <a:lnTo>
                      <a:pt x="0" y="255"/>
                    </a:lnTo>
                    <a:lnTo>
                      <a:pt x="0" y="85"/>
                    </a:lnTo>
                    <a:lnTo>
                      <a:pt x="1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724120" y="4788000"/>
                <a:ext cx="1078920" cy="80964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340"/>
                    </a:moveTo>
                    <a:lnTo>
                      <a:pt x="680" y="510"/>
                    </a:lnTo>
                    <a:lnTo>
                      <a:pt x="0" y="170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722680" y="4653000"/>
                <a:ext cx="134928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9" name=""/>
          <p:cNvGrpSpPr/>
          <p:nvPr/>
        </p:nvGrpSpPr>
        <p:grpSpPr>
          <a:xfrm>
            <a:off x="2722680" y="3789360"/>
            <a:ext cx="1349280" cy="1079280"/>
            <a:chOff x="2722680" y="3789360"/>
            <a:chExt cx="1349280" cy="1079280"/>
          </a:xfrm>
        </p:grpSpPr>
        <p:grpSp>
          <p:nvGrpSpPr>
            <p:cNvPr id="870" name=""/>
            <p:cNvGrpSpPr/>
            <p:nvPr/>
          </p:nvGrpSpPr>
          <p:grpSpPr>
            <a:xfrm>
              <a:off x="2722680" y="3789360"/>
              <a:ext cx="1349280" cy="1079280"/>
              <a:chOff x="2722680" y="3789360"/>
              <a:chExt cx="1349280" cy="1079280"/>
            </a:xfrm>
          </p:grpSpPr>
          <p:sp>
            <p:nvSpPr>
              <p:cNvPr id="871" name=""/>
              <p:cNvSpPr/>
              <p:nvPr/>
            </p:nvSpPr>
            <p:spPr>
              <a:xfrm>
                <a:off x="2722680" y="3924360"/>
                <a:ext cx="1079280" cy="944280"/>
              </a:xfrm>
              <a:custGeom>
                <a:avLst/>
                <a:gdLst/>
                <a:ahLst/>
                <a:rect l="l" t="t" r="r" b="b"/>
                <a:pathLst>
                  <a:path w="680" h="595">
                    <a:moveTo>
                      <a:pt x="680" y="595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680" y="59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801960" y="4329000"/>
                <a:ext cx="26964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340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722680" y="3789360"/>
                <a:ext cx="134928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2722680" y="3789360"/>
              <a:ext cx="1349280" cy="1079280"/>
              <a:chOff x="2722680" y="3789360"/>
              <a:chExt cx="1349280" cy="1079280"/>
            </a:xfrm>
          </p:grpSpPr>
          <p:sp>
            <p:nvSpPr>
              <p:cNvPr id="875" name=""/>
              <p:cNvSpPr/>
              <p:nvPr/>
            </p:nvSpPr>
            <p:spPr>
              <a:xfrm>
                <a:off x="2722680" y="3924360"/>
                <a:ext cx="1079280" cy="944280"/>
              </a:xfrm>
              <a:custGeom>
                <a:avLst/>
                <a:gdLst/>
                <a:ahLst/>
                <a:rect l="l" t="t" r="r" b="b"/>
                <a:pathLst>
                  <a:path w="680" h="595">
                    <a:moveTo>
                      <a:pt x="680" y="595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680" y="5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801960" y="4329000"/>
                <a:ext cx="26964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340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722680" y="3789360"/>
                <a:ext cx="134928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8" name=""/>
          <p:cNvGrpSpPr/>
          <p:nvPr/>
        </p:nvGrpSpPr>
        <p:grpSpPr>
          <a:xfrm>
            <a:off x="6321600" y="4076640"/>
            <a:ext cx="539640" cy="1351080"/>
            <a:chOff x="6321600" y="4076640"/>
            <a:chExt cx="539640" cy="1351080"/>
          </a:xfrm>
        </p:grpSpPr>
        <p:grpSp>
          <p:nvGrpSpPr>
            <p:cNvPr id="879" name=""/>
            <p:cNvGrpSpPr/>
            <p:nvPr/>
          </p:nvGrpSpPr>
          <p:grpSpPr>
            <a:xfrm>
              <a:off x="6321600" y="4076640"/>
              <a:ext cx="539640" cy="1351080"/>
              <a:chOff x="6321600" y="4076640"/>
              <a:chExt cx="539640" cy="1351080"/>
            </a:xfrm>
          </p:grpSpPr>
          <p:sp>
            <p:nvSpPr>
              <p:cNvPr id="880" name=""/>
              <p:cNvSpPr/>
              <p:nvPr/>
            </p:nvSpPr>
            <p:spPr>
              <a:xfrm>
                <a:off x="6321600" y="4213080"/>
                <a:ext cx="269640" cy="121464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591240" y="4213080"/>
                <a:ext cx="270000" cy="121464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0" y="765"/>
                    </a:moveTo>
                    <a:lnTo>
                      <a:pt x="170" y="680"/>
                    </a:lnTo>
                    <a:lnTo>
                      <a:pt x="170" y="0"/>
                    </a:lnTo>
                    <a:lnTo>
                      <a:pt x="0" y="85"/>
                    </a:lnTo>
                    <a:lnTo>
                      <a:pt x="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321600" y="4076640"/>
                <a:ext cx="539640" cy="271440"/>
              </a:xfrm>
              <a:custGeom>
                <a:avLst/>
                <a:gdLst/>
                <a:ahLst/>
                <a:rect l="l" t="t" r="r" b="b"/>
                <a:pathLst>
                  <a:path w="340" h="171">
                    <a:moveTo>
                      <a:pt x="340" y="86"/>
                    </a:moveTo>
                    <a:lnTo>
                      <a:pt x="170" y="0"/>
                    </a:lnTo>
                    <a:lnTo>
                      <a:pt x="0" y="86"/>
                    </a:lnTo>
                    <a:lnTo>
                      <a:pt x="170" y="171"/>
                    </a:lnTo>
                    <a:lnTo>
                      <a:pt x="340" y="8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6321600" y="4076640"/>
              <a:ext cx="539640" cy="1351080"/>
              <a:chOff x="6321600" y="4076640"/>
              <a:chExt cx="539640" cy="1351080"/>
            </a:xfrm>
          </p:grpSpPr>
          <p:sp>
            <p:nvSpPr>
              <p:cNvPr id="884" name=""/>
              <p:cNvSpPr/>
              <p:nvPr/>
            </p:nvSpPr>
            <p:spPr>
              <a:xfrm>
                <a:off x="6321600" y="4213080"/>
                <a:ext cx="269640" cy="121464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591240" y="4213080"/>
                <a:ext cx="270000" cy="121464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0" y="765"/>
                    </a:moveTo>
                    <a:lnTo>
                      <a:pt x="170" y="680"/>
                    </a:lnTo>
                    <a:lnTo>
                      <a:pt x="170" y="0"/>
                    </a:lnTo>
                    <a:lnTo>
                      <a:pt x="0" y="85"/>
                    </a:lnTo>
                    <a:lnTo>
                      <a:pt x="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321600" y="4076640"/>
                <a:ext cx="539640" cy="271440"/>
              </a:xfrm>
              <a:custGeom>
                <a:avLst/>
                <a:gdLst/>
                <a:ahLst/>
                <a:rect l="l" t="t" r="r" b="b"/>
                <a:pathLst>
                  <a:path w="340" h="171">
                    <a:moveTo>
                      <a:pt x="340" y="86"/>
                    </a:moveTo>
                    <a:lnTo>
                      <a:pt x="170" y="0"/>
                    </a:lnTo>
                    <a:lnTo>
                      <a:pt x="0" y="86"/>
                    </a:lnTo>
                    <a:lnTo>
                      <a:pt x="170" y="171"/>
                    </a:lnTo>
                    <a:lnTo>
                      <a:pt x="340" y="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7113600" y="4005360"/>
            <a:ext cx="811080" cy="1485360"/>
            <a:chOff x="7113600" y="4005360"/>
            <a:chExt cx="811080" cy="1485360"/>
          </a:xfrm>
        </p:grpSpPr>
        <p:grpSp>
          <p:nvGrpSpPr>
            <p:cNvPr id="888" name=""/>
            <p:cNvGrpSpPr/>
            <p:nvPr/>
          </p:nvGrpSpPr>
          <p:grpSpPr>
            <a:xfrm>
              <a:off x="7113600" y="4005360"/>
              <a:ext cx="811080" cy="1485360"/>
              <a:chOff x="7113600" y="4005360"/>
              <a:chExt cx="811080" cy="1485360"/>
            </a:xfrm>
          </p:grpSpPr>
          <p:sp>
            <p:nvSpPr>
              <p:cNvPr id="889" name=""/>
              <p:cNvSpPr/>
              <p:nvPr/>
            </p:nvSpPr>
            <p:spPr>
              <a:xfrm>
                <a:off x="7113600" y="4276440"/>
                <a:ext cx="269640" cy="121428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113600" y="4005360"/>
                <a:ext cx="811080" cy="406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383240" y="4140000"/>
                <a:ext cx="541080" cy="135072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7113600" y="4005360"/>
              <a:ext cx="811080" cy="1485360"/>
              <a:chOff x="7113600" y="4005360"/>
              <a:chExt cx="811080" cy="1485360"/>
            </a:xfrm>
          </p:grpSpPr>
          <p:sp>
            <p:nvSpPr>
              <p:cNvPr id="893" name=""/>
              <p:cNvSpPr/>
              <p:nvPr/>
            </p:nvSpPr>
            <p:spPr>
              <a:xfrm>
                <a:off x="7113600" y="4276440"/>
                <a:ext cx="269640" cy="121428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113600" y="4005360"/>
                <a:ext cx="811080" cy="406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383240" y="4140000"/>
                <a:ext cx="541080" cy="135072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6" name=""/>
          <p:cNvGrpSpPr/>
          <p:nvPr/>
        </p:nvGrpSpPr>
        <p:grpSpPr>
          <a:xfrm>
            <a:off x="8121600" y="4508640"/>
            <a:ext cx="811440" cy="944280"/>
            <a:chOff x="8121600" y="4508640"/>
            <a:chExt cx="811440" cy="944280"/>
          </a:xfrm>
        </p:grpSpPr>
        <p:grpSp>
          <p:nvGrpSpPr>
            <p:cNvPr id="897" name=""/>
            <p:cNvGrpSpPr/>
            <p:nvPr/>
          </p:nvGrpSpPr>
          <p:grpSpPr>
            <a:xfrm>
              <a:off x="8121600" y="4508640"/>
              <a:ext cx="811440" cy="944280"/>
              <a:chOff x="8121600" y="4508640"/>
              <a:chExt cx="811440" cy="944280"/>
            </a:xfrm>
          </p:grpSpPr>
          <p:sp>
            <p:nvSpPr>
              <p:cNvPr id="898" name=""/>
              <p:cNvSpPr/>
              <p:nvPr/>
            </p:nvSpPr>
            <p:spPr>
              <a:xfrm>
                <a:off x="8391600" y="4643280"/>
                <a:ext cx="541440" cy="80964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8121600" y="4778280"/>
                <a:ext cx="270000" cy="67464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8121600" y="4508640"/>
                <a:ext cx="811440" cy="406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8121600" y="4508640"/>
              <a:ext cx="811440" cy="944280"/>
              <a:chOff x="8121600" y="4508640"/>
              <a:chExt cx="811440" cy="944280"/>
            </a:xfrm>
          </p:grpSpPr>
          <p:sp>
            <p:nvSpPr>
              <p:cNvPr id="902" name=""/>
              <p:cNvSpPr/>
              <p:nvPr/>
            </p:nvSpPr>
            <p:spPr>
              <a:xfrm>
                <a:off x="8391600" y="4643280"/>
                <a:ext cx="541440" cy="80964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121600" y="4778280"/>
                <a:ext cx="270000" cy="67464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121600" y="4508640"/>
                <a:ext cx="811440" cy="406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5" name=""/>
          <p:cNvGrpSpPr/>
          <p:nvPr/>
        </p:nvGrpSpPr>
        <p:grpSpPr>
          <a:xfrm>
            <a:off x="6394320" y="5805360"/>
            <a:ext cx="274680" cy="687240"/>
            <a:chOff x="6394320" y="5805360"/>
            <a:chExt cx="274680" cy="687240"/>
          </a:xfrm>
        </p:grpSpPr>
        <p:grpSp>
          <p:nvGrpSpPr>
            <p:cNvPr id="906" name=""/>
            <p:cNvGrpSpPr/>
            <p:nvPr/>
          </p:nvGrpSpPr>
          <p:grpSpPr>
            <a:xfrm>
              <a:off x="6394320" y="5805360"/>
              <a:ext cx="274680" cy="687240"/>
              <a:chOff x="6394320" y="5805360"/>
              <a:chExt cx="274680" cy="687240"/>
            </a:xfrm>
          </p:grpSpPr>
          <p:sp>
            <p:nvSpPr>
              <p:cNvPr id="907" name=""/>
              <p:cNvSpPr/>
              <p:nvPr/>
            </p:nvSpPr>
            <p:spPr>
              <a:xfrm>
                <a:off x="6394320" y="5875200"/>
                <a:ext cx="13788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532200" y="5875200"/>
                <a:ext cx="13680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0" y="765"/>
                    </a:moveTo>
                    <a:lnTo>
                      <a:pt x="170" y="680"/>
                    </a:lnTo>
                    <a:lnTo>
                      <a:pt x="170" y="0"/>
                    </a:lnTo>
                    <a:lnTo>
                      <a:pt x="0" y="85"/>
                    </a:lnTo>
                    <a:lnTo>
                      <a:pt x="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394320" y="5805360"/>
                <a:ext cx="274680" cy="137880"/>
              </a:xfrm>
              <a:custGeom>
                <a:avLst/>
                <a:gdLst/>
                <a:ahLst/>
                <a:rect l="l" t="t" r="r" b="b"/>
                <a:pathLst>
                  <a:path w="340" h="171">
                    <a:moveTo>
                      <a:pt x="340" y="86"/>
                    </a:moveTo>
                    <a:lnTo>
                      <a:pt x="170" y="0"/>
                    </a:lnTo>
                    <a:lnTo>
                      <a:pt x="0" y="86"/>
                    </a:lnTo>
                    <a:lnTo>
                      <a:pt x="170" y="171"/>
                    </a:lnTo>
                    <a:lnTo>
                      <a:pt x="340" y="8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6394320" y="5805360"/>
              <a:ext cx="274680" cy="687240"/>
              <a:chOff x="6394320" y="5805360"/>
              <a:chExt cx="274680" cy="687240"/>
            </a:xfrm>
          </p:grpSpPr>
          <p:sp>
            <p:nvSpPr>
              <p:cNvPr id="911" name=""/>
              <p:cNvSpPr/>
              <p:nvPr/>
            </p:nvSpPr>
            <p:spPr>
              <a:xfrm>
                <a:off x="6394320" y="5875200"/>
                <a:ext cx="13788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532200" y="5875200"/>
                <a:ext cx="13680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0" y="765"/>
                    </a:moveTo>
                    <a:lnTo>
                      <a:pt x="170" y="680"/>
                    </a:lnTo>
                    <a:lnTo>
                      <a:pt x="170" y="0"/>
                    </a:lnTo>
                    <a:lnTo>
                      <a:pt x="0" y="85"/>
                    </a:lnTo>
                    <a:lnTo>
                      <a:pt x="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394320" y="5805360"/>
                <a:ext cx="274680" cy="137880"/>
              </a:xfrm>
              <a:custGeom>
                <a:avLst/>
                <a:gdLst/>
                <a:ahLst/>
                <a:rect l="l" t="t" r="r" b="b"/>
                <a:pathLst>
                  <a:path w="340" h="171">
                    <a:moveTo>
                      <a:pt x="340" y="86"/>
                    </a:moveTo>
                    <a:lnTo>
                      <a:pt x="170" y="0"/>
                    </a:lnTo>
                    <a:lnTo>
                      <a:pt x="0" y="86"/>
                    </a:lnTo>
                    <a:lnTo>
                      <a:pt x="170" y="171"/>
                    </a:lnTo>
                    <a:lnTo>
                      <a:pt x="340" y="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4" name=""/>
          <p:cNvGrpSpPr/>
          <p:nvPr/>
        </p:nvGrpSpPr>
        <p:grpSpPr>
          <a:xfrm>
            <a:off x="6897600" y="5732640"/>
            <a:ext cx="412560" cy="755640"/>
            <a:chOff x="6897600" y="5732640"/>
            <a:chExt cx="412560" cy="755640"/>
          </a:xfrm>
        </p:grpSpPr>
        <p:grpSp>
          <p:nvGrpSpPr>
            <p:cNvPr id="915" name=""/>
            <p:cNvGrpSpPr/>
            <p:nvPr/>
          </p:nvGrpSpPr>
          <p:grpSpPr>
            <a:xfrm>
              <a:off x="6897600" y="5732640"/>
              <a:ext cx="412560" cy="755640"/>
              <a:chOff x="6897600" y="5732640"/>
              <a:chExt cx="412560" cy="755640"/>
            </a:xfrm>
          </p:grpSpPr>
          <p:sp>
            <p:nvSpPr>
              <p:cNvPr id="916" name=""/>
              <p:cNvSpPr/>
              <p:nvPr/>
            </p:nvSpPr>
            <p:spPr>
              <a:xfrm>
                <a:off x="6897600" y="5870880"/>
                <a:ext cx="13788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897600" y="5732640"/>
                <a:ext cx="412560" cy="2062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035480" y="5801040"/>
                <a:ext cx="274680" cy="68724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6897600" y="5732640"/>
              <a:ext cx="412560" cy="755640"/>
              <a:chOff x="6897600" y="5732640"/>
              <a:chExt cx="412560" cy="755640"/>
            </a:xfrm>
          </p:grpSpPr>
          <p:sp>
            <p:nvSpPr>
              <p:cNvPr id="920" name=""/>
              <p:cNvSpPr/>
              <p:nvPr/>
            </p:nvSpPr>
            <p:spPr>
              <a:xfrm>
                <a:off x="6897600" y="5870880"/>
                <a:ext cx="13788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897600" y="5732640"/>
                <a:ext cx="412560" cy="2062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035480" y="5801040"/>
                <a:ext cx="274680" cy="68724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3" name=""/>
          <p:cNvGrpSpPr/>
          <p:nvPr/>
        </p:nvGrpSpPr>
        <p:grpSpPr>
          <a:xfrm>
            <a:off x="7547040" y="5948280"/>
            <a:ext cx="412560" cy="480960"/>
            <a:chOff x="7547040" y="5948280"/>
            <a:chExt cx="412560" cy="480960"/>
          </a:xfrm>
        </p:grpSpPr>
        <p:grpSp>
          <p:nvGrpSpPr>
            <p:cNvPr id="924" name=""/>
            <p:cNvGrpSpPr/>
            <p:nvPr/>
          </p:nvGrpSpPr>
          <p:grpSpPr>
            <a:xfrm>
              <a:off x="7547040" y="5948280"/>
              <a:ext cx="412560" cy="480960"/>
              <a:chOff x="7547040" y="5948280"/>
              <a:chExt cx="412560" cy="480960"/>
            </a:xfrm>
          </p:grpSpPr>
          <p:sp>
            <p:nvSpPr>
              <p:cNvPr id="925" name=""/>
              <p:cNvSpPr/>
              <p:nvPr/>
            </p:nvSpPr>
            <p:spPr>
              <a:xfrm>
                <a:off x="7683480" y="6018120"/>
                <a:ext cx="276120" cy="41112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547040" y="6086520"/>
                <a:ext cx="136440" cy="34272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547040" y="5948280"/>
                <a:ext cx="412560" cy="208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7547040" y="5948280"/>
              <a:ext cx="412560" cy="480960"/>
              <a:chOff x="7547040" y="5948280"/>
              <a:chExt cx="412560" cy="480960"/>
            </a:xfrm>
          </p:grpSpPr>
          <p:sp>
            <p:nvSpPr>
              <p:cNvPr id="929" name=""/>
              <p:cNvSpPr/>
              <p:nvPr/>
            </p:nvSpPr>
            <p:spPr>
              <a:xfrm>
                <a:off x="7683480" y="6018120"/>
                <a:ext cx="276120" cy="41112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547040" y="6086520"/>
                <a:ext cx="136440" cy="34272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547040" y="5948280"/>
                <a:ext cx="412560" cy="208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2" name=""/>
          <p:cNvGrpSpPr/>
          <p:nvPr/>
        </p:nvGrpSpPr>
        <p:grpSpPr>
          <a:xfrm>
            <a:off x="1352520" y="549360"/>
            <a:ext cx="1081080" cy="944280"/>
            <a:chOff x="1352520" y="549360"/>
            <a:chExt cx="1081080" cy="944280"/>
          </a:xfrm>
        </p:grpSpPr>
        <p:sp>
          <p:nvSpPr>
            <p:cNvPr id="933" name=""/>
            <p:cNvSpPr/>
            <p:nvPr/>
          </p:nvSpPr>
          <p:spPr>
            <a:xfrm>
              <a:off x="1352520" y="54936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352520" y="819000"/>
              <a:ext cx="539640" cy="674640"/>
            </a:xfrm>
            <a:custGeom>
              <a:avLst/>
              <a:gdLst/>
              <a:ahLst/>
              <a:rect l="l" t="t" r="r" b="b"/>
              <a:pathLst>
                <a:path w="340" h="425">
                  <a:moveTo>
                    <a:pt x="0" y="0"/>
                  </a:moveTo>
                  <a:lnTo>
                    <a:pt x="340" y="170"/>
                  </a:lnTo>
                  <a:lnTo>
                    <a:pt x="340" y="425"/>
                  </a:lnTo>
                  <a:lnTo>
                    <a:pt x="0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892160" y="819000"/>
              <a:ext cx="541440" cy="674640"/>
            </a:xfrm>
            <a:custGeom>
              <a:avLst/>
              <a:gdLst/>
              <a:ahLst/>
              <a:rect l="l" t="t" r="r" b="b"/>
              <a:pathLst>
                <a:path w="341" h="425">
                  <a:moveTo>
                    <a:pt x="341" y="0"/>
                  </a:moveTo>
                  <a:lnTo>
                    <a:pt x="341" y="255"/>
                  </a:lnTo>
                  <a:lnTo>
                    <a:pt x="0" y="425"/>
                  </a:lnTo>
                  <a:lnTo>
                    <a:pt x="0" y="170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488880" y="5661000"/>
            <a:ext cx="809640" cy="539640"/>
            <a:chOff x="488880" y="5661000"/>
            <a:chExt cx="809640" cy="539640"/>
          </a:xfrm>
        </p:grpSpPr>
        <p:sp>
          <p:nvSpPr>
            <p:cNvPr id="937" name=""/>
            <p:cNvSpPr/>
            <p:nvPr/>
          </p:nvSpPr>
          <p:spPr>
            <a:xfrm>
              <a:off x="1028520" y="5930640"/>
              <a:ext cx="270000" cy="27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0" y="340"/>
                  </a:moveTo>
                  <a:lnTo>
                    <a:pt x="0" y="170"/>
                  </a:lnTo>
                  <a:lnTo>
                    <a:pt x="340" y="0"/>
                  </a:lnTo>
                  <a:lnTo>
                    <a:pt x="340" y="170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88880" y="5795640"/>
              <a:ext cx="539640" cy="40500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51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680" y="340"/>
                  </a:lnTo>
                  <a:lnTo>
                    <a:pt x="680" y="51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88880" y="5661000"/>
              <a:ext cx="809640" cy="40464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488880" y="4940280"/>
            <a:ext cx="811080" cy="676440"/>
            <a:chOff x="488880" y="4940280"/>
            <a:chExt cx="811080" cy="676440"/>
          </a:xfrm>
        </p:grpSpPr>
        <p:sp>
          <p:nvSpPr>
            <p:cNvPr id="941" name=""/>
            <p:cNvSpPr/>
            <p:nvPr/>
          </p:nvSpPr>
          <p:spPr>
            <a:xfrm>
              <a:off x="1030320" y="5211720"/>
              <a:ext cx="269640" cy="405000"/>
            </a:xfrm>
            <a:custGeom>
              <a:avLst/>
              <a:gdLst/>
              <a:ahLst/>
              <a:rect l="l" t="t" r="r" b="b"/>
              <a:pathLst>
                <a:path w="170" h="255">
                  <a:moveTo>
                    <a:pt x="0" y="255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170"/>
                  </a:lnTo>
                  <a:lnTo>
                    <a:pt x="0" y="255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90320" y="5076720"/>
              <a:ext cx="54000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34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340" y="170"/>
                  </a:lnTo>
                  <a:lnTo>
                    <a:pt x="340" y="34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88880" y="4940280"/>
              <a:ext cx="809640" cy="40500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488880" y="4076640"/>
            <a:ext cx="809640" cy="809640"/>
            <a:chOff x="488880" y="4076640"/>
            <a:chExt cx="809640" cy="809640"/>
          </a:xfrm>
        </p:grpSpPr>
        <p:sp>
          <p:nvSpPr>
            <p:cNvPr id="945" name=""/>
            <p:cNvSpPr/>
            <p:nvPr/>
          </p:nvSpPr>
          <p:spPr>
            <a:xfrm>
              <a:off x="488880" y="4076640"/>
              <a:ext cx="809640" cy="40500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88880" y="4211640"/>
              <a:ext cx="539640" cy="674640"/>
            </a:xfrm>
            <a:custGeom>
              <a:avLst/>
              <a:gdLst/>
              <a:ahLst/>
              <a:rect l="l" t="t" r="r" b="b"/>
              <a:pathLst>
                <a:path w="340" h="425">
                  <a:moveTo>
                    <a:pt x="340" y="425"/>
                  </a:moveTo>
                  <a:lnTo>
                    <a:pt x="340" y="17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340" y="425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28520" y="4346640"/>
              <a:ext cx="270000" cy="539640"/>
            </a:xfrm>
            <a:custGeom>
              <a:avLst/>
              <a:gdLst/>
              <a:ahLst/>
              <a:rect l="l" t="t" r="r" b="b"/>
              <a:pathLst>
                <a:path w="170" h="340">
                  <a:moveTo>
                    <a:pt x="0" y="85"/>
                  </a:moveTo>
                  <a:lnTo>
                    <a:pt x="170" y="0"/>
                  </a:lnTo>
                  <a:lnTo>
                    <a:pt x="170" y="255"/>
                  </a:lnTo>
                  <a:lnTo>
                    <a:pt x="0" y="34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1425600" y="5516640"/>
            <a:ext cx="1081080" cy="674640"/>
            <a:chOff x="1425600" y="5516640"/>
            <a:chExt cx="1081080" cy="674640"/>
          </a:xfrm>
        </p:grpSpPr>
        <p:sp>
          <p:nvSpPr>
            <p:cNvPr id="949" name=""/>
            <p:cNvSpPr/>
            <p:nvPr/>
          </p:nvSpPr>
          <p:spPr>
            <a:xfrm>
              <a:off x="1965240" y="5786280"/>
              <a:ext cx="541440" cy="405000"/>
            </a:xfrm>
            <a:custGeom>
              <a:avLst/>
              <a:gdLst/>
              <a:ahLst/>
              <a:rect l="l" t="t" r="r" b="b"/>
              <a:pathLst>
                <a:path w="341" h="255">
                  <a:moveTo>
                    <a:pt x="0" y="25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85"/>
                  </a:lnTo>
                  <a:lnTo>
                    <a:pt x="0" y="255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425600" y="5786280"/>
              <a:ext cx="539640" cy="405000"/>
            </a:xfrm>
            <a:custGeom>
              <a:avLst/>
              <a:gdLst/>
              <a:ahLst/>
              <a:rect l="l" t="t" r="r" b="b"/>
              <a:pathLst>
                <a:path w="340" h="255">
                  <a:moveTo>
                    <a:pt x="340" y="170"/>
                  </a:moveTo>
                  <a:lnTo>
                    <a:pt x="340" y="255"/>
                  </a:lnTo>
                  <a:lnTo>
                    <a:pt x="0" y="85"/>
                  </a:lnTo>
                  <a:lnTo>
                    <a:pt x="0" y="0"/>
                  </a:lnTo>
                  <a:lnTo>
                    <a:pt x="340" y="17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425600" y="551664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1425600" y="4653000"/>
            <a:ext cx="1081080" cy="809640"/>
            <a:chOff x="1425600" y="4653000"/>
            <a:chExt cx="1081080" cy="809640"/>
          </a:xfrm>
        </p:grpSpPr>
        <p:sp>
          <p:nvSpPr>
            <p:cNvPr id="953" name=""/>
            <p:cNvSpPr/>
            <p:nvPr/>
          </p:nvSpPr>
          <p:spPr>
            <a:xfrm>
              <a:off x="1425600" y="465300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965240" y="4923000"/>
              <a:ext cx="541440" cy="539640"/>
            </a:xfrm>
            <a:custGeom>
              <a:avLst/>
              <a:gdLst/>
              <a:ahLst/>
              <a:rect l="l" t="t" r="r" b="b"/>
              <a:pathLst>
                <a:path w="341" h="340">
                  <a:moveTo>
                    <a:pt x="0" y="170"/>
                  </a:moveTo>
                  <a:lnTo>
                    <a:pt x="341" y="0"/>
                  </a:lnTo>
                  <a:lnTo>
                    <a:pt x="341" y="170"/>
                  </a:lnTo>
                  <a:lnTo>
                    <a:pt x="0" y="34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425600" y="492300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34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340" y="170"/>
                  </a:lnTo>
                  <a:lnTo>
                    <a:pt x="340" y="34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1425600" y="3573360"/>
            <a:ext cx="1081080" cy="944280"/>
            <a:chOff x="1425600" y="3573360"/>
            <a:chExt cx="1081080" cy="944280"/>
          </a:xfrm>
        </p:grpSpPr>
        <p:sp>
          <p:nvSpPr>
            <p:cNvPr id="957" name=""/>
            <p:cNvSpPr/>
            <p:nvPr/>
          </p:nvSpPr>
          <p:spPr>
            <a:xfrm>
              <a:off x="1425600" y="357336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425600" y="3843000"/>
              <a:ext cx="539640" cy="674640"/>
            </a:xfrm>
            <a:custGeom>
              <a:avLst/>
              <a:gdLst/>
              <a:ahLst/>
              <a:rect l="l" t="t" r="r" b="b"/>
              <a:pathLst>
                <a:path w="340" h="425">
                  <a:moveTo>
                    <a:pt x="0" y="0"/>
                  </a:moveTo>
                  <a:lnTo>
                    <a:pt x="340" y="170"/>
                  </a:lnTo>
                  <a:lnTo>
                    <a:pt x="340" y="425"/>
                  </a:lnTo>
                  <a:lnTo>
                    <a:pt x="0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965240" y="3843000"/>
              <a:ext cx="541440" cy="674640"/>
            </a:xfrm>
            <a:custGeom>
              <a:avLst/>
              <a:gdLst/>
              <a:ahLst/>
              <a:rect l="l" t="t" r="r" b="b"/>
              <a:pathLst>
                <a:path w="341" h="425">
                  <a:moveTo>
                    <a:pt x="341" y="0"/>
                  </a:moveTo>
                  <a:lnTo>
                    <a:pt x="341" y="255"/>
                  </a:lnTo>
                  <a:lnTo>
                    <a:pt x="0" y="425"/>
                  </a:lnTo>
                  <a:lnTo>
                    <a:pt x="0" y="170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2722680" y="5445000"/>
            <a:ext cx="1350360" cy="809640"/>
            <a:chOff x="2722680" y="5445000"/>
            <a:chExt cx="1350360" cy="809640"/>
          </a:xfrm>
        </p:grpSpPr>
        <p:sp>
          <p:nvSpPr>
            <p:cNvPr id="961" name=""/>
            <p:cNvSpPr/>
            <p:nvPr/>
          </p:nvSpPr>
          <p:spPr>
            <a:xfrm>
              <a:off x="2722680" y="5445000"/>
              <a:ext cx="1348920" cy="67500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722680" y="5580000"/>
              <a:ext cx="1079280" cy="674640"/>
            </a:xfrm>
            <a:custGeom>
              <a:avLst/>
              <a:gdLst/>
              <a:ahLst/>
              <a:rect l="l" t="t" r="r" b="b"/>
              <a:pathLst>
                <a:path w="680" h="425">
                  <a:moveTo>
                    <a:pt x="0" y="0"/>
                  </a:moveTo>
                  <a:lnTo>
                    <a:pt x="680" y="340"/>
                  </a:lnTo>
                  <a:lnTo>
                    <a:pt x="680" y="425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803400" y="5985000"/>
              <a:ext cx="26964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0" y="170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85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2722680" y="4653000"/>
            <a:ext cx="1350360" cy="944640"/>
            <a:chOff x="2722680" y="4653000"/>
            <a:chExt cx="1350360" cy="944640"/>
          </a:xfrm>
        </p:grpSpPr>
        <p:sp>
          <p:nvSpPr>
            <p:cNvPr id="965" name=""/>
            <p:cNvSpPr/>
            <p:nvPr/>
          </p:nvSpPr>
          <p:spPr>
            <a:xfrm>
              <a:off x="3803400" y="5192640"/>
              <a:ext cx="269640" cy="405000"/>
            </a:xfrm>
            <a:custGeom>
              <a:avLst/>
              <a:gdLst/>
              <a:ahLst/>
              <a:rect l="l" t="t" r="r" b="b"/>
              <a:pathLst>
                <a:path w="170" h="255">
                  <a:moveTo>
                    <a:pt x="170" y="0"/>
                  </a:moveTo>
                  <a:lnTo>
                    <a:pt x="170" y="170"/>
                  </a:lnTo>
                  <a:lnTo>
                    <a:pt x="0" y="255"/>
                  </a:lnTo>
                  <a:lnTo>
                    <a:pt x="0" y="85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724120" y="4788000"/>
              <a:ext cx="1078920" cy="80964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340"/>
                  </a:moveTo>
                  <a:lnTo>
                    <a:pt x="680" y="510"/>
                  </a:lnTo>
                  <a:lnTo>
                    <a:pt x="0" y="170"/>
                  </a:lnTo>
                  <a:lnTo>
                    <a:pt x="0" y="0"/>
                  </a:lnTo>
                  <a:lnTo>
                    <a:pt x="680" y="34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722680" y="4653000"/>
              <a:ext cx="1349280" cy="67464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2722680" y="3789360"/>
            <a:ext cx="1349280" cy="1079280"/>
            <a:chOff x="2722680" y="3789360"/>
            <a:chExt cx="1349280" cy="1079280"/>
          </a:xfrm>
        </p:grpSpPr>
        <p:sp>
          <p:nvSpPr>
            <p:cNvPr id="969" name=""/>
            <p:cNvSpPr/>
            <p:nvPr/>
          </p:nvSpPr>
          <p:spPr>
            <a:xfrm>
              <a:off x="2722680" y="3924360"/>
              <a:ext cx="1079280" cy="944280"/>
            </a:xfrm>
            <a:custGeom>
              <a:avLst/>
              <a:gdLst/>
              <a:ahLst/>
              <a:rect l="l" t="t" r="r" b="b"/>
              <a:pathLst>
                <a:path w="680" h="595">
                  <a:moveTo>
                    <a:pt x="680" y="595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680" y="595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1960" y="4329000"/>
              <a:ext cx="269640" cy="539640"/>
            </a:xfrm>
            <a:custGeom>
              <a:avLst/>
              <a:gdLst/>
              <a:ahLst/>
              <a:rect l="l" t="t" r="r" b="b"/>
              <a:pathLst>
                <a:path w="170" h="340">
                  <a:moveTo>
                    <a:pt x="0" y="340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255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722680" y="3789360"/>
              <a:ext cx="1349280" cy="67464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6321600" y="4076640"/>
            <a:ext cx="539640" cy="1351080"/>
            <a:chOff x="6321600" y="4076640"/>
            <a:chExt cx="539640" cy="1351080"/>
          </a:xfrm>
        </p:grpSpPr>
        <p:sp>
          <p:nvSpPr>
            <p:cNvPr id="973" name=""/>
            <p:cNvSpPr/>
            <p:nvPr/>
          </p:nvSpPr>
          <p:spPr>
            <a:xfrm>
              <a:off x="6321600" y="4213080"/>
              <a:ext cx="269640" cy="121464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591240" y="4213080"/>
              <a:ext cx="270000" cy="121464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0" y="765"/>
                  </a:moveTo>
                  <a:lnTo>
                    <a:pt x="170" y="680"/>
                  </a:lnTo>
                  <a:lnTo>
                    <a:pt x="170" y="0"/>
                  </a:lnTo>
                  <a:lnTo>
                    <a:pt x="0" y="85"/>
                  </a:lnTo>
                  <a:lnTo>
                    <a:pt x="0" y="765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321600" y="4076640"/>
              <a:ext cx="539640" cy="271440"/>
            </a:xfrm>
            <a:custGeom>
              <a:avLst/>
              <a:gdLst/>
              <a:ahLst/>
              <a:rect l="l" t="t" r="r" b="b"/>
              <a:pathLst>
                <a:path w="340" h="171">
                  <a:moveTo>
                    <a:pt x="340" y="86"/>
                  </a:moveTo>
                  <a:lnTo>
                    <a:pt x="170" y="0"/>
                  </a:lnTo>
                  <a:lnTo>
                    <a:pt x="0" y="86"/>
                  </a:lnTo>
                  <a:lnTo>
                    <a:pt x="170" y="171"/>
                  </a:lnTo>
                  <a:lnTo>
                    <a:pt x="340" y="86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8121600" y="4508640"/>
            <a:ext cx="811440" cy="944280"/>
            <a:chOff x="8121600" y="4508640"/>
            <a:chExt cx="811440" cy="944280"/>
          </a:xfrm>
        </p:grpSpPr>
        <p:sp>
          <p:nvSpPr>
            <p:cNvPr id="977" name=""/>
            <p:cNvSpPr/>
            <p:nvPr/>
          </p:nvSpPr>
          <p:spPr>
            <a:xfrm>
              <a:off x="8391600" y="4643280"/>
              <a:ext cx="541440" cy="809640"/>
            </a:xfrm>
            <a:custGeom>
              <a:avLst/>
              <a:gdLst/>
              <a:ahLst/>
              <a:rect l="l" t="t" r="r" b="b"/>
              <a:pathLst>
                <a:path w="341" h="510">
                  <a:moveTo>
                    <a:pt x="0" y="51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340"/>
                  </a:lnTo>
                  <a:lnTo>
                    <a:pt x="0" y="51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121600" y="4778280"/>
              <a:ext cx="270000" cy="674640"/>
            </a:xfrm>
            <a:custGeom>
              <a:avLst/>
              <a:gdLst/>
              <a:ahLst/>
              <a:rect l="l" t="t" r="r" b="b"/>
              <a:pathLst>
                <a:path w="170" h="425">
                  <a:moveTo>
                    <a:pt x="170" y="425"/>
                  </a:moveTo>
                  <a:lnTo>
                    <a:pt x="170" y="85"/>
                  </a:lnTo>
                  <a:lnTo>
                    <a:pt x="0" y="0"/>
                  </a:lnTo>
                  <a:lnTo>
                    <a:pt x="0" y="340"/>
                  </a:lnTo>
                  <a:lnTo>
                    <a:pt x="170" y="425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121600" y="4508640"/>
              <a:ext cx="811440" cy="4060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6394320" y="5805360"/>
            <a:ext cx="274680" cy="687240"/>
            <a:chOff x="6394320" y="5805360"/>
            <a:chExt cx="274680" cy="687240"/>
          </a:xfrm>
        </p:grpSpPr>
        <p:sp>
          <p:nvSpPr>
            <p:cNvPr id="981" name=""/>
            <p:cNvSpPr/>
            <p:nvPr/>
          </p:nvSpPr>
          <p:spPr>
            <a:xfrm>
              <a:off x="6394320" y="5875200"/>
              <a:ext cx="13788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532200" y="5875200"/>
              <a:ext cx="13680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0" y="765"/>
                  </a:moveTo>
                  <a:lnTo>
                    <a:pt x="170" y="680"/>
                  </a:lnTo>
                  <a:lnTo>
                    <a:pt x="170" y="0"/>
                  </a:lnTo>
                  <a:lnTo>
                    <a:pt x="0" y="85"/>
                  </a:lnTo>
                  <a:lnTo>
                    <a:pt x="0" y="765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394320" y="5805360"/>
              <a:ext cx="274680" cy="137880"/>
            </a:xfrm>
            <a:custGeom>
              <a:avLst/>
              <a:gdLst/>
              <a:ahLst/>
              <a:rect l="l" t="t" r="r" b="b"/>
              <a:pathLst>
                <a:path w="340" h="171">
                  <a:moveTo>
                    <a:pt x="340" y="86"/>
                  </a:moveTo>
                  <a:lnTo>
                    <a:pt x="170" y="0"/>
                  </a:lnTo>
                  <a:lnTo>
                    <a:pt x="0" y="86"/>
                  </a:lnTo>
                  <a:lnTo>
                    <a:pt x="170" y="171"/>
                  </a:lnTo>
                  <a:lnTo>
                    <a:pt x="340" y="86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415800" y="2637000"/>
            <a:ext cx="809640" cy="539640"/>
            <a:chOff x="415800" y="2637000"/>
            <a:chExt cx="809640" cy="539640"/>
          </a:xfrm>
        </p:grpSpPr>
        <p:grpSp>
          <p:nvGrpSpPr>
            <p:cNvPr id="985" name=""/>
            <p:cNvGrpSpPr/>
            <p:nvPr/>
          </p:nvGrpSpPr>
          <p:grpSpPr>
            <a:xfrm>
              <a:off x="415800" y="2637000"/>
              <a:ext cx="809640" cy="539640"/>
              <a:chOff x="415800" y="2637000"/>
              <a:chExt cx="809640" cy="539640"/>
            </a:xfrm>
          </p:grpSpPr>
          <p:sp>
            <p:nvSpPr>
              <p:cNvPr id="986" name=""/>
              <p:cNvSpPr/>
              <p:nvPr/>
            </p:nvSpPr>
            <p:spPr>
              <a:xfrm>
                <a:off x="955440" y="2906640"/>
                <a:ext cx="270000" cy="27000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0" y="340"/>
                    </a:moveTo>
                    <a:lnTo>
                      <a:pt x="0" y="170"/>
                    </a:lnTo>
                    <a:lnTo>
                      <a:pt x="340" y="0"/>
                    </a:lnTo>
                    <a:lnTo>
                      <a:pt x="340" y="170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15800" y="2771640"/>
                <a:ext cx="539640" cy="40500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51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680" y="340"/>
                    </a:lnTo>
                    <a:lnTo>
                      <a:pt x="680" y="51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15800" y="2637000"/>
                <a:ext cx="809640" cy="40464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415800" y="2637000"/>
              <a:ext cx="809640" cy="539640"/>
              <a:chOff x="415800" y="2637000"/>
              <a:chExt cx="809640" cy="539640"/>
            </a:xfrm>
          </p:grpSpPr>
          <p:sp>
            <p:nvSpPr>
              <p:cNvPr id="990" name=""/>
              <p:cNvSpPr/>
              <p:nvPr/>
            </p:nvSpPr>
            <p:spPr>
              <a:xfrm>
                <a:off x="955440" y="2906640"/>
                <a:ext cx="270000" cy="27000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0" y="340"/>
                    </a:moveTo>
                    <a:lnTo>
                      <a:pt x="0" y="170"/>
                    </a:lnTo>
                    <a:lnTo>
                      <a:pt x="340" y="0"/>
                    </a:lnTo>
                    <a:lnTo>
                      <a:pt x="340" y="170"/>
                    </a:lnTo>
                    <a:lnTo>
                      <a:pt x="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15800" y="2771640"/>
                <a:ext cx="539640" cy="40500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51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680" y="340"/>
                    </a:lnTo>
                    <a:lnTo>
                      <a:pt x="68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15800" y="2637000"/>
                <a:ext cx="809640" cy="40464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3" name=""/>
          <p:cNvGrpSpPr/>
          <p:nvPr/>
        </p:nvGrpSpPr>
        <p:grpSpPr>
          <a:xfrm>
            <a:off x="415800" y="1916280"/>
            <a:ext cx="811080" cy="675720"/>
            <a:chOff x="415800" y="1916280"/>
            <a:chExt cx="811080" cy="675720"/>
          </a:xfrm>
        </p:grpSpPr>
        <p:grpSp>
          <p:nvGrpSpPr>
            <p:cNvPr id="994" name=""/>
            <p:cNvGrpSpPr/>
            <p:nvPr/>
          </p:nvGrpSpPr>
          <p:grpSpPr>
            <a:xfrm>
              <a:off x="415800" y="1916280"/>
              <a:ext cx="811080" cy="675720"/>
              <a:chOff x="415800" y="1916280"/>
              <a:chExt cx="811080" cy="675720"/>
            </a:xfrm>
          </p:grpSpPr>
          <p:sp>
            <p:nvSpPr>
              <p:cNvPr id="995" name=""/>
              <p:cNvSpPr/>
              <p:nvPr/>
            </p:nvSpPr>
            <p:spPr>
              <a:xfrm>
                <a:off x="957240" y="2187360"/>
                <a:ext cx="269640" cy="404640"/>
              </a:xfrm>
              <a:custGeom>
                <a:avLst/>
                <a:gdLst/>
                <a:ahLst/>
                <a:rect l="l" t="t" r="r" b="b"/>
                <a:pathLst>
                  <a:path w="170" h="255">
                    <a:moveTo>
                      <a:pt x="0" y="255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170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17240" y="2052360"/>
                <a:ext cx="540000" cy="53964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340" y="34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340" y="170"/>
                    </a:lnTo>
                    <a:lnTo>
                      <a:pt x="34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15800" y="1916280"/>
                <a:ext cx="809640" cy="40464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415800" y="1916280"/>
              <a:ext cx="811080" cy="675720"/>
              <a:chOff x="415800" y="1916280"/>
              <a:chExt cx="811080" cy="675720"/>
            </a:xfrm>
          </p:grpSpPr>
          <p:sp>
            <p:nvSpPr>
              <p:cNvPr id="999" name=""/>
              <p:cNvSpPr/>
              <p:nvPr/>
            </p:nvSpPr>
            <p:spPr>
              <a:xfrm>
                <a:off x="957240" y="2187360"/>
                <a:ext cx="269640" cy="404640"/>
              </a:xfrm>
              <a:custGeom>
                <a:avLst/>
                <a:gdLst/>
                <a:ahLst/>
                <a:rect l="l" t="t" r="r" b="b"/>
                <a:pathLst>
                  <a:path w="170" h="255">
                    <a:moveTo>
                      <a:pt x="0" y="255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170"/>
                    </a:lnTo>
                    <a:lnTo>
                      <a:pt x="0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17240" y="2052360"/>
                <a:ext cx="540000" cy="53964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340" y="34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340" y="170"/>
                    </a:lnTo>
                    <a:lnTo>
                      <a:pt x="34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15800" y="1916280"/>
                <a:ext cx="809640" cy="40464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2" name=""/>
          <p:cNvGrpSpPr/>
          <p:nvPr/>
        </p:nvGrpSpPr>
        <p:grpSpPr>
          <a:xfrm>
            <a:off x="415800" y="1052640"/>
            <a:ext cx="809640" cy="809640"/>
            <a:chOff x="415800" y="1052640"/>
            <a:chExt cx="809640" cy="809640"/>
          </a:xfrm>
        </p:grpSpPr>
        <p:grpSp>
          <p:nvGrpSpPr>
            <p:cNvPr id="1003" name=""/>
            <p:cNvGrpSpPr/>
            <p:nvPr/>
          </p:nvGrpSpPr>
          <p:grpSpPr>
            <a:xfrm>
              <a:off x="415800" y="1052640"/>
              <a:ext cx="809640" cy="809640"/>
              <a:chOff x="415800" y="1052640"/>
              <a:chExt cx="809640" cy="809640"/>
            </a:xfrm>
          </p:grpSpPr>
          <p:sp>
            <p:nvSpPr>
              <p:cNvPr id="1004" name=""/>
              <p:cNvSpPr/>
              <p:nvPr/>
            </p:nvSpPr>
            <p:spPr>
              <a:xfrm>
                <a:off x="415800" y="1052640"/>
                <a:ext cx="809640" cy="40500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15800" y="1187640"/>
                <a:ext cx="539640" cy="674640"/>
              </a:xfrm>
              <a:custGeom>
                <a:avLst/>
                <a:gdLst/>
                <a:ahLst/>
                <a:rect l="l" t="t" r="r" b="b"/>
                <a:pathLst>
                  <a:path w="340" h="425">
                    <a:moveTo>
                      <a:pt x="340" y="425"/>
                    </a:moveTo>
                    <a:lnTo>
                      <a:pt x="340" y="17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340" y="42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55440" y="1322640"/>
                <a:ext cx="27000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85"/>
                    </a:move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415800" y="1052640"/>
              <a:ext cx="809640" cy="809640"/>
              <a:chOff x="415800" y="1052640"/>
              <a:chExt cx="809640" cy="809640"/>
            </a:xfrm>
          </p:grpSpPr>
          <p:sp>
            <p:nvSpPr>
              <p:cNvPr id="1008" name=""/>
              <p:cNvSpPr/>
              <p:nvPr/>
            </p:nvSpPr>
            <p:spPr>
              <a:xfrm>
                <a:off x="415800" y="1052640"/>
                <a:ext cx="809640" cy="40500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15800" y="1187640"/>
                <a:ext cx="539640" cy="674640"/>
              </a:xfrm>
              <a:custGeom>
                <a:avLst/>
                <a:gdLst/>
                <a:ahLst/>
                <a:rect l="l" t="t" r="r" b="b"/>
                <a:pathLst>
                  <a:path w="340" h="425">
                    <a:moveTo>
                      <a:pt x="340" y="425"/>
                    </a:moveTo>
                    <a:lnTo>
                      <a:pt x="340" y="17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340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955440" y="1322640"/>
                <a:ext cx="27000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85"/>
                    </a:move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lnTo>
                      <a:pt x="0" y="8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1" name=""/>
          <p:cNvGrpSpPr/>
          <p:nvPr/>
        </p:nvGrpSpPr>
        <p:grpSpPr>
          <a:xfrm>
            <a:off x="1352520" y="2492280"/>
            <a:ext cx="1081080" cy="674640"/>
            <a:chOff x="1352520" y="2492280"/>
            <a:chExt cx="1081080" cy="674640"/>
          </a:xfrm>
        </p:grpSpPr>
        <p:grpSp>
          <p:nvGrpSpPr>
            <p:cNvPr id="1012" name=""/>
            <p:cNvGrpSpPr/>
            <p:nvPr/>
          </p:nvGrpSpPr>
          <p:grpSpPr>
            <a:xfrm>
              <a:off x="1352520" y="2492280"/>
              <a:ext cx="1081080" cy="674640"/>
              <a:chOff x="1352520" y="2492280"/>
              <a:chExt cx="1081080" cy="674640"/>
            </a:xfrm>
          </p:grpSpPr>
          <p:sp>
            <p:nvSpPr>
              <p:cNvPr id="1013" name=""/>
              <p:cNvSpPr/>
              <p:nvPr/>
            </p:nvSpPr>
            <p:spPr>
              <a:xfrm>
                <a:off x="1892160" y="2761920"/>
                <a:ext cx="54144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352520" y="2761920"/>
                <a:ext cx="539640" cy="405000"/>
              </a:xfrm>
              <a:custGeom>
                <a:avLst/>
                <a:gdLst/>
                <a:ahLst/>
                <a:rect l="l" t="t" r="r" b="b"/>
                <a:pathLst>
                  <a:path w="340" h="255">
                    <a:moveTo>
                      <a:pt x="340" y="170"/>
                    </a:moveTo>
                    <a:lnTo>
                      <a:pt x="340" y="25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340" y="17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352520" y="249228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1352520" y="2492280"/>
              <a:ext cx="1081080" cy="674640"/>
              <a:chOff x="1352520" y="2492280"/>
              <a:chExt cx="1081080" cy="674640"/>
            </a:xfrm>
          </p:grpSpPr>
          <p:sp>
            <p:nvSpPr>
              <p:cNvPr id="1017" name=""/>
              <p:cNvSpPr/>
              <p:nvPr/>
            </p:nvSpPr>
            <p:spPr>
              <a:xfrm>
                <a:off x="1892160" y="2761920"/>
                <a:ext cx="54144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352520" y="2761920"/>
                <a:ext cx="539640" cy="405000"/>
              </a:xfrm>
              <a:custGeom>
                <a:avLst/>
                <a:gdLst/>
                <a:ahLst/>
                <a:rect l="l" t="t" r="r" b="b"/>
                <a:pathLst>
                  <a:path w="340" h="255">
                    <a:moveTo>
                      <a:pt x="340" y="170"/>
                    </a:moveTo>
                    <a:lnTo>
                      <a:pt x="340" y="25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340" y="1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352520" y="249228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0" name=""/>
          <p:cNvGrpSpPr/>
          <p:nvPr/>
        </p:nvGrpSpPr>
        <p:grpSpPr>
          <a:xfrm>
            <a:off x="1352520" y="1628640"/>
            <a:ext cx="1081080" cy="809640"/>
            <a:chOff x="1352520" y="1628640"/>
            <a:chExt cx="1081080" cy="809640"/>
          </a:xfrm>
        </p:grpSpPr>
        <p:grpSp>
          <p:nvGrpSpPr>
            <p:cNvPr id="1021" name=""/>
            <p:cNvGrpSpPr/>
            <p:nvPr/>
          </p:nvGrpSpPr>
          <p:grpSpPr>
            <a:xfrm>
              <a:off x="1352520" y="1628640"/>
              <a:ext cx="1081080" cy="809640"/>
              <a:chOff x="1352520" y="1628640"/>
              <a:chExt cx="1081080" cy="809640"/>
            </a:xfrm>
          </p:grpSpPr>
          <p:sp>
            <p:nvSpPr>
              <p:cNvPr id="1022" name=""/>
              <p:cNvSpPr/>
              <p:nvPr/>
            </p:nvSpPr>
            <p:spPr>
              <a:xfrm>
                <a:off x="1352520" y="162864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892160" y="1898640"/>
                <a:ext cx="541440" cy="53964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0" y="170"/>
                    </a:moveTo>
                    <a:lnTo>
                      <a:pt x="341" y="0"/>
                    </a:lnTo>
                    <a:lnTo>
                      <a:pt x="341" y="170"/>
                    </a:lnTo>
                    <a:lnTo>
                      <a:pt x="0" y="340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352520" y="1898640"/>
                <a:ext cx="539640" cy="53964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340" y="34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340" y="170"/>
                    </a:lnTo>
                    <a:lnTo>
                      <a:pt x="34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1352520" y="1628640"/>
              <a:ext cx="1081080" cy="809640"/>
              <a:chOff x="1352520" y="1628640"/>
              <a:chExt cx="1081080" cy="809640"/>
            </a:xfrm>
          </p:grpSpPr>
          <p:sp>
            <p:nvSpPr>
              <p:cNvPr id="1026" name=""/>
              <p:cNvSpPr/>
              <p:nvPr/>
            </p:nvSpPr>
            <p:spPr>
              <a:xfrm>
                <a:off x="1352520" y="162864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892160" y="1898640"/>
                <a:ext cx="541440" cy="53964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0" y="170"/>
                    </a:moveTo>
                    <a:lnTo>
                      <a:pt x="341" y="0"/>
                    </a:lnTo>
                    <a:lnTo>
                      <a:pt x="341" y="170"/>
                    </a:lnTo>
                    <a:lnTo>
                      <a:pt x="0" y="340"/>
                    </a:lnTo>
                    <a:lnTo>
                      <a:pt x="0" y="1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352520" y="1898640"/>
                <a:ext cx="539640" cy="53964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340" y="34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340" y="170"/>
                    </a:lnTo>
                    <a:lnTo>
                      <a:pt x="34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9" name=""/>
          <p:cNvGrpSpPr/>
          <p:nvPr/>
        </p:nvGrpSpPr>
        <p:grpSpPr>
          <a:xfrm>
            <a:off x="1352520" y="549360"/>
            <a:ext cx="1081080" cy="944280"/>
            <a:chOff x="1352520" y="549360"/>
            <a:chExt cx="1081080" cy="944280"/>
          </a:xfrm>
        </p:grpSpPr>
        <p:sp>
          <p:nvSpPr>
            <p:cNvPr id="1030" name=""/>
            <p:cNvSpPr/>
            <p:nvPr/>
          </p:nvSpPr>
          <p:spPr>
            <a:xfrm>
              <a:off x="1352520" y="54936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352520" y="819000"/>
              <a:ext cx="539640" cy="674640"/>
            </a:xfrm>
            <a:custGeom>
              <a:avLst/>
              <a:gdLst/>
              <a:ahLst/>
              <a:rect l="l" t="t" r="r" b="b"/>
              <a:pathLst>
                <a:path w="340" h="425">
                  <a:moveTo>
                    <a:pt x="0" y="0"/>
                  </a:moveTo>
                  <a:lnTo>
                    <a:pt x="340" y="170"/>
                  </a:lnTo>
                  <a:lnTo>
                    <a:pt x="340" y="425"/>
                  </a:lnTo>
                  <a:lnTo>
                    <a:pt x="0" y="25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892160" y="819000"/>
              <a:ext cx="541440" cy="674640"/>
            </a:xfrm>
            <a:custGeom>
              <a:avLst/>
              <a:gdLst/>
              <a:ahLst/>
              <a:rect l="l" t="t" r="r" b="b"/>
              <a:pathLst>
                <a:path w="341" h="425">
                  <a:moveTo>
                    <a:pt x="341" y="0"/>
                  </a:moveTo>
                  <a:lnTo>
                    <a:pt x="341" y="255"/>
                  </a:lnTo>
                  <a:lnTo>
                    <a:pt x="0" y="425"/>
                  </a:lnTo>
                  <a:lnTo>
                    <a:pt x="0" y="170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4160880" y="2492280"/>
            <a:ext cx="1620720" cy="944640"/>
            <a:chOff x="4160880" y="2492280"/>
            <a:chExt cx="1620720" cy="944640"/>
          </a:xfrm>
        </p:grpSpPr>
        <p:grpSp>
          <p:nvGrpSpPr>
            <p:cNvPr id="1034" name=""/>
            <p:cNvGrpSpPr/>
            <p:nvPr/>
          </p:nvGrpSpPr>
          <p:grpSpPr>
            <a:xfrm>
              <a:off x="4160880" y="2492280"/>
              <a:ext cx="1620720" cy="944640"/>
              <a:chOff x="4160880" y="2492280"/>
              <a:chExt cx="1620720" cy="944640"/>
            </a:xfrm>
          </p:grpSpPr>
          <p:sp>
            <p:nvSpPr>
              <p:cNvPr id="1035" name=""/>
              <p:cNvSpPr/>
              <p:nvPr/>
            </p:nvSpPr>
            <p:spPr>
              <a:xfrm>
                <a:off x="5240160" y="3031920"/>
                <a:ext cx="54108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160880" y="2762280"/>
                <a:ext cx="1079280" cy="67464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680" y="340"/>
                    </a:move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4160880" y="2492280"/>
                <a:ext cx="162072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8" name=""/>
            <p:cNvGrpSpPr/>
            <p:nvPr/>
          </p:nvGrpSpPr>
          <p:grpSpPr>
            <a:xfrm>
              <a:off x="4160880" y="2492280"/>
              <a:ext cx="1620720" cy="944640"/>
              <a:chOff x="4160880" y="2492280"/>
              <a:chExt cx="1620720" cy="944640"/>
            </a:xfrm>
          </p:grpSpPr>
          <p:sp>
            <p:nvSpPr>
              <p:cNvPr id="1039" name=""/>
              <p:cNvSpPr/>
              <p:nvPr/>
            </p:nvSpPr>
            <p:spPr>
              <a:xfrm>
                <a:off x="5240160" y="3031920"/>
                <a:ext cx="54108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160880" y="2762280"/>
                <a:ext cx="1079280" cy="67464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680" y="340"/>
                    </a:move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4160880" y="2492280"/>
                <a:ext cx="162072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2" name=""/>
          <p:cNvGrpSpPr/>
          <p:nvPr/>
        </p:nvGrpSpPr>
        <p:grpSpPr>
          <a:xfrm>
            <a:off x="4160880" y="1413000"/>
            <a:ext cx="1620720" cy="1078920"/>
            <a:chOff x="4160880" y="1413000"/>
            <a:chExt cx="1620720" cy="1078920"/>
          </a:xfrm>
        </p:grpSpPr>
        <p:grpSp>
          <p:nvGrpSpPr>
            <p:cNvPr id="1043" name=""/>
            <p:cNvGrpSpPr/>
            <p:nvPr/>
          </p:nvGrpSpPr>
          <p:grpSpPr>
            <a:xfrm>
              <a:off x="4160880" y="1413000"/>
              <a:ext cx="1620720" cy="1078920"/>
              <a:chOff x="4160880" y="1413000"/>
              <a:chExt cx="1620720" cy="1078920"/>
            </a:xfrm>
          </p:grpSpPr>
          <p:sp>
            <p:nvSpPr>
              <p:cNvPr id="1044" name=""/>
              <p:cNvSpPr/>
              <p:nvPr/>
            </p:nvSpPr>
            <p:spPr>
              <a:xfrm>
                <a:off x="4160880" y="1413000"/>
                <a:ext cx="1620720" cy="80928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160880" y="1682640"/>
                <a:ext cx="1079280" cy="80928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510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170"/>
                    </a:lnTo>
                    <a:lnTo>
                      <a:pt x="680" y="51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240160" y="1952640"/>
                <a:ext cx="541080" cy="53928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0" y="34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170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7" name=""/>
            <p:cNvGrpSpPr/>
            <p:nvPr/>
          </p:nvGrpSpPr>
          <p:grpSpPr>
            <a:xfrm>
              <a:off x="4160880" y="1413000"/>
              <a:ext cx="1620720" cy="1078920"/>
              <a:chOff x="4160880" y="1413000"/>
              <a:chExt cx="1620720" cy="1078920"/>
            </a:xfrm>
          </p:grpSpPr>
          <p:sp>
            <p:nvSpPr>
              <p:cNvPr id="1048" name=""/>
              <p:cNvSpPr/>
              <p:nvPr/>
            </p:nvSpPr>
            <p:spPr>
              <a:xfrm>
                <a:off x="4160880" y="1413000"/>
                <a:ext cx="1620720" cy="80928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160880" y="1682640"/>
                <a:ext cx="1079280" cy="80928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510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170"/>
                    </a:lnTo>
                    <a:lnTo>
                      <a:pt x="68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240160" y="1952640"/>
                <a:ext cx="541080" cy="53928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0" y="34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170"/>
                    </a:lnTo>
                    <a:lnTo>
                      <a:pt x="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1" name=""/>
          <p:cNvGrpSpPr/>
          <p:nvPr/>
        </p:nvGrpSpPr>
        <p:grpSpPr>
          <a:xfrm>
            <a:off x="4232160" y="333360"/>
            <a:ext cx="1622520" cy="1214280"/>
            <a:chOff x="4232160" y="333360"/>
            <a:chExt cx="1622520" cy="1214280"/>
          </a:xfrm>
        </p:grpSpPr>
        <p:grpSp>
          <p:nvGrpSpPr>
            <p:cNvPr id="1052" name=""/>
            <p:cNvGrpSpPr/>
            <p:nvPr/>
          </p:nvGrpSpPr>
          <p:grpSpPr>
            <a:xfrm>
              <a:off x="4232160" y="333360"/>
              <a:ext cx="1622520" cy="1214280"/>
              <a:chOff x="4232160" y="333360"/>
              <a:chExt cx="1622520" cy="1214280"/>
            </a:xfrm>
          </p:grpSpPr>
          <p:sp>
            <p:nvSpPr>
              <p:cNvPr id="1053" name=""/>
              <p:cNvSpPr/>
              <p:nvPr/>
            </p:nvSpPr>
            <p:spPr>
              <a:xfrm>
                <a:off x="5313240" y="873000"/>
                <a:ext cx="541440" cy="674640"/>
              </a:xfrm>
              <a:custGeom>
                <a:avLst/>
                <a:gdLst/>
                <a:ahLst/>
                <a:rect l="l" t="t" r="r" b="b"/>
                <a:pathLst>
                  <a:path w="341" h="425">
                    <a:moveTo>
                      <a:pt x="0" y="42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255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232160" y="333360"/>
                <a:ext cx="162108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232160" y="603000"/>
                <a:ext cx="1079640" cy="944640"/>
              </a:xfrm>
              <a:custGeom>
                <a:avLst/>
                <a:gdLst/>
                <a:ahLst/>
                <a:rect l="l" t="t" r="r" b="b"/>
                <a:pathLst>
                  <a:path w="680" h="595">
                    <a:moveTo>
                      <a:pt x="680" y="595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680" y="59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4232160" y="333360"/>
              <a:ext cx="1622520" cy="1214280"/>
              <a:chOff x="4232160" y="333360"/>
              <a:chExt cx="1622520" cy="1214280"/>
            </a:xfrm>
          </p:grpSpPr>
          <p:sp>
            <p:nvSpPr>
              <p:cNvPr id="1057" name=""/>
              <p:cNvSpPr/>
              <p:nvPr/>
            </p:nvSpPr>
            <p:spPr>
              <a:xfrm>
                <a:off x="5313240" y="873000"/>
                <a:ext cx="541440" cy="674640"/>
              </a:xfrm>
              <a:custGeom>
                <a:avLst/>
                <a:gdLst/>
                <a:ahLst/>
                <a:rect l="l" t="t" r="r" b="b"/>
                <a:pathLst>
                  <a:path w="341" h="425">
                    <a:moveTo>
                      <a:pt x="0" y="42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255"/>
                    </a:lnTo>
                    <a:lnTo>
                      <a:pt x="0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232160" y="333360"/>
                <a:ext cx="162108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232160" y="603000"/>
                <a:ext cx="1079640" cy="944640"/>
              </a:xfrm>
              <a:custGeom>
                <a:avLst/>
                <a:gdLst/>
                <a:ahLst/>
                <a:rect l="l" t="t" r="r" b="b"/>
                <a:pathLst>
                  <a:path w="680" h="595">
                    <a:moveTo>
                      <a:pt x="680" y="595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680" y="5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0" name=""/>
          <p:cNvGrpSpPr/>
          <p:nvPr/>
        </p:nvGrpSpPr>
        <p:grpSpPr>
          <a:xfrm>
            <a:off x="2649600" y="2421000"/>
            <a:ext cx="1351080" cy="809640"/>
            <a:chOff x="2649600" y="2421000"/>
            <a:chExt cx="1351080" cy="809640"/>
          </a:xfrm>
        </p:grpSpPr>
        <p:grpSp>
          <p:nvGrpSpPr>
            <p:cNvPr id="1061" name=""/>
            <p:cNvGrpSpPr/>
            <p:nvPr/>
          </p:nvGrpSpPr>
          <p:grpSpPr>
            <a:xfrm>
              <a:off x="2649600" y="2421000"/>
              <a:ext cx="1351080" cy="809640"/>
              <a:chOff x="2649600" y="2421000"/>
              <a:chExt cx="1351080" cy="809640"/>
            </a:xfrm>
          </p:grpSpPr>
          <p:sp>
            <p:nvSpPr>
              <p:cNvPr id="1062" name=""/>
              <p:cNvSpPr/>
              <p:nvPr/>
            </p:nvSpPr>
            <p:spPr>
              <a:xfrm>
                <a:off x="2649600" y="2421000"/>
                <a:ext cx="1349280" cy="67500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649600" y="2556000"/>
                <a:ext cx="1079640" cy="67464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0" y="0"/>
                    </a:moveTo>
                    <a:lnTo>
                      <a:pt x="680" y="340"/>
                    </a:ln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730680" y="2961000"/>
                <a:ext cx="270000" cy="269640"/>
              </a:xfrm>
              <a:custGeom>
                <a:avLst/>
                <a:gdLst/>
                <a:ahLst/>
                <a:rect l="l" t="t" r="r" b="b"/>
                <a:pathLst>
                  <a:path w="170" h="170">
                    <a:moveTo>
                      <a:pt x="0" y="170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85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2649600" y="2421000"/>
              <a:ext cx="1351080" cy="809640"/>
              <a:chOff x="2649600" y="2421000"/>
              <a:chExt cx="1351080" cy="809640"/>
            </a:xfrm>
          </p:grpSpPr>
          <p:sp>
            <p:nvSpPr>
              <p:cNvPr id="1066" name=""/>
              <p:cNvSpPr/>
              <p:nvPr/>
            </p:nvSpPr>
            <p:spPr>
              <a:xfrm>
                <a:off x="2649600" y="2421000"/>
                <a:ext cx="1349280" cy="67500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649600" y="2556000"/>
                <a:ext cx="1079640" cy="67464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0" y="0"/>
                    </a:moveTo>
                    <a:lnTo>
                      <a:pt x="680" y="340"/>
                    </a:ln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730680" y="2961000"/>
                <a:ext cx="270000" cy="269640"/>
              </a:xfrm>
              <a:custGeom>
                <a:avLst/>
                <a:gdLst/>
                <a:ahLst/>
                <a:rect l="l" t="t" r="r" b="b"/>
                <a:pathLst>
                  <a:path w="170" h="170">
                    <a:moveTo>
                      <a:pt x="0" y="170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85"/>
                    </a:lnTo>
                    <a:lnTo>
                      <a:pt x="0" y="1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9" name=""/>
          <p:cNvGrpSpPr/>
          <p:nvPr/>
        </p:nvGrpSpPr>
        <p:grpSpPr>
          <a:xfrm>
            <a:off x="2649600" y="1628640"/>
            <a:ext cx="1351080" cy="944640"/>
            <a:chOff x="2649600" y="1628640"/>
            <a:chExt cx="1351080" cy="944640"/>
          </a:xfrm>
        </p:grpSpPr>
        <p:grpSp>
          <p:nvGrpSpPr>
            <p:cNvPr id="1070" name=""/>
            <p:cNvGrpSpPr/>
            <p:nvPr/>
          </p:nvGrpSpPr>
          <p:grpSpPr>
            <a:xfrm>
              <a:off x="2649600" y="1628640"/>
              <a:ext cx="1351080" cy="944640"/>
              <a:chOff x="2649600" y="1628640"/>
              <a:chExt cx="1351080" cy="944640"/>
            </a:xfrm>
          </p:grpSpPr>
          <p:sp>
            <p:nvSpPr>
              <p:cNvPr id="1071" name=""/>
              <p:cNvSpPr/>
              <p:nvPr/>
            </p:nvSpPr>
            <p:spPr>
              <a:xfrm>
                <a:off x="3730680" y="2168280"/>
                <a:ext cx="270000" cy="405000"/>
              </a:xfrm>
              <a:custGeom>
                <a:avLst/>
                <a:gdLst/>
                <a:ahLst/>
                <a:rect l="l" t="t" r="r" b="b"/>
                <a:pathLst>
                  <a:path w="170" h="255">
                    <a:moveTo>
                      <a:pt x="170" y="0"/>
                    </a:moveTo>
                    <a:lnTo>
                      <a:pt x="170" y="170"/>
                    </a:lnTo>
                    <a:lnTo>
                      <a:pt x="0" y="255"/>
                    </a:lnTo>
                    <a:lnTo>
                      <a:pt x="0" y="85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651400" y="1763640"/>
                <a:ext cx="1079280" cy="80964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340"/>
                    </a:moveTo>
                    <a:lnTo>
                      <a:pt x="680" y="510"/>
                    </a:lnTo>
                    <a:lnTo>
                      <a:pt x="0" y="170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649600" y="1628640"/>
                <a:ext cx="134964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2649600" y="1628640"/>
              <a:ext cx="1351080" cy="944640"/>
              <a:chOff x="2649600" y="1628640"/>
              <a:chExt cx="1351080" cy="944640"/>
            </a:xfrm>
          </p:grpSpPr>
          <p:sp>
            <p:nvSpPr>
              <p:cNvPr id="1075" name=""/>
              <p:cNvSpPr/>
              <p:nvPr/>
            </p:nvSpPr>
            <p:spPr>
              <a:xfrm>
                <a:off x="3730680" y="2168280"/>
                <a:ext cx="270000" cy="405000"/>
              </a:xfrm>
              <a:custGeom>
                <a:avLst/>
                <a:gdLst/>
                <a:ahLst/>
                <a:rect l="l" t="t" r="r" b="b"/>
                <a:pathLst>
                  <a:path w="170" h="255">
                    <a:moveTo>
                      <a:pt x="170" y="0"/>
                    </a:moveTo>
                    <a:lnTo>
                      <a:pt x="170" y="170"/>
                    </a:lnTo>
                    <a:lnTo>
                      <a:pt x="0" y="255"/>
                    </a:lnTo>
                    <a:lnTo>
                      <a:pt x="0" y="85"/>
                    </a:lnTo>
                    <a:lnTo>
                      <a:pt x="1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651400" y="1763640"/>
                <a:ext cx="1079280" cy="80964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340"/>
                    </a:moveTo>
                    <a:lnTo>
                      <a:pt x="680" y="510"/>
                    </a:lnTo>
                    <a:lnTo>
                      <a:pt x="0" y="170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49600" y="1628640"/>
                <a:ext cx="134964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8" name=""/>
          <p:cNvGrpSpPr/>
          <p:nvPr/>
        </p:nvGrpSpPr>
        <p:grpSpPr>
          <a:xfrm>
            <a:off x="2649600" y="765000"/>
            <a:ext cx="1349280" cy="1079280"/>
            <a:chOff x="2649600" y="765000"/>
            <a:chExt cx="1349280" cy="1079280"/>
          </a:xfrm>
        </p:grpSpPr>
        <p:grpSp>
          <p:nvGrpSpPr>
            <p:cNvPr id="1079" name=""/>
            <p:cNvGrpSpPr/>
            <p:nvPr/>
          </p:nvGrpSpPr>
          <p:grpSpPr>
            <a:xfrm>
              <a:off x="2649600" y="765000"/>
              <a:ext cx="1349280" cy="1079280"/>
              <a:chOff x="2649600" y="765000"/>
              <a:chExt cx="1349280" cy="1079280"/>
            </a:xfrm>
          </p:grpSpPr>
          <p:sp>
            <p:nvSpPr>
              <p:cNvPr id="1080" name=""/>
              <p:cNvSpPr/>
              <p:nvPr/>
            </p:nvSpPr>
            <p:spPr>
              <a:xfrm>
                <a:off x="2649600" y="900000"/>
                <a:ext cx="1079280" cy="944280"/>
              </a:xfrm>
              <a:custGeom>
                <a:avLst/>
                <a:gdLst/>
                <a:ahLst/>
                <a:rect l="l" t="t" r="r" b="b"/>
                <a:pathLst>
                  <a:path w="680" h="595">
                    <a:moveTo>
                      <a:pt x="680" y="595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680" y="59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728880" y="1304640"/>
                <a:ext cx="26964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340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49600" y="765000"/>
                <a:ext cx="134928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2649600" y="765000"/>
              <a:ext cx="1349280" cy="1079280"/>
              <a:chOff x="2649600" y="765000"/>
              <a:chExt cx="1349280" cy="1079280"/>
            </a:xfrm>
          </p:grpSpPr>
          <p:sp>
            <p:nvSpPr>
              <p:cNvPr id="1084" name=""/>
              <p:cNvSpPr/>
              <p:nvPr/>
            </p:nvSpPr>
            <p:spPr>
              <a:xfrm>
                <a:off x="2649600" y="900000"/>
                <a:ext cx="1079280" cy="944280"/>
              </a:xfrm>
              <a:custGeom>
                <a:avLst/>
                <a:gdLst/>
                <a:ahLst/>
                <a:rect l="l" t="t" r="r" b="b"/>
                <a:pathLst>
                  <a:path w="680" h="595">
                    <a:moveTo>
                      <a:pt x="680" y="595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680" y="5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728880" y="1304640"/>
                <a:ext cx="26964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340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649600" y="765000"/>
                <a:ext cx="134928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7" name=""/>
          <p:cNvGrpSpPr/>
          <p:nvPr/>
        </p:nvGrpSpPr>
        <p:grpSpPr>
          <a:xfrm>
            <a:off x="6248520" y="1052640"/>
            <a:ext cx="539640" cy="1350360"/>
            <a:chOff x="6248520" y="1052640"/>
            <a:chExt cx="539640" cy="1350360"/>
          </a:xfrm>
        </p:grpSpPr>
        <p:grpSp>
          <p:nvGrpSpPr>
            <p:cNvPr id="1088" name=""/>
            <p:cNvGrpSpPr/>
            <p:nvPr/>
          </p:nvGrpSpPr>
          <p:grpSpPr>
            <a:xfrm>
              <a:off x="6248520" y="1052640"/>
              <a:ext cx="539640" cy="1350360"/>
              <a:chOff x="6248520" y="1052640"/>
              <a:chExt cx="539640" cy="1350360"/>
            </a:xfrm>
          </p:grpSpPr>
          <p:sp>
            <p:nvSpPr>
              <p:cNvPr id="1089" name=""/>
              <p:cNvSpPr/>
              <p:nvPr/>
            </p:nvSpPr>
            <p:spPr>
              <a:xfrm>
                <a:off x="6248520" y="1188720"/>
                <a:ext cx="269640" cy="121428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518160" y="1188720"/>
                <a:ext cx="270000" cy="121428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0" y="765"/>
                    </a:moveTo>
                    <a:lnTo>
                      <a:pt x="170" y="680"/>
                    </a:lnTo>
                    <a:lnTo>
                      <a:pt x="170" y="0"/>
                    </a:lnTo>
                    <a:lnTo>
                      <a:pt x="0" y="85"/>
                    </a:lnTo>
                    <a:lnTo>
                      <a:pt x="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248520" y="1052640"/>
                <a:ext cx="539640" cy="271080"/>
              </a:xfrm>
              <a:custGeom>
                <a:avLst/>
                <a:gdLst/>
                <a:ahLst/>
                <a:rect l="l" t="t" r="r" b="b"/>
                <a:pathLst>
                  <a:path w="340" h="171">
                    <a:moveTo>
                      <a:pt x="340" y="86"/>
                    </a:moveTo>
                    <a:lnTo>
                      <a:pt x="170" y="0"/>
                    </a:lnTo>
                    <a:lnTo>
                      <a:pt x="0" y="86"/>
                    </a:lnTo>
                    <a:lnTo>
                      <a:pt x="170" y="171"/>
                    </a:lnTo>
                    <a:lnTo>
                      <a:pt x="340" y="8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6248520" y="1052640"/>
              <a:ext cx="539640" cy="1350360"/>
              <a:chOff x="6248520" y="1052640"/>
              <a:chExt cx="539640" cy="1350360"/>
            </a:xfrm>
          </p:grpSpPr>
          <p:sp>
            <p:nvSpPr>
              <p:cNvPr id="1093" name=""/>
              <p:cNvSpPr/>
              <p:nvPr/>
            </p:nvSpPr>
            <p:spPr>
              <a:xfrm>
                <a:off x="6248520" y="1188720"/>
                <a:ext cx="269640" cy="121428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518160" y="1188720"/>
                <a:ext cx="270000" cy="121428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0" y="765"/>
                    </a:moveTo>
                    <a:lnTo>
                      <a:pt x="170" y="680"/>
                    </a:lnTo>
                    <a:lnTo>
                      <a:pt x="170" y="0"/>
                    </a:lnTo>
                    <a:lnTo>
                      <a:pt x="0" y="85"/>
                    </a:lnTo>
                    <a:lnTo>
                      <a:pt x="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248520" y="1052640"/>
                <a:ext cx="539640" cy="271080"/>
              </a:xfrm>
              <a:custGeom>
                <a:avLst/>
                <a:gdLst/>
                <a:ahLst/>
                <a:rect l="l" t="t" r="r" b="b"/>
                <a:pathLst>
                  <a:path w="340" h="171">
                    <a:moveTo>
                      <a:pt x="340" y="86"/>
                    </a:moveTo>
                    <a:lnTo>
                      <a:pt x="170" y="0"/>
                    </a:lnTo>
                    <a:lnTo>
                      <a:pt x="0" y="86"/>
                    </a:lnTo>
                    <a:lnTo>
                      <a:pt x="170" y="171"/>
                    </a:lnTo>
                    <a:lnTo>
                      <a:pt x="340" y="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6" name=""/>
          <p:cNvGrpSpPr/>
          <p:nvPr/>
        </p:nvGrpSpPr>
        <p:grpSpPr>
          <a:xfrm>
            <a:off x="7040520" y="981000"/>
            <a:ext cx="811080" cy="1486080"/>
            <a:chOff x="7040520" y="981000"/>
            <a:chExt cx="811080" cy="1486080"/>
          </a:xfrm>
        </p:grpSpPr>
        <p:grpSp>
          <p:nvGrpSpPr>
            <p:cNvPr id="1097" name=""/>
            <p:cNvGrpSpPr/>
            <p:nvPr/>
          </p:nvGrpSpPr>
          <p:grpSpPr>
            <a:xfrm>
              <a:off x="7040520" y="981000"/>
              <a:ext cx="811080" cy="1486080"/>
              <a:chOff x="7040520" y="981000"/>
              <a:chExt cx="811080" cy="1486080"/>
            </a:xfrm>
          </p:grpSpPr>
          <p:sp>
            <p:nvSpPr>
              <p:cNvPr id="1098" name=""/>
              <p:cNvSpPr/>
              <p:nvPr/>
            </p:nvSpPr>
            <p:spPr>
              <a:xfrm>
                <a:off x="7040520" y="1252440"/>
                <a:ext cx="269640" cy="121464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040520" y="981000"/>
                <a:ext cx="811080" cy="40644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310160" y="1116000"/>
                <a:ext cx="541080" cy="135108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"/>
            <p:cNvGrpSpPr/>
            <p:nvPr/>
          </p:nvGrpSpPr>
          <p:grpSpPr>
            <a:xfrm>
              <a:off x="7040520" y="981000"/>
              <a:ext cx="811080" cy="1486080"/>
              <a:chOff x="7040520" y="981000"/>
              <a:chExt cx="811080" cy="1486080"/>
            </a:xfrm>
          </p:grpSpPr>
          <p:sp>
            <p:nvSpPr>
              <p:cNvPr id="1102" name=""/>
              <p:cNvSpPr/>
              <p:nvPr/>
            </p:nvSpPr>
            <p:spPr>
              <a:xfrm>
                <a:off x="7040520" y="1252440"/>
                <a:ext cx="269640" cy="121464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040520" y="981000"/>
                <a:ext cx="811080" cy="40644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310160" y="1116000"/>
                <a:ext cx="541080" cy="135108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8048520" y="1484280"/>
            <a:ext cx="811440" cy="944280"/>
            <a:chOff x="8048520" y="1484280"/>
            <a:chExt cx="811440" cy="944280"/>
          </a:xfrm>
        </p:grpSpPr>
        <p:grpSp>
          <p:nvGrpSpPr>
            <p:cNvPr id="1106" name=""/>
            <p:cNvGrpSpPr/>
            <p:nvPr/>
          </p:nvGrpSpPr>
          <p:grpSpPr>
            <a:xfrm>
              <a:off x="8048520" y="1484280"/>
              <a:ext cx="811440" cy="944280"/>
              <a:chOff x="8048520" y="1484280"/>
              <a:chExt cx="811440" cy="944280"/>
            </a:xfrm>
          </p:grpSpPr>
          <p:sp>
            <p:nvSpPr>
              <p:cNvPr id="1107" name=""/>
              <p:cNvSpPr/>
              <p:nvPr/>
            </p:nvSpPr>
            <p:spPr>
              <a:xfrm>
                <a:off x="8318520" y="1618920"/>
                <a:ext cx="541440" cy="80964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048520" y="1753920"/>
                <a:ext cx="270000" cy="67464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048520" y="1484280"/>
                <a:ext cx="811440" cy="406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8048520" y="1484280"/>
              <a:ext cx="811440" cy="944280"/>
              <a:chOff x="8048520" y="1484280"/>
              <a:chExt cx="811440" cy="944280"/>
            </a:xfrm>
          </p:grpSpPr>
          <p:sp>
            <p:nvSpPr>
              <p:cNvPr id="1111" name=""/>
              <p:cNvSpPr/>
              <p:nvPr/>
            </p:nvSpPr>
            <p:spPr>
              <a:xfrm>
                <a:off x="8318520" y="1618920"/>
                <a:ext cx="541440" cy="80964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8048520" y="1753920"/>
                <a:ext cx="270000" cy="67464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8048520" y="1484280"/>
                <a:ext cx="811440" cy="406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4" name=""/>
          <p:cNvGrpSpPr/>
          <p:nvPr/>
        </p:nvGrpSpPr>
        <p:grpSpPr>
          <a:xfrm>
            <a:off x="6321600" y="2781360"/>
            <a:ext cx="274320" cy="687240"/>
            <a:chOff x="6321600" y="2781360"/>
            <a:chExt cx="274320" cy="687240"/>
          </a:xfrm>
        </p:grpSpPr>
        <p:grpSp>
          <p:nvGrpSpPr>
            <p:cNvPr id="1115" name=""/>
            <p:cNvGrpSpPr/>
            <p:nvPr/>
          </p:nvGrpSpPr>
          <p:grpSpPr>
            <a:xfrm>
              <a:off x="6321600" y="2781360"/>
              <a:ext cx="274320" cy="687240"/>
              <a:chOff x="6321600" y="2781360"/>
              <a:chExt cx="274320" cy="687240"/>
            </a:xfrm>
          </p:grpSpPr>
          <p:sp>
            <p:nvSpPr>
              <p:cNvPr id="1116" name=""/>
              <p:cNvSpPr/>
              <p:nvPr/>
            </p:nvSpPr>
            <p:spPr>
              <a:xfrm>
                <a:off x="6321600" y="2851200"/>
                <a:ext cx="13752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459120" y="2851200"/>
                <a:ext cx="13644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0" y="765"/>
                    </a:moveTo>
                    <a:lnTo>
                      <a:pt x="170" y="680"/>
                    </a:lnTo>
                    <a:lnTo>
                      <a:pt x="170" y="0"/>
                    </a:lnTo>
                    <a:lnTo>
                      <a:pt x="0" y="85"/>
                    </a:lnTo>
                    <a:lnTo>
                      <a:pt x="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321600" y="2781360"/>
                <a:ext cx="274320" cy="137880"/>
              </a:xfrm>
              <a:custGeom>
                <a:avLst/>
                <a:gdLst/>
                <a:ahLst/>
                <a:rect l="l" t="t" r="r" b="b"/>
                <a:pathLst>
                  <a:path w="340" h="171">
                    <a:moveTo>
                      <a:pt x="340" y="86"/>
                    </a:moveTo>
                    <a:lnTo>
                      <a:pt x="170" y="0"/>
                    </a:lnTo>
                    <a:lnTo>
                      <a:pt x="0" y="86"/>
                    </a:lnTo>
                    <a:lnTo>
                      <a:pt x="170" y="171"/>
                    </a:lnTo>
                    <a:lnTo>
                      <a:pt x="340" y="8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6321600" y="2781360"/>
              <a:ext cx="274320" cy="687240"/>
              <a:chOff x="6321600" y="2781360"/>
              <a:chExt cx="274320" cy="687240"/>
            </a:xfrm>
          </p:grpSpPr>
          <p:sp>
            <p:nvSpPr>
              <p:cNvPr id="1120" name=""/>
              <p:cNvSpPr/>
              <p:nvPr/>
            </p:nvSpPr>
            <p:spPr>
              <a:xfrm>
                <a:off x="6321600" y="2851200"/>
                <a:ext cx="13752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459120" y="2851200"/>
                <a:ext cx="13644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0" y="765"/>
                    </a:moveTo>
                    <a:lnTo>
                      <a:pt x="170" y="680"/>
                    </a:lnTo>
                    <a:lnTo>
                      <a:pt x="170" y="0"/>
                    </a:lnTo>
                    <a:lnTo>
                      <a:pt x="0" y="85"/>
                    </a:lnTo>
                    <a:lnTo>
                      <a:pt x="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321600" y="2781360"/>
                <a:ext cx="274320" cy="137880"/>
              </a:xfrm>
              <a:custGeom>
                <a:avLst/>
                <a:gdLst/>
                <a:ahLst/>
                <a:rect l="l" t="t" r="r" b="b"/>
                <a:pathLst>
                  <a:path w="340" h="171">
                    <a:moveTo>
                      <a:pt x="340" y="86"/>
                    </a:moveTo>
                    <a:lnTo>
                      <a:pt x="170" y="0"/>
                    </a:lnTo>
                    <a:lnTo>
                      <a:pt x="0" y="86"/>
                    </a:lnTo>
                    <a:lnTo>
                      <a:pt x="170" y="171"/>
                    </a:lnTo>
                    <a:lnTo>
                      <a:pt x="340" y="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3" name=""/>
          <p:cNvGrpSpPr/>
          <p:nvPr/>
        </p:nvGrpSpPr>
        <p:grpSpPr>
          <a:xfrm>
            <a:off x="6824520" y="2708280"/>
            <a:ext cx="412560" cy="755640"/>
            <a:chOff x="6824520" y="2708280"/>
            <a:chExt cx="412560" cy="755640"/>
          </a:xfrm>
        </p:grpSpPr>
        <p:grpSp>
          <p:nvGrpSpPr>
            <p:cNvPr id="1124" name=""/>
            <p:cNvGrpSpPr/>
            <p:nvPr/>
          </p:nvGrpSpPr>
          <p:grpSpPr>
            <a:xfrm>
              <a:off x="6824520" y="2708280"/>
              <a:ext cx="412560" cy="755640"/>
              <a:chOff x="6824520" y="2708280"/>
              <a:chExt cx="412560" cy="755640"/>
            </a:xfrm>
          </p:grpSpPr>
          <p:sp>
            <p:nvSpPr>
              <p:cNvPr id="1125" name=""/>
              <p:cNvSpPr/>
              <p:nvPr/>
            </p:nvSpPr>
            <p:spPr>
              <a:xfrm>
                <a:off x="6824520" y="2846520"/>
                <a:ext cx="13788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824520" y="2708280"/>
                <a:ext cx="412560" cy="2062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962400" y="2776680"/>
                <a:ext cx="274680" cy="68724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8" name=""/>
            <p:cNvGrpSpPr/>
            <p:nvPr/>
          </p:nvGrpSpPr>
          <p:grpSpPr>
            <a:xfrm>
              <a:off x="6824520" y="2708280"/>
              <a:ext cx="412560" cy="755640"/>
              <a:chOff x="6824520" y="2708280"/>
              <a:chExt cx="412560" cy="755640"/>
            </a:xfrm>
          </p:grpSpPr>
          <p:sp>
            <p:nvSpPr>
              <p:cNvPr id="1129" name=""/>
              <p:cNvSpPr/>
              <p:nvPr/>
            </p:nvSpPr>
            <p:spPr>
              <a:xfrm>
                <a:off x="6824520" y="2846520"/>
                <a:ext cx="13788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824520" y="2708280"/>
                <a:ext cx="412560" cy="2062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962400" y="2776680"/>
                <a:ext cx="274680" cy="68724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"/>
          <p:cNvGrpSpPr/>
          <p:nvPr/>
        </p:nvGrpSpPr>
        <p:grpSpPr>
          <a:xfrm>
            <a:off x="7473960" y="2924280"/>
            <a:ext cx="412560" cy="480960"/>
            <a:chOff x="7473960" y="2924280"/>
            <a:chExt cx="412560" cy="480960"/>
          </a:xfrm>
        </p:grpSpPr>
        <p:grpSp>
          <p:nvGrpSpPr>
            <p:cNvPr id="1133" name=""/>
            <p:cNvGrpSpPr/>
            <p:nvPr/>
          </p:nvGrpSpPr>
          <p:grpSpPr>
            <a:xfrm>
              <a:off x="7473960" y="2924280"/>
              <a:ext cx="412560" cy="480960"/>
              <a:chOff x="7473960" y="2924280"/>
              <a:chExt cx="412560" cy="480960"/>
            </a:xfrm>
          </p:grpSpPr>
          <p:sp>
            <p:nvSpPr>
              <p:cNvPr id="1134" name=""/>
              <p:cNvSpPr/>
              <p:nvPr/>
            </p:nvSpPr>
            <p:spPr>
              <a:xfrm>
                <a:off x="7610400" y="2994120"/>
                <a:ext cx="276120" cy="41112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473960" y="3062520"/>
                <a:ext cx="136440" cy="34272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473960" y="2924280"/>
                <a:ext cx="412560" cy="208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7473960" y="2924280"/>
              <a:ext cx="412560" cy="480960"/>
              <a:chOff x="7473960" y="2924280"/>
              <a:chExt cx="412560" cy="480960"/>
            </a:xfrm>
          </p:grpSpPr>
          <p:sp>
            <p:nvSpPr>
              <p:cNvPr id="1138" name=""/>
              <p:cNvSpPr/>
              <p:nvPr/>
            </p:nvSpPr>
            <p:spPr>
              <a:xfrm>
                <a:off x="7610400" y="2994120"/>
                <a:ext cx="276120" cy="41112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473960" y="3062520"/>
                <a:ext cx="136440" cy="34272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473960" y="2924280"/>
                <a:ext cx="412560" cy="208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5c9d"/>
                  </a:gs>
                  <a:gs pos="100000">
                    <a:srgbClr val="ff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"/>
          <p:cNvGrpSpPr/>
          <p:nvPr/>
        </p:nvGrpSpPr>
        <p:grpSpPr>
          <a:xfrm>
            <a:off x="488880" y="5661000"/>
            <a:ext cx="809640" cy="539640"/>
            <a:chOff x="488880" y="5661000"/>
            <a:chExt cx="809640" cy="539640"/>
          </a:xfrm>
        </p:grpSpPr>
        <p:sp>
          <p:nvSpPr>
            <p:cNvPr id="1142" name=""/>
            <p:cNvSpPr/>
            <p:nvPr/>
          </p:nvSpPr>
          <p:spPr>
            <a:xfrm>
              <a:off x="1028520" y="5930640"/>
              <a:ext cx="270000" cy="27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0" y="340"/>
                  </a:moveTo>
                  <a:lnTo>
                    <a:pt x="0" y="170"/>
                  </a:lnTo>
                  <a:lnTo>
                    <a:pt x="340" y="0"/>
                  </a:lnTo>
                  <a:lnTo>
                    <a:pt x="340" y="170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88880" y="5795640"/>
              <a:ext cx="539640" cy="40500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51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680" y="340"/>
                  </a:lnTo>
                  <a:lnTo>
                    <a:pt x="68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88880" y="5661000"/>
              <a:ext cx="809640" cy="40464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488880" y="4940280"/>
            <a:ext cx="811080" cy="676440"/>
            <a:chOff x="488880" y="4940280"/>
            <a:chExt cx="811080" cy="676440"/>
          </a:xfrm>
        </p:grpSpPr>
        <p:sp>
          <p:nvSpPr>
            <p:cNvPr id="1146" name=""/>
            <p:cNvSpPr/>
            <p:nvPr/>
          </p:nvSpPr>
          <p:spPr>
            <a:xfrm>
              <a:off x="1030320" y="5211720"/>
              <a:ext cx="269640" cy="405000"/>
            </a:xfrm>
            <a:custGeom>
              <a:avLst/>
              <a:gdLst/>
              <a:ahLst/>
              <a:rect l="l" t="t" r="r" b="b"/>
              <a:pathLst>
                <a:path w="170" h="255">
                  <a:moveTo>
                    <a:pt x="0" y="255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170"/>
                  </a:lnTo>
                  <a:lnTo>
                    <a:pt x="0" y="255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90320" y="5076720"/>
              <a:ext cx="54000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34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340" y="170"/>
                  </a:lnTo>
                  <a:lnTo>
                    <a:pt x="34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8880" y="4940280"/>
              <a:ext cx="809640" cy="40500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488880" y="4076640"/>
            <a:ext cx="809640" cy="809640"/>
            <a:chOff x="488880" y="4076640"/>
            <a:chExt cx="809640" cy="809640"/>
          </a:xfrm>
        </p:grpSpPr>
        <p:sp>
          <p:nvSpPr>
            <p:cNvPr id="1150" name=""/>
            <p:cNvSpPr/>
            <p:nvPr/>
          </p:nvSpPr>
          <p:spPr>
            <a:xfrm>
              <a:off x="488880" y="4076640"/>
              <a:ext cx="809640" cy="405000"/>
            </a:xfrm>
            <a:custGeom>
              <a:avLst/>
              <a:gdLst/>
              <a:ahLst/>
              <a:rect l="l" t="t" r="r" b="b"/>
              <a:pathLst>
                <a:path w="1020" h="510">
                  <a:moveTo>
                    <a:pt x="1020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88880" y="4211640"/>
              <a:ext cx="539640" cy="674640"/>
            </a:xfrm>
            <a:custGeom>
              <a:avLst/>
              <a:gdLst/>
              <a:ahLst/>
              <a:rect l="l" t="t" r="r" b="b"/>
              <a:pathLst>
                <a:path w="340" h="425">
                  <a:moveTo>
                    <a:pt x="340" y="425"/>
                  </a:moveTo>
                  <a:lnTo>
                    <a:pt x="340" y="17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34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028520" y="4346640"/>
              <a:ext cx="270000" cy="539640"/>
            </a:xfrm>
            <a:custGeom>
              <a:avLst/>
              <a:gdLst/>
              <a:ahLst/>
              <a:rect l="l" t="t" r="r" b="b"/>
              <a:pathLst>
                <a:path w="170" h="340">
                  <a:moveTo>
                    <a:pt x="0" y="85"/>
                  </a:moveTo>
                  <a:lnTo>
                    <a:pt x="170" y="0"/>
                  </a:lnTo>
                  <a:lnTo>
                    <a:pt x="170" y="255"/>
                  </a:lnTo>
                  <a:lnTo>
                    <a:pt x="0" y="340"/>
                  </a:lnTo>
                  <a:lnTo>
                    <a:pt x="0" y="85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1425600" y="5516640"/>
            <a:ext cx="1081080" cy="674640"/>
            <a:chOff x="1425600" y="5516640"/>
            <a:chExt cx="1081080" cy="674640"/>
          </a:xfrm>
        </p:grpSpPr>
        <p:sp>
          <p:nvSpPr>
            <p:cNvPr id="1154" name=""/>
            <p:cNvSpPr/>
            <p:nvPr/>
          </p:nvSpPr>
          <p:spPr>
            <a:xfrm>
              <a:off x="1965240" y="5786280"/>
              <a:ext cx="541440" cy="405000"/>
            </a:xfrm>
            <a:custGeom>
              <a:avLst/>
              <a:gdLst/>
              <a:ahLst/>
              <a:rect l="l" t="t" r="r" b="b"/>
              <a:pathLst>
                <a:path w="341" h="255">
                  <a:moveTo>
                    <a:pt x="0" y="25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85"/>
                  </a:lnTo>
                  <a:lnTo>
                    <a:pt x="0" y="255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425600" y="5786280"/>
              <a:ext cx="539640" cy="405000"/>
            </a:xfrm>
            <a:custGeom>
              <a:avLst/>
              <a:gdLst/>
              <a:ahLst/>
              <a:rect l="l" t="t" r="r" b="b"/>
              <a:pathLst>
                <a:path w="340" h="255">
                  <a:moveTo>
                    <a:pt x="340" y="170"/>
                  </a:moveTo>
                  <a:lnTo>
                    <a:pt x="340" y="255"/>
                  </a:lnTo>
                  <a:lnTo>
                    <a:pt x="0" y="85"/>
                  </a:lnTo>
                  <a:lnTo>
                    <a:pt x="0" y="0"/>
                  </a:lnTo>
                  <a:lnTo>
                    <a:pt x="34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425600" y="551664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1425600" y="4653000"/>
            <a:ext cx="1081080" cy="809640"/>
            <a:chOff x="1425600" y="4653000"/>
            <a:chExt cx="1081080" cy="809640"/>
          </a:xfrm>
        </p:grpSpPr>
        <p:sp>
          <p:nvSpPr>
            <p:cNvPr id="1158" name=""/>
            <p:cNvSpPr/>
            <p:nvPr/>
          </p:nvSpPr>
          <p:spPr>
            <a:xfrm>
              <a:off x="1425600" y="465300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965240" y="4923000"/>
              <a:ext cx="541440" cy="539640"/>
            </a:xfrm>
            <a:custGeom>
              <a:avLst/>
              <a:gdLst/>
              <a:ahLst/>
              <a:rect l="l" t="t" r="r" b="b"/>
              <a:pathLst>
                <a:path w="341" h="340">
                  <a:moveTo>
                    <a:pt x="0" y="170"/>
                  </a:moveTo>
                  <a:lnTo>
                    <a:pt x="341" y="0"/>
                  </a:lnTo>
                  <a:lnTo>
                    <a:pt x="341" y="170"/>
                  </a:lnTo>
                  <a:lnTo>
                    <a:pt x="0" y="340"/>
                  </a:lnTo>
                  <a:lnTo>
                    <a:pt x="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425600" y="492300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34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340" y="170"/>
                  </a:lnTo>
                  <a:lnTo>
                    <a:pt x="34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1425600" y="3573360"/>
            <a:ext cx="1081080" cy="944280"/>
            <a:chOff x="1425600" y="3573360"/>
            <a:chExt cx="1081080" cy="944280"/>
          </a:xfrm>
        </p:grpSpPr>
        <p:sp>
          <p:nvSpPr>
            <p:cNvPr id="1162" name=""/>
            <p:cNvSpPr/>
            <p:nvPr/>
          </p:nvSpPr>
          <p:spPr>
            <a:xfrm>
              <a:off x="1425600" y="357336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425600" y="3843000"/>
              <a:ext cx="539640" cy="674640"/>
            </a:xfrm>
            <a:custGeom>
              <a:avLst/>
              <a:gdLst/>
              <a:ahLst/>
              <a:rect l="l" t="t" r="r" b="b"/>
              <a:pathLst>
                <a:path w="340" h="425">
                  <a:moveTo>
                    <a:pt x="0" y="0"/>
                  </a:moveTo>
                  <a:lnTo>
                    <a:pt x="340" y="170"/>
                  </a:lnTo>
                  <a:lnTo>
                    <a:pt x="340" y="425"/>
                  </a:lnTo>
                  <a:lnTo>
                    <a:pt x="0" y="25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965240" y="3843000"/>
              <a:ext cx="541440" cy="674640"/>
            </a:xfrm>
            <a:custGeom>
              <a:avLst/>
              <a:gdLst/>
              <a:ahLst/>
              <a:rect l="l" t="t" r="r" b="b"/>
              <a:pathLst>
                <a:path w="341" h="425">
                  <a:moveTo>
                    <a:pt x="341" y="0"/>
                  </a:moveTo>
                  <a:lnTo>
                    <a:pt x="341" y="255"/>
                  </a:lnTo>
                  <a:lnTo>
                    <a:pt x="0" y="425"/>
                  </a:lnTo>
                  <a:lnTo>
                    <a:pt x="0" y="170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4233960" y="5516640"/>
            <a:ext cx="1620720" cy="944640"/>
            <a:chOff x="4233960" y="5516640"/>
            <a:chExt cx="1620720" cy="944640"/>
          </a:xfrm>
        </p:grpSpPr>
        <p:grpSp>
          <p:nvGrpSpPr>
            <p:cNvPr id="1166" name=""/>
            <p:cNvGrpSpPr/>
            <p:nvPr/>
          </p:nvGrpSpPr>
          <p:grpSpPr>
            <a:xfrm>
              <a:off x="4233960" y="5516640"/>
              <a:ext cx="1620720" cy="944640"/>
              <a:chOff x="4233960" y="5516640"/>
              <a:chExt cx="1620720" cy="944640"/>
            </a:xfrm>
          </p:grpSpPr>
          <p:sp>
            <p:nvSpPr>
              <p:cNvPr id="1167" name=""/>
              <p:cNvSpPr/>
              <p:nvPr/>
            </p:nvSpPr>
            <p:spPr>
              <a:xfrm>
                <a:off x="5313240" y="6056280"/>
                <a:ext cx="54108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233960" y="5786640"/>
                <a:ext cx="1079280" cy="67464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680" y="340"/>
                    </a:move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233960" y="5516640"/>
                <a:ext cx="162072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4233960" y="5516640"/>
              <a:ext cx="1620720" cy="944640"/>
              <a:chOff x="4233960" y="5516640"/>
              <a:chExt cx="1620720" cy="944640"/>
            </a:xfrm>
          </p:grpSpPr>
          <p:sp>
            <p:nvSpPr>
              <p:cNvPr id="1171" name=""/>
              <p:cNvSpPr/>
              <p:nvPr/>
            </p:nvSpPr>
            <p:spPr>
              <a:xfrm>
                <a:off x="5313240" y="6056280"/>
                <a:ext cx="54108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fe"/>
                  </a:gs>
                  <a:gs pos="100000">
                    <a:srgbClr val="66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233960" y="5786640"/>
                <a:ext cx="1079280" cy="67464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680" y="340"/>
                    </a:move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fe"/>
                  </a:gs>
                  <a:gs pos="100000">
                    <a:srgbClr val="66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233960" y="5516640"/>
                <a:ext cx="162072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fe"/>
                  </a:gs>
                  <a:gs pos="100000">
                    <a:srgbClr val="66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4" name=""/>
          <p:cNvGrpSpPr/>
          <p:nvPr/>
        </p:nvGrpSpPr>
        <p:grpSpPr>
          <a:xfrm>
            <a:off x="4233960" y="4437000"/>
            <a:ext cx="1620720" cy="1079640"/>
            <a:chOff x="4233960" y="4437000"/>
            <a:chExt cx="1620720" cy="1079640"/>
          </a:xfrm>
        </p:grpSpPr>
        <p:grpSp>
          <p:nvGrpSpPr>
            <p:cNvPr id="1175" name=""/>
            <p:cNvGrpSpPr/>
            <p:nvPr/>
          </p:nvGrpSpPr>
          <p:grpSpPr>
            <a:xfrm>
              <a:off x="4233960" y="4437000"/>
              <a:ext cx="1620720" cy="1079640"/>
              <a:chOff x="4233960" y="4437000"/>
              <a:chExt cx="1620720" cy="1079640"/>
            </a:xfrm>
          </p:grpSpPr>
          <p:sp>
            <p:nvSpPr>
              <p:cNvPr id="1176" name=""/>
              <p:cNvSpPr/>
              <p:nvPr/>
            </p:nvSpPr>
            <p:spPr>
              <a:xfrm>
                <a:off x="4233960" y="4437000"/>
                <a:ext cx="162072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233960" y="4707000"/>
                <a:ext cx="1079280" cy="80964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510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170"/>
                    </a:lnTo>
                    <a:lnTo>
                      <a:pt x="680" y="51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313240" y="4977000"/>
                <a:ext cx="541080" cy="53964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0" y="34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170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4233960" y="4437000"/>
              <a:ext cx="1620720" cy="1079640"/>
              <a:chOff x="4233960" y="4437000"/>
              <a:chExt cx="1620720" cy="1079640"/>
            </a:xfrm>
          </p:grpSpPr>
          <p:sp>
            <p:nvSpPr>
              <p:cNvPr id="1180" name=""/>
              <p:cNvSpPr/>
              <p:nvPr/>
            </p:nvSpPr>
            <p:spPr>
              <a:xfrm>
                <a:off x="4233960" y="4437000"/>
                <a:ext cx="162072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fe"/>
                  </a:gs>
                  <a:gs pos="100000">
                    <a:srgbClr val="66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233960" y="4707000"/>
                <a:ext cx="1079280" cy="80964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510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170"/>
                    </a:lnTo>
                    <a:lnTo>
                      <a:pt x="68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fe"/>
                  </a:gs>
                  <a:gs pos="100000">
                    <a:srgbClr val="66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313240" y="4977000"/>
                <a:ext cx="541080" cy="53964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0" y="34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170"/>
                    </a:lnTo>
                    <a:lnTo>
                      <a:pt x="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fe"/>
                  </a:gs>
                  <a:gs pos="100000">
                    <a:srgbClr val="66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3" name=""/>
          <p:cNvGrpSpPr/>
          <p:nvPr/>
        </p:nvGrpSpPr>
        <p:grpSpPr>
          <a:xfrm>
            <a:off x="4305240" y="3357720"/>
            <a:ext cx="1622520" cy="1214280"/>
            <a:chOff x="4305240" y="3357720"/>
            <a:chExt cx="1622520" cy="1214280"/>
          </a:xfrm>
        </p:grpSpPr>
        <p:grpSp>
          <p:nvGrpSpPr>
            <p:cNvPr id="1184" name=""/>
            <p:cNvGrpSpPr/>
            <p:nvPr/>
          </p:nvGrpSpPr>
          <p:grpSpPr>
            <a:xfrm>
              <a:off x="4305240" y="3357720"/>
              <a:ext cx="1622520" cy="1214280"/>
              <a:chOff x="4305240" y="3357720"/>
              <a:chExt cx="1622520" cy="1214280"/>
            </a:xfrm>
          </p:grpSpPr>
          <p:sp>
            <p:nvSpPr>
              <p:cNvPr id="1185" name=""/>
              <p:cNvSpPr/>
              <p:nvPr/>
            </p:nvSpPr>
            <p:spPr>
              <a:xfrm>
                <a:off x="5386320" y="3897360"/>
                <a:ext cx="541440" cy="674640"/>
              </a:xfrm>
              <a:custGeom>
                <a:avLst/>
                <a:gdLst/>
                <a:ahLst/>
                <a:rect l="l" t="t" r="r" b="b"/>
                <a:pathLst>
                  <a:path w="341" h="425">
                    <a:moveTo>
                      <a:pt x="0" y="42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255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305240" y="3357720"/>
                <a:ext cx="162108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305240" y="3627360"/>
                <a:ext cx="1079640" cy="944640"/>
              </a:xfrm>
              <a:custGeom>
                <a:avLst/>
                <a:gdLst/>
                <a:ahLst/>
                <a:rect l="l" t="t" r="r" b="b"/>
                <a:pathLst>
                  <a:path w="680" h="595">
                    <a:moveTo>
                      <a:pt x="680" y="595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680" y="59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4305240" y="3357720"/>
              <a:ext cx="1622520" cy="1214280"/>
              <a:chOff x="4305240" y="3357720"/>
              <a:chExt cx="1622520" cy="1214280"/>
            </a:xfrm>
          </p:grpSpPr>
          <p:sp>
            <p:nvSpPr>
              <p:cNvPr id="1189" name=""/>
              <p:cNvSpPr/>
              <p:nvPr/>
            </p:nvSpPr>
            <p:spPr>
              <a:xfrm>
                <a:off x="5386320" y="3897360"/>
                <a:ext cx="541440" cy="674640"/>
              </a:xfrm>
              <a:custGeom>
                <a:avLst/>
                <a:gdLst/>
                <a:ahLst/>
                <a:rect l="l" t="t" r="r" b="b"/>
                <a:pathLst>
                  <a:path w="341" h="425">
                    <a:moveTo>
                      <a:pt x="0" y="42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255"/>
                    </a:lnTo>
                    <a:lnTo>
                      <a:pt x="0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fe"/>
                  </a:gs>
                  <a:gs pos="100000">
                    <a:srgbClr val="66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305240" y="3357720"/>
                <a:ext cx="162108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fe"/>
                  </a:gs>
                  <a:gs pos="100000">
                    <a:srgbClr val="66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305240" y="3627360"/>
                <a:ext cx="1079640" cy="944640"/>
              </a:xfrm>
              <a:custGeom>
                <a:avLst/>
                <a:gdLst/>
                <a:ahLst/>
                <a:rect l="l" t="t" r="r" b="b"/>
                <a:pathLst>
                  <a:path w="680" h="595">
                    <a:moveTo>
                      <a:pt x="680" y="595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680" y="5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fe"/>
                  </a:gs>
                  <a:gs pos="100000">
                    <a:srgbClr val="66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2" name=""/>
          <p:cNvGrpSpPr/>
          <p:nvPr/>
        </p:nvGrpSpPr>
        <p:grpSpPr>
          <a:xfrm>
            <a:off x="2722680" y="5445000"/>
            <a:ext cx="1350360" cy="809640"/>
            <a:chOff x="2722680" y="5445000"/>
            <a:chExt cx="1350360" cy="809640"/>
          </a:xfrm>
        </p:grpSpPr>
        <p:sp>
          <p:nvSpPr>
            <p:cNvPr id="1193" name=""/>
            <p:cNvSpPr/>
            <p:nvPr/>
          </p:nvSpPr>
          <p:spPr>
            <a:xfrm>
              <a:off x="2722680" y="5445000"/>
              <a:ext cx="1348920" cy="67500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722680" y="5580000"/>
              <a:ext cx="1079280" cy="674640"/>
            </a:xfrm>
            <a:custGeom>
              <a:avLst/>
              <a:gdLst/>
              <a:ahLst/>
              <a:rect l="l" t="t" r="r" b="b"/>
              <a:pathLst>
                <a:path w="680" h="425">
                  <a:moveTo>
                    <a:pt x="0" y="0"/>
                  </a:moveTo>
                  <a:lnTo>
                    <a:pt x="680" y="340"/>
                  </a:lnTo>
                  <a:lnTo>
                    <a:pt x="680" y="425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803400" y="5985000"/>
              <a:ext cx="26964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0" y="170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85"/>
                  </a:lnTo>
                  <a:lnTo>
                    <a:pt x="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2722680" y="4653000"/>
            <a:ext cx="1350360" cy="944640"/>
            <a:chOff x="2722680" y="4653000"/>
            <a:chExt cx="1350360" cy="944640"/>
          </a:xfrm>
        </p:grpSpPr>
        <p:sp>
          <p:nvSpPr>
            <p:cNvPr id="1197" name=""/>
            <p:cNvSpPr/>
            <p:nvPr/>
          </p:nvSpPr>
          <p:spPr>
            <a:xfrm>
              <a:off x="3803400" y="5192640"/>
              <a:ext cx="269640" cy="405000"/>
            </a:xfrm>
            <a:custGeom>
              <a:avLst/>
              <a:gdLst/>
              <a:ahLst/>
              <a:rect l="l" t="t" r="r" b="b"/>
              <a:pathLst>
                <a:path w="170" h="255">
                  <a:moveTo>
                    <a:pt x="170" y="0"/>
                  </a:moveTo>
                  <a:lnTo>
                    <a:pt x="170" y="170"/>
                  </a:lnTo>
                  <a:lnTo>
                    <a:pt x="0" y="255"/>
                  </a:lnTo>
                  <a:lnTo>
                    <a:pt x="0" y="85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724120" y="4788000"/>
              <a:ext cx="1078920" cy="809640"/>
            </a:xfrm>
            <a:custGeom>
              <a:avLst/>
              <a:gdLst/>
              <a:ahLst/>
              <a:rect l="l" t="t" r="r" b="b"/>
              <a:pathLst>
                <a:path w="680" h="510">
                  <a:moveTo>
                    <a:pt x="680" y="340"/>
                  </a:moveTo>
                  <a:lnTo>
                    <a:pt x="680" y="510"/>
                  </a:lnTo>
                  <a:lnTo>
                    <a:pt x="0" y="170"/>
                  </a:lnTo>
                  <a:lnTo>
                    <a:pt x="0" y="0"/>
                  </a:lnTo>
                  <a:lnTo>
                    <a:pt x="68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722680" y="4653000"/>
              <a:ext cx="1349280" cy="67464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2722680" y="3789360"/>
            <a:ext cx="1349280" cy="1079280"/>
            <a:chOff x="2722680" y="3789360"/>
            <a:chExt cx="1349280" cy="1079280"/>
          </a:xfrm>
        </p:grpSpPr>
        <p:sp>
          <p:nvSpPr>
            <p:cNvPr id="1201" name=""/>
            <p:cNvSpPr/>
            <p:nvPr/>
          </p:nvSpPr>
          <p:spPr>
            <a:xfrm>
              <a:off x="2722680" y="3924360"/>
              <a:ext cx="1079280" cy="944280"/>
            </a:xfrm>
            <a:custGeom>
              <a:avLst/>
              <a:gdLst/>
              <a:ahLst/>
              <a:rect l="l" t="t" r="r" b="b"/>
              <a:pathLst>
                <a:path w="680" h="595">
                  <a:moveTo>
                    <a:pt x="680" y="595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680" y="595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801960" y="4329000"/>
              <a:ext cx="269640" cy="539640"/>
            </a:xfrm>
            <a:custGeom>
              <a:avLst/>
              <a:gdLst/>
              <a:ahLst/>
              <a:rect l="l" t="t" r="r" b="b"/>
              <a:pathLst>
                <a:path w="170" h="340">
                  <a:moveTo>
                    <a:pt x="0" y="340"/>
                  </a:moveTo>
                  <a:lnTo>
                    <a:pt x="0" y="85"/>
                  </a:lnTo>
                  <a:lnTo>
                    <a:pt x="170" y="0"/>
                  </a:lnTo>
                  <a:lnTo>
                    <a:pt x="170" y="255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722680" y="3789360"/>
              <a:ext cx="1349280" cy="674640"/>
            </a:xfrm>
            <a:custGeom>
              <a:avLst/>
              <a:gdLst/>
              <a:ahLst/>
              <a:rect l="l" t="t" r="r" b="b"/>
              <a:pathLst>
                <a:path w="850" h="425">
                  <a:moveTo>
                    <a:pt x="170" y="0"/>
                  </a:moveTo>
                  <a:lnTo>
                    <a:pt x="0" y="85"/>
                  </a:lnTo>
                  <a:lnTo>
                    <a:pt x="680" y="425"/>
                  </a:lnTo>
                  <a:lnTo>
                    <a:pt x="850" y="34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6321600" y="4076640"/>
            <a:ext cx="539640" cy="1351080"/>
            <a:chOff x="6321600" y="4076640"/>
            <a:chExt cx="539640" cy="1351080"/>
          </a:xfrm>
        </p:grpSpPr>
        <p:sp>
          <p:nvSpPr>
            <p:cNvPr id="1205" name=""/>
            <p:cNvSpPr/>
            <p:nvPr/>
          </p:nvSpPr>
          <p:spPr>
            <a:xfrm>
              <a:off x="6321600" y="4213080"/>
              <a:ext cx="269640" cy="121464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591240" y="4213080"/>
              <a:ext cx="270000" cy="121464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0" y="765"/>
                  </a:moveTo>
                  <a:lnTo>
                    <a:pt x="170" y="680"/>
                  </a:lnTo>
                  <a:lnTo>
                    <a:pt x="170" y="0"/>
                  </a:lnTo>
                  <a:lnTo>
                    <a:pt x="0" y="85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321600" y="4076640"/>
              <a:ext cx="539640" cy="271440"/>
            </a:xfrm>
            <a:custGeom>
              <a:avLst/>
              <a:gdLst/>
              <a:ahLst/>
              <a:rect l="l" t="t" r="r" b="b"/>
              <a:pathLst>
                <a:path w="340" h="171">
                  <a:moveTo>
                    <a:pt x="340" y="86"/>
                  </a:moveTo>
                  <a:lnTo>
                    <a:pt x="170" y="0"/>
                  </a:lnTo>
                  <a:lnTo>
                    <a:pt x="0" y="86"/>
                  </a:lnTo>
                  <a:lnTo>
                    <a:pt x="170" y="171"/>
                  </a:lnTo>
                  <a:lnTo>
                    <a:pt x="340" y="86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113600" y="4005360"/>
            <a:ext cx="811080" cy="1485360"/>
            <a:chOff x="7113600" y="4005360"/>
            <a:chExt cx="811080" cy="1485360"/>
          </a:xfrm>
        </p:grpSpPr>
        <p:grpSp>
          <p:nvGrpSpPr>
            <p:cNvPr id="1209" name=""/>
            <p:cNvGrpSpPr/>
            <p:nvPr/>
          </p:nvGrpSpPr>
          <p:grpSpPr>
            <a:xfrm>
              <a:off x="7113600" y="4005360"/>
              <a:ext cx="811080" cy="1485360"/>
              <a:chOff x="7113600" y="4005360"/>
              <a:chExt cx="811080" cy="1485360"/>
            </a:xfrm>
          </p:grpSpPr>
          <p:sp>
            <p:nvSpPr>
              <p:cNvPr id="1210" name=""/>
              <p:cNvSpPr/>
              <p:nvPr/>
            </p:nvSpPr>
            <p:spPr>
              <a:xfrm>
                <a:off x="7113600" y="4276440"/>
                <a:ext cx="269640" cy="121428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113600" y="4005360"/>
                <a:ext cx="811080" cy="406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383240" y="4140000"/>
                <a:ext cx="541080" cy="135072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7113600" y="4005360"/>
              <a:ext cx="811080" cy="1485360"/>
              <a:chOff x="7113600" y="4005360"/>
              <a:chExt cx="811080" cy="1485360"/>
            </a:xfrm>
          </p:grpSpPr>
          <p:sp>
            <p:nvSpPr>
              <p:cNvPr id="1214" name=""/>
              <p:cNvSpPr/>
              <p:nvPr/>
            </p:nvSpPr>
            <p:spPr>
              <a:xfrm>
                <a:off x="7113600" y="4276440"/>
                <a:ext cx="269640" cy="121428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fe"/>
                  </a:gs>
                  <a:gs pos="100000">
                    <a:srgbClr val="66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113600" y="4005360"/>
                <a:ext cx="811080" cy="406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fe"/>
                  </a:gs>
                  <a:gs pos="100000">
                    <a:srgbClr val="66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383240" y="4140000"/>
                <a:ext cx="541080" cy="135072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fe"/>
                  </a:gs>
                  <a:gs pos="100000">
                    <a:srgbClr val="66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7" name=""/>
          <p:cNvGrpSpPr/>
          <p:nvPr/>
        </p:nvGrpSpPr>
        <p:grpSpPr>
          <a:xfrm>
            <a:off x="8121600" y="4508640"/>
            <a:ext cx="811440" cy="944280"/>
            <a:chOff x="8121600" y="4508640"/>
            <a:chExt cx="811440" cy="944280"/>
          </a:xfrm>
        </p:grpSpPr>
        <p:sp>
          <p:nvSpPr>
            <p:cNvPr id="1218" name=""/>
            <p:cNvSpPr/>
            <p:nvPr/>
          </p:nvSpPr>
          <p:spPr>
            <a:xfrm>
              <a:off x="8391600" y="4643280"/>
              <a:ext cx="541440" cy="809640"/>
            </a:xfrm>
            <a:custGeom>
              <a:avLst/>
              <a:gdLst/>
              <a:ahLst/>
              <a:rect l="l" t="t" r="r" b="b"/>
              <a:pathLst>
                <a:path w="341" h="510">
                  <a:moveTo>
                    <a:pt x="0" y="510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340"/>
                  </a:lnTo>
                  <a:lnTo>
                    <a:pt x="0" y="510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121600" y="4778280"/>
              <a:ext cx="270000" cy="674640"/>
            </a:xfrm>
            <a:custGeom>
              <a:avLst/>
              <a:gdLst/>
              <a:ahLst/>
              <a:rect l="l" t="t" r="r" b="b"/>
              <a:pathLst>
                <a:path w="170" h="425">
                  <a:moveTo>
                    <a:pt x="170" y="425"/>
                  </a:moveTo>
                  <a:lnTo>
                    <a:pt x="170" y="85"/>
                  </a:lnTo>
                  <a:lnTo>
                    <a:pt x="0" y="0"/>
                  </a:lnTo>
                  <a:lnTo>
                    <a:pt x="0" y="340"/>
                  </a:lnTo>
                  <a:lnTo>
                    <a:pt x="17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121600" y="4508640"/>
              <a:ext cx="811440" cy="406080"/>
            </a:xfrm>
            <a:custGeom>
              <a:avLst/>
              <a:gdLst/>
              <a:ahLst/>
              <a:rect l="l" t="t" r="r" b="b"/>
              <a:pathLst>
                <a:path w="511" h="256">
                  <a:moveTo>
                    <a:pt x="170" y="256"/>
                  </a:moveTo>
                  <a:lnTo>
                    <a:pt x="511" y="85"/>
                  </a:lnTo>
                  <a:lnTo>
                    <a:pt x="340" y="0"/>
                  </a:lnTo>
                  <a:lnTo>
                    <a:pt x="0" y="171"/>
                  </a:lnTo>
                  <a:lnTo>
                    <a:pt x="170" y="256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6394320" y="5805360"/>
            <a:ext cx="274680" cy="687240"/>
            <a:chOff x="6394320" y="5805360"/>
            <a:chExt cx="274680" cy="687240"/>
          </a:xfrm>
        </p:grpSpPr>
        <p:sp>
          <p:nvSpPr>
            <p:cNvPr id="1222" name=""/>
            <p:cNvSpPr/>
            <p:nvPr/>
          </p:nvSpPr>
          <p:spPr>
            <a:xfrm>
              <a:off x="6394320" y="5875200"/>
              <a:ext cx="13788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532200" y="5875200"/>
              <a:ext cx="136800" cy="61740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0" y="765"/>
                  </a:moveTo>
                  <a:lnTo>
                    <a:pt x="170" y="680"/>
                  </a:lnTo>
                  <a:lnTo>
                    <a:pt x="170" y="0"/>
                  </a:lnTo>
                  <a:lnTo>
                    <a:pt x="0" y="85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394320" y="5805360"/>
              <a:ext cx="274680" cy="137880"/>
            </a:xfrm>
            <a:custGeom>
              <a:avLst/>
              <a:gdLst/>
              <a:ahLst/>
              <a:rect l="l" t="t" r="r" b="b"/>
              <a:pathLst>
                <a:path w="340" h="171">
                  <a:moveTo>
                    <a:pt x="340" y="86"/>
                  </a:moveTo>
                  <a:lnTo>
                    <a:pt x="170" y="0"/>
                  </a:lnTo>
                  <a:lnTo>
                    <a:pt x="0" y="86"/>
                  </a:lnTo>
                  <a:lnTo>
                    <a:pt x="170" y="171"/>
                  </a:lnTo>
                  <a:lnTo>
                    <a:pt x="340" y="86"/>
                  </a:lnTo>
                  <a:close/>
                </a:path>
              </a:pathLst>
            </a:custGeom>
            <a:gradFill rotWithShape="0">
              <a:gsLst>
                <a:gs pos="0">
                  <a:srgbClr val="9d9dfe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6897600" y="5732640"/>
            <a:ext cx="412560" cy="755640"/>
            <a:chOff x="6897600" y="5732640"/>
            <a:chExt cx="412560" cy="755640"/>
          </a:xfrm>
        </p:grpSpPr>
        <p:grpSp>
          <p:nvGrpSpPr>
            <p:cNvPr id="1226" name=""/>
            <p:cNvGrpSpPr/>
            <p:nvPr/>
          </p:nvGrpSpPr>
          <p:grpSpPr>
            <a:xfrm>
              <a:off x="6897600" y="5732640"/>
              <a:ext cx="412560" cy="755640"/>
              <a:chOff x="6897600" y="5732640"/>
              <a:chExt cx="412560" cy="755640"/>
            </a:xfrm>
          </p:grpSpPr>
          <p:sp>
            <p:nvSpPr>
              <p:cNvPr id="1227" name=""/>
              <p:cNvSpPr/>
              <p:nvPr/>
            </p:nvSpPr>
            <p:spPr>
              <a:xfrm>
                <a:off x="6897600" y="5870880"/>
                <a:ext cx="13788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897600" y="5732640"/>
                <a:ext cx="412560" cy="2062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035480" y="5801040"/>
                <a:ext cx="274680" cy="68724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0" name=""/>
            <p:cNvGrpSpPr/>
            <p:nvPr/>
          </p:nvGrpSpPr>
          <p:grpSpPr>
            <a:xfrm>
              <a:off x="6897600" y="5732640"/>
              <a:ext cx="412560" cy="755640"/>
              <a:chOff x="6897600" y="5732640"/>
              <a:chExt cx="412560" cy="755640"/>
            </a:xfrm>
          </p:grpSpPr>
          <p:sp>
            <p:nvSpPr>
              <p:cNvPr id="1231" name=""/>
              <p:cNvSpPr/>
              <p:nvPr/>
            </p:nvSpPr>
            <p:spPr>
              <a:xfrm>
                <a:off x="6897600" y="5870880"/>
                <a:ext cx="13788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fe"/>
                  </a:gs>
                  <a:gs pos="100000">
                    <a:srgbClr val="66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897600" y="5732640"/>
                <a:ext cx="412560" cy="2062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fe"/>
                  </a:gs>
                  <a:gs pos="100000">
                    <a:srgbClr val="66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035480" y="5801040"/>
                <a:ext cx="274680" cy="68724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fe"/>
                  </a:gs>
                  <a:gs pos="100000">
                    <a:srgbClr val="66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4" name=""/>
          <p:cNvGrpSpPr/>
          <p:nvPr/>
        </p:nvGrpSpPr>
        <p:grpSpPr>
          <a:xfrm>
            <a:off x="7547040" y="5948280"/>
            <a:ext cx="412560" cy="480960"/>
            <a:chOff x="7547040" y="5948280"/>
            <a:chExt cx="412560" cy="480960"/>
          </a:xfrm>
        </p:grpSpPr>
        <p:grpSp>
          <p:nvGrpSpPr>
            <p:cNvPr id="1235" name=""/>
            <p:cNvGrpSpPr/>
            <p:nvPr/>
          </p:nvGrpSpPr>
          <p:grpSpPr>
            <a:xfrm>
              <a:off x="7547040" y="5948280"/>
              <a:ext cx="412560" cy="480960"/>
              <a:chOff x="7547040" y="5948280"/>
              <a:chExt cx="412560" cy="480960"/>
            </a:xfrm>
          </p:grpSpPr>
          <p:sp>
            <p:nvSpPr>
              <p:cNvPr id="1236" name=""/>
              <p:cNvSpPr/>
              <p:nvPr/>
            </p:nvSpPr>
            <p:spPr>
              <a:xfrm>
                <a:off x="7683480" y="6018120"/>
                <a:ext cx="276120" cy="41112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547040" y="6086520"/>
                <a:ext cx="136440" cy="34272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547040" y="5948280"/>
                <a:ext cx="412560" cy="208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7547040" y="5948280"/>
              <a:ext cx="412560" cy="480960"/>
              <a:chOff x="7547040" y="5948280"/>
              <a:chExt cx="412560" cy="480960"/>
            </a:xfrm>
          </p:grpSpPr>
          <p:sp>
            <p:nvSpPr>
              <p:cNvPr id="1240" name=""/>
              <p:cNvSpPr/>
              <p:nvPr/>
            </p:nvSpPr>
            <p:spPr>
              <a:xfrm>
                <a:off x="7683480" y="6018120"/>
                <a:ext cx="276120" cy="41112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fe"/>
                  </a:gs>
                  <a:gs pos="100000">
                    <a:srgbClr val="66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547040" y="6086520"/>
                <a:ext cx="136440" cy="34272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fe"/>
                  </a:gs>
                  <a:gs pos="100000">
                    <a:srgbClr val="66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547040" y="5948280"/>
                <a:ext cx="412560" cy="208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fe"/>
                  </a:gs>
                  <a:gs pos="100000">
                    <a:srgbClr val="66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3" name=""/>
          <p:cNvGrpSpPr/>
          <p:nvPr/>
        </p:nvGrpSpPr>
        <p:grpSpPr>
          <a:xfrm>
            <a:off x="347760" y="2662200"/>
            <a:ext cx="811080" cy="541440"/>
            <a:chOff x="347760" y="2662200"/>
            <a:chExt cx="811080" cy="541440"/>
          </a:xfrm>
        </p:grpSpPr>
        <p:grpSp>
          <p:nvGrpSpPr>
            <p:cNvPr id="1244" name=""/>
            <p:cNvGrpSpPr/>
            <p:nvPr/>
          </p:nvGrpSpPr>
          <p:grpSpPr>
            <a:xfrm>
              <a:off x="349200" y="2662200"/>
              <a:ext cx="809640" cy="539640"/>
              <a:chOff x="349200" y="2662200"/>
              <a:chExt cx="809640" cy="539640"/>
            </a:xfrm>
          </p:grpSpPr>
          <p:sp>
            <p:nvSpPr>
              <p:cNvPr id="1245" name=""/>
              <p:cNvSpPr/>
              <p:nvPr/>
            </p:nvSpPr>
            <p:spPr>
              <a:xfrm>
                <a:off x="888840" y="2931840"/>
                <a:ext cx="270000" cy="27000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0" y="340"/>
                    </a:moveTo>
                    <a:lnTo>
                      <a:pt x="0" y="170"/>
                    </a:lnTo>
                    <a:lnTo>
                      <a:pt x="340" y="0"/>
                    </a:lnTo>
                    <a:lnTo>
                      <a:pt x="340" y="170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49200" y="2796840"/>
                <a:ext cx="539640" cy="40500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51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680" y="340"/>
                    </a:lnTo>
                    <a:lnTo>
                      <a:pt x="680" y="51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49200" y="2662200"/>
                <a:ext cx="809640" cy="40464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347760" y="2664000"/>
              <a:ext cx="809640" cy="539640"/>
              <a:chOff x="347760" y="2664000"/>
              <a:chExt cx="809640" cy="539640"/>
            </a:xfrm>
          </p:grpSpPr>
          <p:sp>
            <p:nvSpPr>
              <p:cNvPr id="1249" name=""/>
              <p:cNvSpPr/>
              <p:nvPr/>
            </p:nvSpPr>
            <p:spPr>
              <a:xfrm>
                <a:off x="887400" y="2933640"/>
                <a:ext cx="270000" cy="27000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0" y="340"/>
                    </a:moveTo>
                    <a:lnTo>
                      <a:pt x="0" y="170"/>
                    </a:lnTo>
                    <a:lnTo>
                      <a:pt x="340" y="0"/>
                    </a:lnTo>
                    <a:lnTo>
                      <a:pt x="340" y="170"/>
                    </a:lnTo>
                    <a:lnTo>
                      <a:pt x="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47760" y="2798640"/>
                <a:ext cx="539640" cy="40500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51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680" y="340"/>
                    </a:lnTo>
                    <a:lnTo>
                      <a:pt x="68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47760" y="2664000"/>
                <a:ext cx="809640" cy="40464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2" name=""/>
          <p:cNvGrpSpPr/>
          <p:nvPr/>
        </p:nvGrpSpPr>
        <p:grpSpPr>
          <a:xfrm>
            <a:off x="301680" y="1940040"/>
            <a:ext cx="812520" cy="677880"/>
            <a:chOff x="301680" y="1940040"/>
            <a:chExt cx="812520" cy="677880"/>
          </a:xfrm>
        </p:grpSpPr>
        <p:grpSp>
          <p:nvGrpSpPr>
            <p:cNvPr id="1253" name=""/>
            <p:cNvGrpSpPr/>
            <p:nvPr/>
          </p:nvGrpSpPr>
          <p:grpSpPr>
            <a:xfrm>
              <a:off x="303120" y="1940040"/>
              <a:ext cx="811080" cy="675720"/>
              <a:chOff x="303120" y="1940040"/>
              <a:chExt cx="811080" cy="675720"/>
            </a:xfrm>
          </p:grpSpPr>
          <p:sp>
            <p:nvSpPr>
              <p:cNvPr id="1254" name=""/>
              <p:cNvSpPr/>
              <p:nvPr/>
            </p:nvSpPr>
            <p:spPr>
              <a:xfrm>
                <a:off x="844560" y="2211120"/>
                <a:ext cx="269640" cy="404640"/>
              </a:xfrm>
              <a:custGeom>
                <a:avLst/>
                <a:gdLst/>
                <a:ahLst/>
                <a:rect l="l" t="t" r="r" b="b"/>
                <a:pathLst>
                  <a:path w="170" h="255">
                    <a:moveTo>
                      <a:pt x="0" y="255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170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04560" y="2076120"/>
                <a:ext cx="540000" cy="53964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340" y="34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340" y="170"/>
                    </a:lnTo>
                    <a:lnTo>
                      <a:pt x="34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03120" y="1940040"/>
                <a:ext cx="809640" cy="40464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301680" y="1941480"/>
              <a:ext cx="811080" cy="676440"/>
              <a:chOff x="301680" y="1941480"/>
              <a:chExt cx="811080" cy="676440"/>
            </a:xfrm>
          </p:grpSpPr>
          <p:sp>
            <p:nvSpPr>
              <p:cNvPr id="1258" name=""/>
              <p:cNvSpPr/>
              <p:nvPr/>
            </p:nvSpPr>
            <p:spPr>
              <a:xfrm>
                <a:off x="843120" y="2212920"/>
                <a:ext cx="269640" cy="405000"/>
              </a:xfrm>
              <a:custGeom>
                <a:avLst/>
                <a:gdLst/>
                <a:ahLst/>
                <a:rect l="l" t="t" r="r" b="b"/>
                <a:pathLst>
                  <a:path w="170" h="255">
                    <a:moveTo>
                      <a:pt x="0" y="255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170"/>
                    </a:lnTo>
                    <a:lnTo>
                      <a:pt x="0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03120" y="2077920"/>
                <a:ext cx="540000" cy="54000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340" y="34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340" y="170"/>
                    </a:lnTo>
                    <a:lnTo>
                      <a:pt x="34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01680" y="1941480"/>
                <a:ext cx="809640" cy="40500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1" name=""/>
          <p:cNvGrpSpPr/>
          <p:nvPr/>
        </p:nvGrpSpPr>
        <p:grpSpPr>
          <a:xfrm>
            <a:off x="301680" y="1130400"/>
            <a:ext cx="811080" cy="811080"/>
            <a:chOff x="301680" y="1130400"/>
            <a:chExt cx="811080" cy="811080"/>
          </a:xfrm>
        </p:grpSpPr>
        <p:grpSp>
          <p:nvGrpSpPr>
            <p:cNvPr id="1262" name=""/>
            <p:cNvGrpSpPr/>
            <p:nvPr/>
          </p:nvGrpSpPr>
          <p:grpSpPr>
            <a:xfrm>
              <a:off x="303120" y="1130400"/>
              <a:ext cx="809640" cy="809640"/>
              <a:chOff x="303120" y="1130400"/>
              <a:chExt cx="809640" cy="809640"/>
            </a:xfrm>
          </p:grpSpPr>
          <p:sp>
            <p:nvSpPr>
              <p:cNvPr id="1263" name=""/>
              <p:cNvSpPr/>
              <p:nvPr/>
            </p:nvSpPr>
            <p:spPr>
              <a:xfrm>
                <a:off x="303120" y="1130400"/>
                <a:ext cx="809640" cy="40500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303120" y="1265400"/>
                <a:ext cx="539640" cy="674640"/>
              </a:xfrm>
              <a:custGeom>
                <a:avLst/>
                <a:gdLst/>
                <a:ahLst/>
                <a:rect l="l" t="t" r="r" b="b"/>
                <a:pathLst>
                  <a:path w="340" h="425">
                    <a:moveTo>
                      <a:pt x="340" y="425"/>
                    </a:moveTo>
                    <a:lnTo>
                      <a:pt x="340" y="17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340" y="42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842760" y="1400400"/>
                <a:ext cx="27000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85"/>
                    </a:move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301680" y="1131840"/>
              <a:ext cx="809640" cy="809640"/>
              <a:chOff x="301680" y="1131840"/>
              <a:chExt cx="809640" cy="809640"/>
            </a:xfrm>
          </p:grpSpPr>
          <p:sp>
            <p:nvSpPr>
              <p:cNvPr id="1267" name=""/>
              <p:cNvSpPr/>
              <p:nvPr/>
            </p:nvSpPr>
            <p:spPr>
              <a:xfrm>
                <a:off x="301680" y="1131840"/>
                <a:ext cx="809640" cy="40500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01680" y="1266840"/>
                <a:ext cx="539640" cy="674640"/>
              </a:xfrm>
              <a:custGeom>
                <a:avLst/>
                <a:gdLst/>
                <a:ahLst/>
                <a:rect l="l" t="t" r="r" b="b"/>
                <a:pathLst>
                  <a:path w="340" h="425">
                    <a:moveTo>
                      <a:pt x="340" y="425"/>
                    </a:moveTo>
                    <a:lnTo>
                      <a:pt x="340" y="17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340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841320" y="1401840"/>
                <a:ext cx="27000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85"/>
                    </a:move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lnTo>
                      <a:pt x="0" y="8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0" name=""/>
          <p:cNvGrpSpPr/>
          <p:nvPr/>
        </p:nvGrpSpPr>
        <p:grpSpPr>
          <a:xfrm>
            <a:off x="1336680" y="2527200"/>
            <a:ext cx="1082520" cy="676440"/>
            <a:chOff x="1336680" y="2527200"/>
            <a:chExt cx="1082520" cy="676440"/>
          </a:xfrm>
        </p:grpSpPr>
        <p:grpSp>
          <p:nvGrpSpPr>
            <p:cNvPr id="1271" name=""/>
            <p:cNvGrpSpPr/>
            <p:nvPr/>
          </p:nvGrpSpPr>
          <p:grpSpPr>
            <a:xfrm>
              <a:off x="1338120" y="2527200"/>
              <a:ext cx="1081080" cy="674640"/>
              <a:chOff x="1338120" y="2527200"/>
              <a:chExt cx="1081080" cy="674640"/>
            </a:xfrm>
          </p:grpSpPr>
          <p:sp>
            <p:nvSpPr>
              <p:cNvPr id="1272" name=""/>
              <p:cNvSpPr/>
              <p:nvPr/>
            </p:nvSpPr>
            <p:spPr>
              <a:xfrm>
                <a:off x="1877760" y="2796840"/>
                <a:ext cx="54144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1338120" y="2796840"/>
                <a:ext cx="539640" cy="405000"/>
              </a:xfrm>
              <a:custGeom>
                <a:avLst/>
                <a:gdLst/>
                <a:ahLst/>
                <a:rect l="l" t="t" r="r" b="b"/>
                <a:pathLst>
                  <a:path w="340" h="255">
                    <a:moveTo>
                      <a:pt x="340" y="170"/>
                    </a:moveTo>
                    <a:lnTo>
                      <a:pt x="340" y="25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340" y="17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338120" y="252720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1336680" y="2529000"/>
              <a:ext cx="1081080" cy="674640"/>
              <a:chOff x="1336680" y="2529000"/>
              <a:chExt cx="1081080" cy="674640"/>
            </a:xfrm>
          </p:grpSpPr>
          <p:sp>
            <p:nvSpPr>
              <p:cNvPr id="1276" name=""/>
              <p:cNvSpPr/>
              <p:nvPr/>
            </p:nvSpPr>
            <p:spPr>
              <a:xfrm>
                <a:off x="1876320" y="2798640"/>
                <a:ext cx="54144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336680" y="2798640"/>
                <a:ext cx="539640" cy="405000"/>
              </a:xfrm>
              <a:custGeom>
                <a:avLst/>
                <a:gdLst/>
                <a:ahLst/>
                <a:rect l="l" t="t" r="r" b="b"/>
                <a:pathLst>
                  <a:path w="340" h="255">
                    <a:moveTo>
                      <a:pt x="340" y="170"/>
                    </a:moveTo>
                    <a:lnTo>
                      <a:pt x="340" y="25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340" y="1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336680" y="252900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9" name=""/>
          <p:cNvGrpSpPr/>
          <p:nvPr/>
        </p:nvGrpSpPr>
        <p:grpSpPr>
          <a:xfrm>
            <a:off x="1336680" y="1671480"/>
            <a:ext cx="1082520" cy="811440"/>
            <a:chOff x="1336680" y="1671480"/>
            <a:chExt cx="1082520" cy="811440"/>
          </a:xfrm>
        </p:grpSpPr>
        <p:grpSp>
          <p:nvGrpSpPr>
            <p:cNvPr id="1280" name=""/>
            <p:cNvGrpSpPr/>
            <p:nvPr/>
          </p:nvGrpSpPr>
          <p:grpSpPr>
            <a:xfrm>
              <a:off x="1338120" y="1671480"/>
              <a:ext cx="1081080" cy="809640"/>
              <a:chOff x="1338120" y="1671480"/>
              <a:chExt cx="1081080" cy="809640"/>
            </a:xfrm>
          </p:grpSpPr>
          <p:sp>
            <p:nvSpPr>
              <p:cNvPr id="1281" name=""/>
              <p:cNvSpPr/>
              <p:nvPr/>
            </p:nvSpPr>
            <p:spPr>
              <a:xfrm>
                <a:off x="1338120" y="167148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877760" y="1941480"/>
                <a:ext cx="541440" cy="53964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0" y="170"/>
                    </a:moveTo>
                    <a:lnTo>
                      <a:pt x="341" y="0"/>
                    </a:lnTo>
                    <a:lnTo>
                      <a:pt x="341" y="170"/>
                    </a:lnTo>
                    <a:lnTo>
                      <a:pt x="0" y="340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338120" y="1941480"/>
                <a:ext cx="539640" cy="53964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340" y="34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340" y="170"/>
                    </a:lnTo>
                    <a:lnTo>
                      <a:pt x="34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1336680" y="1673280"/>
              <a:ext cx="1081080" cy="809640"/>
              <a:chOff x="1336680" y="1673280"/>
              <a:chExt cx="1081080" cy="809640"/>
            </a:xfrm>
          </p:grpSpPr>
          <p:sp>
            <p:nvSpPr>
              <p:cNvPr id="1285" name=""/>
              <p:cNvSpPr/>
              <p:nvPr/>
            </p:nvSpPr>
            <p:spPr>
              <a:xfrm>
                <a:off x="1336680" y="167328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1876320" y="1943280"/>
                <a:ext cx="541440" cy="53964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0" y="170"/>
                    </a:moveTo>
                    <a:lnTo>
                      <a:pt x="341" y="0"/>
                    </a:lnTo>
                    <a:lnTo>
                      <a:pt x="341" y="170"/>
                    </a:lnTo>
                    <a:lnTo>
                      <a:pt x="0" y="340"/>
                    </a:lnTo>
                    <a:lnTo>
                      <a:pt x="0" y="1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336680" y="1943280"/>
                <a:ext cx="539640" cy="53964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340" y="34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340" y="170"/>
                    </a:lnTo>
                    <a:lnTo>
                      <a:pt x="34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8" name=""/>
          <p:cNvGrpSpPr/>
          <p:nvPr/>
        </p:nvGrpSpPr>
        <p:grpSpPr>
          <a:xfrm>
            <a:off x="1336680" y="636480"/>
            <a:ext cx="1082520" cy="946080"/>
            <a:chOff x="1336680" y="636480"/>
            <a:chExt cx="1082520" cy="946080"/>
          </a:xfrm>
        </p:grpSpPr>
        <p:grpSp>
          <p:nvGrpSpPr>
            <p:cNvPr id="1289" name=""/>
            <p:cNvGrpSpPr/>
            <p:nvPr/>
          </p:nvGrpSpPr>
          <p:grpSpPr>
            <a:xfrm>
              <a:off x="1338120" y="636480"/>
              <a:ext cx="1081080" cy="944280"/>
              <a:chOff x="1338120" y="636480"/>
              <a:chExt cx="1081080" cy="944280"/>
            </a:xfrm>
          </p:grpSpPr>
          <p:sp>
            <p:nvSpPr>
              <p:cNvPr id="1290" name=""/>
              <p:cNvSpPr/>
              <p:nvPr/>
            </p:nvSpPr>
            <p:spPr>
              <a:xfrm>
                <a:off x="1338120" y="63648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338120" y="906120"/>
                <a:ext cx="539640" cy="674640"/>
              </a:xfrm>
              <a:custGeom>
                <a:avLst/>
                <a:gdLst/>
                <a:ahLst/>
                <a:rect l="l" t="t" r="r" b="b"/>
                <a:pathLst>
                  <a:path w="340" h="425">
                    <a:moveTo>
                      <a:pt x="0" y="0"/>
                    </a:moveTo>
                    <a:lnTo>
                      <a:pt x="340" y="170"/>
                    </a:lnTo>
                    <a:lnTo>
                      <a:pt x="340" y="425"/>
                    </a:lnTo>
                    <a:lnTo>
                      <a:pt x="0" y="2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877760" y="906120"/>
                <a:ext cx="541440" cy="674640"/>
              </a:xfrm>
              <a:custGeom>
                <a:avLst/>
                <a:gdLst/>
                <a:ahLst/>
                <a:rect l="l" t="t" r="r" b="b"/>
                <a:pathLst>
                  <a:path w="341" h="425">
                    <a:moveTo>
                      <a:pt x="341" y="0"/>
                    </a:moveTo>
                    <a:lnTo>
                      <a:pt x="341" y="255"/>
                    </a:lnTo>
                    <a:lnTo>
                      <a:pt x="0" y="425"/>
                    </a:lnTo>
                    <a:lnTo>
                      <a:pt x="0" y="170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3" name=""/>
            <p:cNvGrpSpPr/>
            <p:nvPr/>
          </p:nvGrpSpPr>
          <p:grpSpPr>
            <a:xfrm>
              <a:off x="1336680" y="638280"/>
              <a:ext cx="1081080" cy="944280"/>
              <a:chOff x="1336680" y="638280"/>
              <a:chExt cx="1081080" cy="944280"/>
            </a:xfrm>
          </p:grpSpPr>
          <p:sp>
            <p:nvSpPr>
              <p:cNvPr id="1294" name=""/>
              <p:cNvSpPr/>
              <p:nvPr/>
            </p:nvSpPr>
            <p:spPr>
              <a:xfrm>
                <a:off x="1336680" y="63828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336680" y="907920"/>
                <a:ext cx="539640" cy="674640"/>
              </a:xfrm>
              <a:custGeom>
                <a:avLst/>
                <a:gdLst/>
                <a:ahLst/>
                <a:rect l="l" t="t" r="r" b="b"/>
                <a:pathLst>
                  <a:path w="340" h="425">
                    <a:moveTo>
                      <a:pt x="0" y="0"/>
                    </a:moveTo>
                    <a:lnTo>
                      <a:pt x="340" y="170"/>
                    </a:lnTo>
                    <a:lnTo>
                      <a:pt x="340" y="425"/>
                    </a:lnTo>
                    <a:lnTo>
                      <a:pt x="0" y="25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1876320" y="907920"/>
                <a:ext cx="541440" cy="674640"/>
              </a:xfrm>
              <a:custGeom>
                <a:avLst/>
                <a:gdLst/>
                <a:ahLst/>
                <a:rect l="l" t="t" r="r" b="b"/>
                <a:pathLst>
                  <a:path w="341" h="425">
                    <a:moveTo>
                      <a:pt x="341" y="0"/>
                    </a:moveTo>
                    <a:lnTo>
                      <a:pt x="341" y="255"/>
                    </a:lnTo>
                    <a:lnTo>
                      <a:pt x="0" y="425"/>
                    </a:lnTo>
                    <a:lnTo>
                      <a:pt x="0" y="170"/>
                    </a:lnTo>
                    <a:lnTo>
                      <a:pt x="3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7" name=""/>
          <p:cNvGrpSpPr/>
          <p:nvPr/>
        </p:nvGrpSpPr>
        <p:grpSpPr>
          <a:xfrm>
            <a:off x="4262400" y="2257560"/>
            <a:ext cx="1622520" cy="946080"/>
            <a:chOff x="4262400" y="2257560"/>
            <a:chExt cx="1622520" cy="946080"/>
          </a:xfrm>
        </p:grpSpPr>
        <p:grpSp>
          <p:nvGrpSpPr>
            <p:cNvPr id="1298" name=""/>
            <p:cNvGrpSpPr/>
            <p:nvPr/>
          </p:nvGrpSpPr>
          <p:grpSpPr>
            <a:xfrm>
              <a:off x="4264200" y="2257560"/>
              <a:ext cx="1620720" cy="943920"/>
              <a:chOff x="4264200" y="2257560"/>
              <a:chExt cx="1620720" cy="943920"/>
            </a:xfrm>
          </p:grpSpPr>
          <p:sp>
            <p:nvSpPr>
              <p:cNvPr id="1299" name=""/>
              <p:cNvSpPr/>
              <p:nvPr/>
            </p:nvSpPr>
            <p:spPr>
              <a:xfrm>
                <a:off x="5343480" y="2796840"/>
                <a:ext cx="541080" cy="40464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4264200" y="2527200"/>
                <a:ext cx="1079280" cy="67428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680" y="340"/>
                    </a:move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4264200" y="2257560"/>
                <a:ext cx="1620720" cy="80928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4262400" y="2259000"/>
              <a:ext cx="1620720" cy="944640"/>
              <a:chOff x="4262400" y="2259000"/>
              <a:chExt cx="1620720" cy="944640"/>
            </a:xfrm>
          </p:grpSpPr>
          <p:sp>
            <p:nvSpPr>
              <p:cNvPr id="1303" name=""/>
              <p:cNvSpPr/>
              <p:nvPr/>
            </p:nvSpPr>
            <p:spPr>
              <a:xfrm>
                <a:off x="5341680" y="2798640"/>
                <a:ext cx="54108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4262400" y="2529000"/>
                <a:ext cx="1079280" cy="67464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680" y="340"/>
                    </a:move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4262400" y="2259000"/>
                <a:ext cx="162072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6" name=""/>
          <p:cNvGrpSpPr/>
          <p:nvPr/>
        </p:nvGrpSpPr>
        <p:grpSpPr>
          <a:xfrm>
            <a:off x="4262400" y="1266840"/>
            <a:ext cx="1622520" cy="1081080"/>
            <a:chOff x="4262400" y="1266840"/>
            <a:chExt cx="1622520" cy="1081080"/>
          </a:xfrm>
        </p:grpSpPr>
        <p:grpSp>
          <p:nvGrpSpPr>
            <p:cNvPr id="1307" name=""/>
            <p:cNvGrpSpPr/>
            <p:nvPr/>
          </p:nvGrpSpPr>
          <p:grpSpPr>
            <a:xfrm>
              <a:off x="4264200" y="1266840"/>
              <a:ext cx="1620720" cy="1079640"/>
              <a:chOff x="4264200" y="1266840"/>
              <a:chExt cx="1620720" cy="1079640"/>
            </a:xfrm>
          </p:grpSpPr>
          <p:sp>
            <p:nvSpPr>
              <p:cNvPr id="1308" name=""/>
              <p:cNvSpPr/>
              <p:nvPr/>
            </p:nvSpPr>
            <p:spPr>
              <a:xfrm>
                <a:off x="4264200" y="1266840"/>
                <a:ext cx="162072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4264200" y="1536840"/>
                <a:ext cx="1079280" cy="80964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510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170"/>
                    </a:lnTo>
                    <a:lnTo>
                      <a:pt x="680" y="51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343480" y="1806840"/>
                <a:ext cx="541080" cy="53964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0" y="34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170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4262400" y="1268280"/>
              <a:ext cx="1620720" cy="1079640"/>
              <a:chOff x="4262400" y="1268280"/>
              <a:chExt cx="1620720" cy="1079640"/>
            </a:xfrm>
          </p:grpSpPr>
          <p:sp>
            <p:nvSpPr>
              <p:cNvPr id="1312" name=""/>
              <p:cNvSpPr/>
              <p:nvPr/>
            </p:nvSpPr>
            <p:spPr>
              <a:xfrm>
                <a:off x="4262400" y="1268280"/>
                <a:ext cx="162072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4262400" y="1538280"/>
                <a:ext cx="1079280" cy="80964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510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170"/>
                    </a:lnTo>
                    <a:lnTo>
                      <a:pt x="68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341680" y="1808280"/>
                <a:ext cx="541080" cy="53964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0" y="34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170"/>
                    </a:lnTo>
                    <a:lnTo>
                      <a:pt x="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5" name=""/>
          <p:cNvGrpSpPr/>
          <p:nvPr/>
        </p:nvGrpSpPr>
        <p:grpSpPr>
          <a:xfrm>
            <a:off x="4262400" y="187200"/>
            <a:ext cx="1623600" cy="1216080"/>
            <a:chOff x="4262400" y="187200"/>
            <a:chExt cx="1623600" cy="1216080"/>
          </a:xfrm>
        </p:grpSpPr>
        <p:grpSp>
          <p:nvGrpSpPr>
            <p:cNvPr id="1316" name=""/>
            <p:cNvGrpSpPr/>
            <p:nvPr/>
          </p:nvGrpSpPr>
          <p:grpSpPr>
            <a:xfrm>
              <a:off x="4264200" y="187200"/>
              <a:ext cx="1621800" cy="1214280"/>
              <a:chOff x="4264200" y="187200"/>
              <a:chExt cx="1621800" cy="1214280"/>
            </a:xfrm>
          </p:grpSpPr>
          <p:sp>
            <p:nvSpPr>
              <p:cNvPr id="1317" name=""/>
              <p:cNvSpPr/>
              <p:nvPr/>
            </p:nvSpPr>
            <p:spPr>
              <a:xfrm>
                <a:off x="5344920" y="726840"/>
                <a:ext cx="541080" cy="674640"/>
              </a:xfrm>
              <a:custGeom>
                <a:avLst/>
                <a:gdLst/>
                <a:ahLst/>
                <a:rect l="l" t="t" r="r" b="b"/>
                <a:pathLst>
                  <a:path w="341" h="425">
                    <a:moveTo>
                      <a:pt x="0" y="42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255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264200" y="187200"/>
                <a:ext cx="162072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264200" y="456840"/>
                <a:ext cx="1079280" cy="944640"/>
              </a:xfrm>
              <a:custGeom>
                <a:avLst/>
                <a:gdLst/>
                <a:ahLst/>
                <a:rect l="l" t="t" r="r" b="b"/>
                <a:pathLst>
                  <a:path w="680" h="595">
                    <a:moveTo>
                      <a:pt x="680" y="595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680" y="59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"/>
            <p:cNvGrpSpPr/>
            <p:nvPr/>
          </p:nvGrpSpPr>
          <p:grpSpPr>
            <a:xfrm>
              <a:off x="4262400" y="189000"/>
              <a:ext cx="1622520" cy="1214280"/>
              <a:chOff x="4262400" y="189000"/>
              <a:chExt cx="1622520" cy="1214280"/>
            </a:xfrm>
          </p:grpSpPr>
          <p:sp>
            <p:nvSpPr>
              <p:cNvPr id="1321" name=""/>
              <p:cNvSpPr/>
              <p:nvPr/>
            </p:nvSpPr>
            <p:spPr>
              <a:xfrm>
                <a:off x="5343480" y="728640"/>
                <a:ext cx="541440" cy="674640"/>
              </a:xfrm>
              <a:custGeom>
                <a:avLst/>
                <a:gdLst/>
                <a:ahLst/>
                <a:rect l="l" t="t" r="r" b="b"/>
                <a:pathLst>
                  <a:path w="341" h="425">
                    <a:moveTo>
                      <a:pt x="0" y="42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255"/>
                    </a:lnTo>
                    <a:lnTo>
                      <a:pt x="0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262400" y="189000"/>
                <a:ext cx="162108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262400" y="458640"/>
                <a:ext cx="1079640" cy="944640"/>
              </a:xfrm>
              <a:custGeom>
                <a:avLst/>
                <a:gdLst/>
                <a:ahLst/>
                <a:rect l="l" t="t" r="r" b="b"/>
                <a:pathLst>
                  <a:path w="680" h="595">
                    <a:moveTo>
                      <a:pt x="680" y="595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680" y="5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4" name=""/>
          <p:cNvGrpSpPr/>
          <p:nvPr/>
        </p:nvGrpSpPr>
        <p:grpSpPr>
          <a:xfrm>
            <a:off x="2597040" y="2392200"/>
            <a:ext cx="1352160" cy="811440"/>
            <a:chOff x="2597040" y="2392200"/>
            <a:chExt cx="1352160" cy="811440"/>
          </a:xfrm>
        </p:grpSpPr>
        <p:grpSp>
          <p:nvGrpSpPr>
            <p:cNvPr id="1325" name=""/>
            <p:cNvGrpSpPr/>
            <p:nvPr/>
          </p:nvGrpSpPr>
          <p:grpSpPr>
            <a:xfrm>
              <a:off x="2598840" y="2392200"/>
              <a:ext cx="1350360" cy="809640"/>
              <a:chOff x="2598840" y="2392200"/>
              <a:chExt cx="1350360" cy="809640"/>
            </a:xfrm>
          </p:grpSpPr>
          <p:sp>
            <p:nvSpPr>
              <p:cNvPr id="1326" name=""/>
              <p:cNvSpPr/>
              <p:nvPr/>
            </p:nvSpPr>
            <p:spPr>
              <a:xfrm>
                <a:off x="2598840" y="2392200"/>
                <a:ext cx="1348920" cy="67500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598840" y="2527200"/>
                <a:ext cx="1079280" cy="67464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0" y="0"/>
                    </a:moveTo>
                    <a:lnTo>
                      <a:pt x="680" y="340"/>
                    </a:ln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3679560" y="2932200"/>
                <a:ext cx="269640" cy="269640"/>
              </a:xfrm>
              <a:custGeom>
                <a:avLst/>
                <a:gdLst/>
                <a:ahLst/>
                <a:rect l="l" t="t" r="r" b="b"/>
                <a:pathLst>
                  <a:path w="170" h="170">
                    <a:moveTo>
                      <a:pt x="0" y="170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85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2597040" y="2394000"/>
              <a:ext cx="1351080" cy="809640"/>
              <a:chOff x="2597040" y="2394000"/>
              <a:chExt cx="1351080" cy="809640"/>
            </a:xfrm>
          </p:grpSpPr>
          <p:sp>
            <p:nvSpPr>
              <p:cNvPr id="1330" name=""/>
              <p:cNvSpPr/>
              <p:nvPr/>
            </p:nvSpPr>
            <p:spPr>
              <a:xfrm>
                <a:off x="2597040" y="2394000"/>
                <a:ext cx="1349280" cy="67500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597040" y="2529000"/>
                <a:ext cx="1079640" cy="67464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0" y="0"/>
                    </a:moveTo>
                    <a:lnTo>
                      <a:pt x="680" y="340"/>
                    </a:ln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678120" y="2934000"/>
                <a:ext cx="270000" cy="269640"/>
              </a:xfrm>
              <a:custGeom>
                <a:avLst/>
                <a:gdLst/>
                <a:ahLst/>
                <a:rect l="l" t="t" r="r" b="b"/>
                <a:pathLst>
                  <a:path w="170" h="170">
                    <a:moveTo>
                      <a:pt x="0" y="170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85"/>
                    </a:lnTo>
                    <a:lnTo>
                      <a:pt x="0" y="1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3" name=""/>
          <p:cNvGrpSpPr/>
          <p:nvPr/>
        </p:nvGrpSpPr>
        <p:grpSpPr>
          <a:xfrm>
            <a:off x="2597040" y="1717560"/>
            <a:ext cx="1352160" cy="946440"/>
            <a:chOff x="2597040" y="1717560"/>
            <a:chExt cx="1352160" cy="946440"/>
          </a:xfrm>
        </p:grpSpPr>
        <p:grpSp>
          <p:nvGrpSpPr>
            <p:cNvPr id="1334" name=""/>
            <p:cNvGrpSpPr/>
            <p:nvPr/>
          </p:nvGrpSpPr>
          <p:grpSpPr>
            <a:xfrm>
              <a:off x="2598840" y="1717560"/>
              <a:ext cx="1350360" cy="944640"/>
              <a:chOff x="2598840" y="1717560"/>
              <a:chExt cx="1350360" cy="944640"/>
            </a:xfrm>
          </p:grpSpPr>
          <p:sp>
            <p:nvSpPr>
              <p:cNvPr id="1335" name=""/>
              <p:cNvSpPr/>
              <p:nvPr/>
            </p:nvSpPr>
            <p:spPr>
              <a:xfrm>
                <a:off x="3679560" y="2257200"/>
                <a:ext cx="269640" cy="405000"/>
              </a:xfrm>
              <a:custGeom>
                <a:avLst/>
                <a:gdLst/>
                <a:ahLst/>
                <a:rect l="l" t="t" r="r" b="b"/>
                <a:pathLst>
                  <a:path w="170" h="255">
                    <a:moveTo>
                      <a:pt x="170" y="0"/>
                    </a:moveTo>
                    <a:lnTo>
                      <a:pt x="170" y="170"/>
                    </a:lnTo>
                    <a:lnTo>
                      <a:pt x="0" y="255"/>
                    </a:lnTo>
                    <a:lnTo>
                      <a:pt x="0" y="85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2600280" y="1852560"/>
                <a:ext cx="1078920" cy="80964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340"/>
                    </a:moveTo>
                    <a:lnTo>
                      <a:pt x="680" y="510"/>
                    </a:lnTo>
                    <a:lnTo>
                      <a:pt x="0" y="170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598840" y="1717560"/>
                <a:ext cx="134928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"/>
            <p:cNvGrpSpPr/>
            <p:nvPr/>
          </p:nvGrpSpPr>
          <p:grpSpPr>
            <a:xfrm>
              <a:off x="2597040" y="1719360"/>
              <a:ext cx="1351080" cy="944640"/>
              <a:chOff x="2597040" y="1719360"/>
              <a:chExt cx="1351080" cy="944640"/>
            </a:xfrm>
          </p:grpSpPr>
          <p:sp>
            <p:nvSpPr>
              <p:cNvPr id="1339" name=""/>
              <p:cNvSpPr/>
              <p:nvPr/>
            </p:nvSpPr>
            <p:spPr>
              <a:xfrm>
                <a:off x="3678120" y="2259000"/>
                <a:ext cx="270000" cy="405000"/>
              </a:xfrm>
              <a:custGeom>
                <a:avLst/>
                <a:gdLst/>
                <a:ahLst/>
                <a:rect l="l" t="t" r="r" b="b"/>
                <a:pathLst>
                  <a:path w="170" h="255">
                    <a:moveTo>
                      <a:pt x="170" y="0"/>
                    </a:moveTo>
                    <a:lnTo>
                      <a:pt x="170" y="170"/>
                    </a:lnTo>
                    <a:lnTo>
                      <a:pt x="0" y="255"/>
                    </a:lnTo>
                    <a:lnTo>
                      <a:pt x="0" y="85"/>
                    </a:lnTo>
                    <a:lnTo>
                      <a:pt x="1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598840" y="1854360"/>
                <a:ext cx="1079280" cy="80964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340"/>
                    </a:moveTo>
                    <a:lnTo>
                      <a:pt x="680" y="510"/>
                    </a:lnTo>
                    <a:lnTo>
                      <a:pt x="0" y="170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597040" y="1719360"/>
                <a:ext cx="134964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2" name=""/>
          <p:cNvGrpSpPr/>
          <p:nvPr/>
        </p:nvGrpSpPr>
        <p:grpSpPr>
          <a:xfrm>
            <a:off x="2643120" y="907920"/>
            <a:ext cx="1351080" cy="1081080"/>
            <a:chOff x="2643120" y="907920"/>
            <a:chExt cx="1351080" cy="1081080"/>
          </a:xfrm>
        </p:grpSpPr>
        <p:grpSp>
          <p:nvGrpSpPr>
            <p:cNvPr id="1343" name=""/>
            <p:cNvGrpSpPr/>
            <p:nvPr/>
          </p:nvGrpSpPr>
          <p:grpSpPr>
            <a:xfrm>
              <a:off x="2644920" y="907920"/>
              <a:ext cx="1349280" cy="1079280"/>
              <a:chOff x="2644920" y="907920"/>
              <a:chExt cx="1349280" cy="1079280"/>
            </a:xfrm>
          </p:grpSpPr>
          <p:sp>
            <p:nvSpPr>
              <p:cNvPr id="1344" name=""/>
              <p:cNvSpPr/>
              <p:nvPr/>
            </p:nvSpPr>
            <p:spPr>
              <a:xfrm>
                <a:off x="2644920" y="1042920"/>
                <a:ext cx="1079280" cy="944280"/>
              </a:xfrm>
              <a:custGeom>
                <a:avLst/>
                <a:gdLst/>
                <a:ahLst/>
                <a:rect l="l" t="t" r="r" b="b"/>
                <a:pathLst>
                  <a:path w="680" h="595">
                    <a:moveTo>
                      <a:pt x="680" y="595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680" y="59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3724200" y="1447560"/>
                <a:ext cx="26964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340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2644920" y="907920"/>
                <a:ext cx="134928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2643120" y="909720"/>
              <a:ext cx="1349280" cy="1079280"/>
              <a:chOff x="2643120" y="909720"/>
              <a:chExt cx="1349280" cy="1079280"/>
            </a:xfrm>
          </p:grpSpPr>
          <p:sp>
            <p:nvSpPr>
              <p:cNvPr id="1348" name=""/>
              <p:cNvSpPr/>
              <p:nvPr/>
            </p:nvSpPr>
            <p:spPr>
              <a:xfrm>
                <a:off x="2643120" y="1044720"/>
                <a:ext cx="1079280" cy="944280"/>
              </a:xfrm>
              <a:custGeom>
                <a:avLst/>
                <a:gdLst/>
                <a:ahLst/>
                <a:rect l="l" t="t" r="r" b="b"/>
                <a:pathLst>
                  <a:path w="680" h="595">
                    <a:moveTo>
                      <a:pt x="680" y="595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680" y="5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3722400" y="1449360"/>
                <a:ext cx="26964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340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643120" y="909720"/>
                <a:ext cx="134928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1" name=""/>
          <p:cNvGrpSpPr/>
          <p:nvPr/>
        </p:nvGrpSpPr>
        <p:grpSpPr>
          <a:xfrm>
            <a:off x="6423120" y="1041480"/>
            <a:ext cx="541080" cy="1352520"/>
            <a:chOff x="6423120" y="1041480"/>
            <a:chExt cx="541080" cy="1352520"/>
          </a:xfrm>
        </p:grpSpPr>
        <p:grpSp>
          <p:nvGrpSpPr>
            <p:cNvPr id="1352" name=""/>
            <p:cNvGrpSpPr/>
            <p:nvPr/>
          </p:nvGrpSpPr>
          <p:grpSpPr>
            <a:xfrm>
              <a:off x="6424560" y="1041480"/>
              <a:ext cx="539640" cy="1350360"/>
              <a:chOff x="6424560" y="1041480"/>
              <a:chExt cx="539640" cy="1350360"/>
            </a:xfrm>
          </p:grpSpPr>
          <p:sp>
            <p:nvSpPr>
              <p:cNvPr id="1353" name=""/>
              <p:cNvSpPr/>
              <p:nvPr/>
            </p:nvSpPr>
            <p:spPr>
              <a:xfrm>
                <a:off x="6424560" y="1177560"/>
                <a:ext cx="269640" cy="121428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694200" y="1177560"/>
                <a:ext cx="270000" cy="121428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0" y="765"/>
                    </a:moveTo>
                    <a:lnTo>
                      <a:pt x="170" y="680"/>
                    </a:lnTo>
                    <a:lnTo>
                      <a:pt x="170" y="0"/>
                    </a:lnTo>
                    <a:lnTo>
                      <a:pt x="0" y="85"/>
                    </a:lnTo>
                    <a:lnTo>
                      <a:pt x="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424560" y="1041480"/>
                <a:ext cx="539640" cy="271080"/>
              </a:xfrm>
              <a:custGeom>
                <a:avLst/>
                <a:gdLst/>
                <a:ahLst/>
                <a:rect l="l" t="t" r="r" b="b"/>
                <a:pathLst>
                  <a:path w="340" h="171">
                    <a:moveTo>
                      <a:pt x="340" y="86"/>
                    </a:moveTo>
                    <a:lnTo>
                      <a:pt x="170" y="0"/>
                    </a:lnTo>
                    <a:lnTo>
                      <a:pt x="0" y="86"/>
                    </a:lnTo>
                    <a:lnTo>
                      <a:pt x="170" y="171"/>
                    </a:lnTo>
                    <a:lnTo>
                      <a:pt x="340" y="8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6" name=""/>
            <p:cNvGrpSpPr/>
            <p:nvPr/>
          </p:nvGrpSpPr>
          <p:grpSpPr>
            <a:xfrm>
              <a:off x="6423120" y="1042920"/>
              <a:ext cx="539640" cy="1351080"/>
              <a:chOff x="6423120" y="1042920"/>
              <a:chExt cx="539640" cy="1351080"/>
            </a:xfrm>
          </p:grpSpPr>
          <p:sp>
            <p:nvSpPr>
              <p:cNvPr id="1357" name=""/>
              <p:cNvSpPr/>
              <p:nvPr/>
            </p:nvSpPr>
            <p:spPr>
              <a:xfrm>
                <a:off x="6423120" y="1179360"/>
                <a:ext cx="269640" cy="121464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692760" y="1179360"/>
                <a:ext cx="270000" cy="121464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0" y="765"/>
                    </a:moveTo>
                    <a:lnTo>
                      <a:pt x="170" y="680"/>
                    </a:lnTo>
                    <a:lnTo>
                      <a:pt x="170" y="0"/>
                    </a:lnTo>
                    <a:lnTo>
                      <a:pt x="0" y="85"/>
                    </a:lnTo>
                    <a:lnTo>
                      <a:pt x="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423120" y="1042920"/>
                <a:ext cx="539640" cy="271440"/>
              </a:xfrm>
              <a:custGeom>
                <a:avLst/>
                <a:gdLst/>
                <a:ahLst/>
                <a:rect l="l" t="t" r="r" b="b"/>
                <a:pathLst>
                  <a:path w="340" h="171">
                    <a:moveTo>
                      <a:pt x="340" y="86"/>
                    </a:moveTo>
                    <a:lnTo>
                      <a:pt x="170" y="0"/>
                    </a:lnTo>
                    <a:lnTo>
                      <a:pt x="0" y="86"/>
                    </a:lnTo>
                    <a:lnTo>
                      <a:pt x="170" y="171"/>
                    </a:lnTo>
                    <a:lnTo>
                      <a:pt x="340" y="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0" name=""/>
          <p:cNvGrpSpPr/>
          <p:nvPr/>
        </p:nvGrpSpPr>
        <p:grpSpPr>
          <a:xfrm>
            <a:off x="7053120" y="952560"/>
            <a:ext cx="812880" cy="1487520"/>
            <a:chOff x="7053120" y="952560"/>
            <a:chExt cx="812880" cy="1487520"/>
          </a:xfrm>
        </p:grpSpPr>
        <p:grpSp>
          <p:nvGrpSpPr>
            <p:cNvPr id="1361" name=""/>
            <p:cNvGrpSpPr/>
            <p:nvPr/>
          </p:nvGrpSpPr>
          <p:grpSpPr>
            <a:xfrm>
              <a:off x="7054920" y="952560"/>
              <a:ext cx="811080" cy="1485360"/>
              <a:chOff x="7054920" y="952560"/>
              <a:chExt cx="811080" cy="1485360"/>
            </a:xfrm>
          </p:grpSpPr>
          <p:sp>
            <p:nvSpPr>
              <p:cNvPr id="1362" name=""/>
              <p:cNvSpPr/>
              <p:nvPr/>
            </p:nvSpPr>
            <p:spPr>
              <a:xfrm>
                <a:off x="7054920" y="1223640"/>
                <a:ext cx="269640" cy="121428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054920" y="952560"/>
                <a:ext cx="811080" cy="406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324560" y="1087200"/>
                <a:ext cx="541080" cy="135072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7053120" y="954000"/>
              <a:ext cx="811440" cy="1486080"/>
              <a:chOff x="7053120" y="954000"/>
              <a:chExt cx="811440" cy="1486080"/>
            </a:xfrm>
          </p:grpSpPr>
          <p:sp>
            <p:nvSpPr>
              <p:cNvPr id="1366" name=""/>
              <p:cNvSpPr/>
              <p:nvPr/>
            </p:nvSpPr>
            <p:spPr>
              <a:xfrm>
                <a:off x="7053120" y="1225440"/>
                <a:ext cx="270000" cy="121464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053120" y="954000"/>
                <a:ext cx="811440" cy="40644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323120" y="1089000"/>
                <a:ext cx="541440" cy="135108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9" name=""/>
          <p:cNvGrpSpPr/>
          <p:nvPr/>
        </p:nvGrpSpPr>
        <p:grpSpPr>
          <a:xfrm>
            <a:off x="7997760" y="1403280"/>
            <a:ext cx="812880" cy="946080"/>
            <a:chOff x="7997760" y="1403280"/>
            <a:chExt cx="812880" cy="946080"/>
          </a:xfrm>
        </p:grpSpPr>
        <p:grpSp>
          <p:nvGrpSpPr>
            <p:cNvPr id="1370" name=""/>
            <p:cNvGrpSpPr/>
            <p:nvPr/>
          </p:nvGrpSpPr>
          <p:grpSpPr>
            <a:xfrm>
              <a:off x="7999560" y="1403280"/>
              <a:ext cx="811080" cy="944280"/>
              <a:chOff x="7999560" y="1403280"/>
              <a:chExt cx="811080" cy="944280"/>
            </a:xfrm>
          </p:grpSpPr>
          <p:sp>
            <p:nvSpPr>
              <p:cNvPr id="1371" name=""/>
              <p:cNvSpPr/>
              <p:nvPr/>
            </p:nvSpPr>
            <p:spPr>
              <a:xfrm>
                <a:off x="8269200" y="1537920"/>
                <a:ext cx="541080" cy="80964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999560" y="1672920"/>
                <a:ext cx="269640" cy="67464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999560" y="1403280"/>
                <a:ext cx="811080" cy="406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7997760" y="1405080"/>
              <a:ext cx="811440" cy="944280"/>
              <a:chOff x="7997760" y="1405080"/>
              <a:chExt cx="811440" cy="944280"/>
            </a:xfrm>
          </p:grpSpPr>
          <p:sp>
            <p:nvSpPr>
              <p:cNvPr id="1375" name=""/>
              <p:cNvSpPr/>
              <p:nvPr/>
            </p:nvSpPr>
            <p:spPr>
              <a:xfrm>
                <a:off x="8267760" y="1539720"/>
                <a:ext cx="541440" cy="80964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997760" y="1674720"/>
                <a:ext cx="270000" cy="67464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997760" y="1405080"/>
                <a:ext cx="811440" cy="406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8" name=""/>
          <p:cNvGrpSpPr/>
          <p:nvPr/>
        </p:nvGrpSpPr>
        <p:grpSpPr>
          <a:xfrm>
            <a:off x="6423120" y="2581200"/>
            <a:ext cx="276120" cy="689040"/>
            <a:chOff x="6423120" y="2581200"/>
            <a:chExt cx="276120" cy="689040"/>
          </a:xfrm>
        </p:grpSpPr>
        <p:grpSp>
          <p:nvGrpSpPr>
            <p:cNvPr id="1379" name=""/>
            <p:cNvGrpSpPr/>
            <p:nvPr/>
          </p:nvGrpSpPr>
          <p:grpSpPr>
            <a:xfrm>
              <a:off x="6424560" y="2581200"/>
              <a:ext cx="274680" cy="687240"/>
              <a:chOff x="6424560" y="2581200"/>
              <a:chExt cx="274680" cy="687240"/>
            </a:xfrm>
          </p:grpSpPr>
          <p:sp>
            <p:nvSpPr>
              <p:cNvPr id="1380" name=""/>
              <p:cNvSpPr/>
              <p:nvPr/>
            </p:nvSpPr>
            <p:spPr>
              <a:xfrm>
                <a:off x="6424560" y="2651040"/>
                <a:ext cx="13788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562440" y="2651040"/>
                <a:ext cx="13680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0" y="765"/>
                    </a:moveTo>
                    <a:lnTo>
                      <a:pt x="170" y="680"/>
                    </a:lnTo>
                    <a:lnTo>
                      <a:pt x="170" y="0"/>
                    </a:lnTo>
                    <a:lnTo>
                      <a:pt x="0" y="85"/>
                    </a:lnTo>
                    <a:lnTo>
                      <a:pt x="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424560" y="2581200"/>
                <a:ext cx="274680" cy="137880"/>
              </a:xfrm>
              <a:custGeom>
                <a:avLst/>
                <a:gdLst/>
                <a:ahLst/>
                <a:rect l="l" t="t" r="r" b="b"/>
                <a:pathLst>
                  <a:path w="340" h="171">
                    <a:moveTo>
                      <a:pt x="340" y="86"/>
                    </a:moveTo>
                    <a:lnTo>
                      <a:pt x="170" y="0"/>
                    </a:lnTo>
                    <a:lnTo>
                      <a:pt x="0" y="86"/>
                    </a:lnTo>
                    <a:lnTo>
                      <a:pt x="170" y="171"/>
                    </a:lnTo>
                    <a:lnTo>
                      <a:pt x="340" y="8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6423120" y="2583000"/>
              <a:ext cx="274680" cy="687240"/>
              <a:chOff x="6423120" y="2583000"/>
              <a:chExt cx="274680" cy="687240"/>
            </a:xfrm>
          </p:grpSpPr>
          <p:sp>
            <p:nvSpPr>
              <p:cNvPr id="1384" name=""/>
              <p:cNvSpPr/>
              <p:nvPr/>
            </p:nvSpPr>
            <p:spPr>
              <a:xfrm>
                <a:off x="6423120" y="2652840"/>
                <a:ext cx="13788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561000" y="2652840"/>
                <a:ext cx="13680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0" y="765"/>
                    </a:moveTo>
                    <a:lnTo>
                      <a:pt x="170" y="680"/>
                    </a:lnTo>
                    <a:lnTo>
                      <a:pt x="170" y="0"/>
                    </a:lnTo>
                    <a:lnTo>
                      <a:pt x="0" y="85"/>
                    </a:lnTo>
                    <a:lnTo>
                      <a:pt x="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423120" y="2583000"/>
                <a:ext cx="274680" cy="137880"/>
              </a:xfrm>
              <a:custGeom>
                <a:avLst/>
                <a:gdLst/>
                <a:ahLst/>
                <a:rect l="l" t="t" r="r" b="b"/>
                <a:pathLst>
                  <a:path w="340" h="171">
                    <a:moveTo>
                      <a:pt x="340" y="86"/>
                    </a:moveTo>
                    <a:lnTo>
                      <a:pt x="170" y="0"/>
                    </a:lnTo>
                    <a:lnTo>
                      <a:pt x="0" y="86"/>
                    </a:lnTo>
                    <a:lnTo>
                      <a:pt x="170" y="171"/>
                    </a:lnTo>
                    <a:lnTo>
                      <a:pt x="340" y="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7" name=""/>
          <p:cNvGrpSpPr/>
          <p:nvPr/>
        </p:nvGrpSpPr>
        <p:grpSpPr>
          <a:xfrm>
            <a:off x="6743880" y="2536920"/>
            <a:ext cx="414000" cy="757080"/>
            <a:chOff x="6743880" y="2536920"/>
            <a:chExt cx="414000" cy="757080"/>
          </a:xfrm>
        </p:grpSpPr>
        <p:grpSp>
          <p:nvGrpSpPr>
            <p:cNvPr id="1388" name=""/>
            <p:cNvGrpSpPr/>
            <p:nvPr/>
          </p:nvGrpSpPr>
          <p:grpSpPr>
            <a:xfrm>
              <a:off x="6745320" y="2536920"/>
              <a:ext cx="412560" cy="755640"/>
              <a:chOff x="6745320" y="2536920"/>
              <a:chExt cx="412560" cy="755640"/>
            </a:xfrm>
          </p:grpSpPr>
          <p:sp>
            <p:nvSpPr>
              <p:cNvPr id="1389" name=""/>
              <p:cNvSpPr/>
              <p:nvPr/>
            </p:nvSpPr>
            <p:spPr>
              <a:xfrm>
                <a:off x="6745320" y="2675160"/>
                <a:ext cx="13788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745320" y="2536920"/>
                <a:ext cx="412560" cy="2062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883200" y="2605320"/>
                <a:ext cx="274680" cy="68724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2" name=""/>
            <p:cNvGrpSpPr/>
            <p:nvPr/>
          </p:nvGrpSpPr>
          <p:grpSpPr>
            <a:xfrm>
              <a:off x="6743880" y="2538360"/>
              <a:ext cx="412560" cy="755640"/>
              <a:chOff x="6743880" y="2538360"/>
              <a:chExt cx="412560" cy="755640"/>
            </a:xfrm>
          </p:grpSpPr>
          <p:sp>
            <p:nvSpPr>
              <p:cNvPr id="1393" name=""/>
              <p:cNvSpPr/>
              <p:nvPr/>
            </p:nvSpPr>
            <p:spPr>
              <a:xfrm>
                <a:off x="6743880" y="2676600"/>
                <a:ext cx="13788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743880" y="2538360"/>
                <a:ext cx="412560" cy="2062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881760" y="2606760"/>
                <a:ext cx="274680" cy="68724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6" name=""/>
          <p:cNvGrpSpPr/>
          <p:nvPr/>
        </p:nvGrpSpPr>
        <p:grpSpPr>
          <a:xfrm>
            <a:off x="7224840" y="2765520"/>
            <a:ext cx="414000" cy="482400"/>
            <a:chOff x="7224840" y="2765520"/>
            <a:chExt cx="414000" cy="482400"/>
          </a:xfrm>
        </p:grpSpPr>
        <p:grpSp>
          <p:nvGrpSpPr>
            <p:cNvPr id="1397" name=""/>
            <p:cNvGrpSpPr/>
            <p:nvPr/>
          </p:nvGrpSpPr>
          <p:grpSpPr>
            <a:xfrm>
              <a:off x="7226280" y="2765520"/>
              <a:ext cx="412560" cy="480960"/>
              <a:chOff x="7226280" y="2765520"/>
              <a:chExt cx="412560" cy="480960"/>
            </a:xfrm>
          </p:grpSpPr>
          <p:sp>
            <p:nvSpPr>
              <p:cNvPr id="1398" name=""/>
              <p:cNvSpPr/>
              <p:nvPr/>
            </p:nvSpPr>
            <p:spPr>
              <a:xfrm>
                <a:off x="7362720" y="2835360"/>
                <a:ext cx="276120" cy="41112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226280" y="2903760"/>
                <a:ext cx="136440" cy="34272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226280" y="2765520"/>
                <a:ext cx="412560" cy="208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"/>
            <p:cNvGrpSpPr/>
            <p:nvPr/>
          </p:nvGrpSpPr>
          <p:grpSpPr>
            <a:xfrm>
              <a:off x="7224840" y="2766960"/>
              <a:ext cx="412560" cy="480960"/>
              <a:chOff x="7224840" y="2766960"/>
              <a:chExt cx="412560" cy="480960"/>
            </a:xfrm>
          </p:grpSpPr>
          <p:sp>
            <p:nvSpPr>
              <p:cNvPr id="1402" name=""/>
              <p:cNvSpPr/>
              <p:nvPr/>
            </p:nvSpPr>
            <p:spPr>
              <a:xfrm>
                <a:off x="7361280" y="2836800"/>
                <a:ext cx="276120" cy="41112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224840" y="2905200"/>
                <a:ext cx="136440" cy="34272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224840" y="2766960"/>
                <a:ext cx="412560" cy="208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d5c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5" name=""/>
          <p:cNvGrpSpPr/>
          <p:nvPr/>
        </p:nvGrpSpPr>
        <p:grpSpPr>
          <a:xfrm>
            <a:off x="384120" y="5753160"/>
            <a:ext cx="811440" cy="541080"/>
            <a:chOff x="384120" y="5753160"/>
            <a:chExt cx="811440" cy="541080"/>
          </a:xfrm>
        </p:grpSpPr>
        <p:grpSp>
          <p:nvGrpSpPr>
            <p:cNvPr id="1406" name=""/>
            <p:cNvGrpSpPr/>
            <p:nvPr/>
          </p:nvGrpSpPr>
          <p:grpSpPr>
            <a:xfrm>
              <a:off x="385920" y="5753160"/>
              <a:ext cx="809640" cy="539640"/>
              <a:chOff x="385920" y="5753160"/>
              <a:chExt cx="809640" cy="539640"/>
            </a:xfrm>
          </p:grpSpPr>
          <p:sp>
            <p:nvSpPr>
              <p:cNvPr id="1407" name=""/>
              <p:cNvSpPr/>
              <p:nvPr/>
            </p:nvSpPr>
            <p:spPr>
              <a:xfrm>
                <a:off x="925560" y="6022800"/>
                <a:ext cx="270000" cy="27000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0" y="340"/>
                    </a:moveTo>
                    <a:lnTo>
                      <a:pt x="0" y="170"/>
                    </a:lnTo>
                    <a:lnTo>
                      <a:pt x="340" y="0"/>
                    </a:lnTo>
                    <a:lnTo>
                      <a:pt x="340" y="170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85920" y="5887800"/>
                <a:ext cx="539640" cy="40500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51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680" y="340"/>
                    </a:lnTo>
                    <a:lnTo>
                      <a:pt x="680" y="51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85920" y="5753160"/>
                <a:ext cx="809640" cy="40464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384120" y="5754600"/>
              <a:ext cx="809640" cy="539640"/>
              <a:chOff x="384120" y="5754600"/>
              <a:chExt cx="809640" cy="539640"/>
            </a:xfrm>
          </p:grpSpPr>
          <p:sp>
            <p:nvSpPr>
              <p:cNvPr id="1411" name=""/>
              <p:cNvSpPr/>
              <p:nvPr/>
            </p:nvSpPr>
            <p:spPr>
              <a:xfrm>
                <a:off x="923760" y="6024240"/>
                <a:ext cx="270000" cy="27000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0" y="340"/>
                    </a:moveTo>
                    <a:lnTo>
                      <a:pt x="0" y="170"/>
                    </a:lnTo>
                    <a:lnTo>
                      <a:pt x="340" y="0"/>
                    </a:lnTo>
                    <a:lnTo>
                      <a:pt x="340" y="170"/>
                    </a:lnTo>
                    <a:lnTo>
                      <a:pt x="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84120" y="5889240"/>
                <a:ext cx="539640" cy="40500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51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680" y="340"/>
                    </a:lnTo>
                    <a:lnTo>
                      <a:pt x="68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84120" y="5754600"/>
                <a:ext cx="809640" cy="40464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4" name=""/>
          <p:cNvGrpSpPr/>
          <p:nvPr/>
        </p:nvGrpSpPr>
        <p:grpSpPr>
          <a:xfrm>
            <a:off x="338040" y="5030640"/>
            <a:ext cx="812880" cy="677520"/>
            <a:chOff x="338040" y="5030640"/>
            <a:chExt cx="812880" cy="677520"/>
          </a:xfrm>
        </p:grpSpPr>
        <p:grpSp>
          <p:nvGrpSpPr>
            <p:cNvPr id="1415" name=""/>
            <p:cNvGrpSpPr/>
            <p:nvPr/>
          </p:nvGrpSpPr>
          <p:grpSpPr>
            <a:xfrm>
              <a:off x="339840" y="5030640"/>
              <a:ext cx="811080" cy="676440"/>
              <a:chOff x="339840" y="5030640"/>
              <a:chExt cx="811080" cy="676440"/>
            </a:xfrm>
          </p:grpSpPr>
          <p:sp>
            <p:nvSpPr>
              <p:cNvPr id="1416" name=""/>
              <p:cNvSpPr/>
              <p:nvPr/>
            </p:nvSpPr>
            <p:spPr>
              <a:xfrm>
                <a:off x="881280" y="5302080"/>
                <a:ext cx="269640" cy="405000"/>
              </a:xfrm>
              <a:custGeom>
                <a:avLst/>
                <a:gdLst/>
                <a:ahLst/>
                <a:rect l="l" t="t" r="r" b="b"/>
                <a:pathLst>
                  <a:path w="170" h="255">
                    <a:moveTo>
                      <a:pt x="0" y="255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170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41280" y="5167080"/>
                <a:ext cx="540000" cy="54000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340" y="34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340" y="170"/>
                    </a:lnTo>
                    <a:lnTo>
                      <a:pt x="34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39840" y="5030640"/>
                <a:ext cx="809640" cy="40500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9" name=""/>
            <p:cNvGrpSpPr/>
            <p:nvPr/>
          </p:nvGrpSpPr>
          <p:grpSpPr>
            <a:xfrm>
              <a:off x="338040" y="5032440"/>
              <a:ext cx="811080" cy="675720"/>
              <a:chOff x="338040" y="5032440"/>
              <a:chExt cx="811080" cy="675720"/>
            </a:xfrm>
          </p:grpSpPr>
          <p:sp>
            <p:nvSpPr>
              <p:cNvPr id="1420" name=""/>
              <p:cNvSpPr/>
              <p:nvPr/>
            </p:nvSpPr>
            <p:spPr>
              <a:xfrm>
                <a:off x="879480" y="5303520"/>
                <a:ext cx="269640" cy="404640"/>
              </a:xfrm>
              <a:custGeom>
                <a:avLst/>
                <a:gdLst/>
                <a:ahLst/>
                <a:rect l="l" t="t" r="r" b="b"/>
                <a:pathLst>
                  <a:path w="170" h="255">
                    <a:moveTo>
                      <a:pt x="0" y="255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170"/>
                    </a:lnTo>
                    <a:lnTo>
                      <a:pt x="0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39480" y="5168520"/>
                <a:ext cx="540000" cy="53964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340" y="34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340" y="170"/>
                    </a:lnTo>
                    <a:lnTo>
                      <a:pt x="34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38040" y="5032440"/>
                <a:ext cx="809640" cy="40464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3" name=""/>
          <p:cNvGrpSpPr/>
          <p:nvPr/>
        </p:nvGrpSpPr>
        <p:grpSpPr>
          <a:xfrm>
            <a:off x="338040" y="4221000"/>
            <a:ext cx="811440" cy="811440"/>
            <a:chOff x="338040" y="4221000"/>
            <a:chExt cx="811440" cy="811440"/>
          </a:xfrm>
        </p:grpSpPr>
        <p:grpSp>
          <p:nvGrpSpPr>
            <p:cNvPr id="1424" name=""/>
            <p:cNvGrpSpPr/>
            <p:nvPr/>
          </p:nvGrpSpPr>
          <p:grpSpPr>
            <a:xfrm>
              <a:off x="339840" y="4221000"/>
              <a:ext cx="809640" cy="809640"/>
              <a:chOff x="339840" y="4221000"/>
              <a:chExt cx="809640" cy="809640"/>
            </a:xfrm>
          </p:grpSpPr>
          <p:sp>
            <p:nvSpPr>
              <p:cNvPr id="1425" name=""/>
              <p:cNvSpPr/>
              <p:nvPr/>
            </p:nvSpPr>
            <p:spPr>
              <a:xfrm>
                <a:off x="339840" y="4221000"/>
                <a:ext cx="809640" cy="40500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39840" y="4356000"/>
                <a:ext cx="539640" cy="674640"/>
              </a:xfrm>
              <a:custGeom>
                <a:avLst/>
                <a:gdLst/>
                <a:ahLst/>
                <a:rect l="l" t="t" r="r" b="b"/>
                <a:pathLst>
                  <a:path w="340" h="425">
                    <a:moveTo>
                      <a:pt x="340" y="425"/>
                    </a:moveTo>
                    <a:lnTo>
                      <a:pt x="340" y="17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340" y="42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879480" y="4491000"/>
                <a:ext cx="27000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85"/>
                    </a:move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338040" y="4222800"/>
              <a:ext cx="809640" cy="809640"/>
              <a:chOff x="338040" y="4222800"/>
              <a:chExt cx="809640" cy="809640"/>
            </a:xfrm>
          </p:grpSpPr>
          <p:sp>
            <p:nvSpPr>
              <p:cNvPr id="1429" name=""/>
              <p:cNvSpPr/>
              <p:nvPr/>
            </p:nvSpPr>
            <p:spPr>
              <a:xfrm>
                <a:off x="338040" y="4222800"/>
                <a:ext cx="809640" cy="40500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38040" y="4357800"/>
                <a:ext cx="539640" cy="674640"/>
              </a:xfrm>
              <a:custGeom>
                <a:avLst/>
                <a:gdLst/>
                <a:ahLst/>
                <a:rect l="l" t="t" r="r" b="b"/>
                <a:pathLst>
                  <a:path w="340" h="425">
                    <a:moveTo>
                      <a:pt x="340" y="425"/>
                    </a:moveTo>
                    <a:lnTo>
                      <a:pt x="340" y="17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340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877680" y="4492800"/>
                <a:ext cx="27000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85"/>
                    </a:move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lnTo>
                      <a:pt x="0" y="8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2" name=""/>
          <p:cNvGrpSpPr/>
          <p:nvPr/>
        </p:nvGrpSpPr>
        <p:grpSpPr>
          <a:xfrm>
            <a:off x="1373040" y="5618160"/>
            <a:ext cx="1082880" cy="676080"/>
            <a:chOff x="1373040" y="5618160"/>
            <a:chExt cx="1082880" cy="676080"/>
          </a:xfrm>
        </p:grpSpPr>
        <p:grpSp>
          <p:nvGrpSpPr>
            <p:cNvPr id="1433" name=""/>
            <p:cNvGrpSpPr/>
            <p:nvPr/>
          </p:nvGrpSpPr>
          <p:grpSpPr>
            <a:xfrm>
              <a:off x="1374840" y="5618160"/>
              <a:ext cx="1081080" cy="674640"/>
              <a:chOff x="1374840" y="5618160"/>
              <a:chExt cx="1081080" cy="674640"/>
            </a:xfrm>
          </p:grpSpPr>
          <p:sp>
            <p:nvSpPr>
              <p:cNvPr id="1434" name=""/>
              <p:cNvSpPr/>
              <p:nvPr/>
            </p:nvSpPr>
            <p:spPr>
              <a:xfrm>
                <a:off x="1914480" y="5887800"/>
                <a:ext cx="54144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1374840" y="5887800"/>
                <a:ext cx="539640" cy="405000"/>
              </a:xfrm>
              <a:custGeom>
                <a:avLst/>
                <a:gdLst/>
                <a:ahLst/>
                <a:rect l="l" t="t" r="r" b="b"/>
                <a:pathLst>
                  <a:path w="340" h="255">
                    <a:moveTo>
                      <a:pt x="340" y="170"/>
                    </a:moveTo>
                    <a:lnTo>
                      <a:pt x="340" y="25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340" y="17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1374840" y="561816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1373040" y="5619600"/>
              <a:ext cx="1081080" cy="674640"/>
              <a:chOff x="1373040" y="5619600"/>
              <a:chExt cx="1081080" cy="674640"/>
            </a:xfrm>
          </p:grpSpPr>
          <p:sp>
            <p:nvSpPr>
              <p:cNvPr id="1438" name=""/>
              <p:cNvSpPr/>
              <p:nvPr/>
            </p:nvSpPr>
            <p:spPr>
              <a:xfrm>
                <a:off x="1912680" y="5889240"/>
                <a:ext cx="54144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373040" y="5889240"/>
                <a:ext cx="539640" cy="405000"/>
              </a:xfrm>
              <a:custGeom>
                <a:avLst/>
                <a:gdLst/>
                <a:ahLst/>
                <a:rect l="l" t="t" r="r" b="b"/>
                <a:pathLst>
                  <a:path w="340" h="255">
                    <a:moveTo>
                      <a:pt x="340" y="170"/>
                    </a:moveTo>
                    <a:lnTo>
                      <a:pt x="340" y="25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340" y="1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3040" y="561960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1" name=""/>
          <p:cNvGrpSpPr/>
          <p:nvPr/>
        </p:nvGrpSpPr>
        <p:grpSpPr>
          <a:xfrm>
            <a:off x="1373040" y="4762440"/>
            <a:ext cx="1082880" cy="811440"/>
            <a:chOff x="1373040" y="4762440"/>
            <a:chExt cx="1082880" cy="811440"/>
          </a:xfrm>
        </p:grpSpPr>
        <p:grpSp>
          <p:nvGrpSpPr>
            <p:cNvPr id="1442" name=""/>
            <p:cNvGrpSpPr/>
            <p:nvPr/>
          </p:nvGrpSpPr>
          <p:grpSpPr>
            <a:xfrm>
              <a:off x="1374840" y="4762440"/>
              <a:ext cx="1081080" cy="809640"/>
              <a:chOff x="1374840" y="4762440"/>
              <a:chExt cx="1081080" cy="809640"/>
            </a:xfrm>
          </p:grpSpPr>
          <p:sp>
            <p:nvSpPr>
              <p:cNvPr id="1443" name=""/>
              <p:cNvSpPr/>
              <p:nvPr/>
            </p:nvSpPr>
            <p:spPr>
              <a:xfrm>
                <a:off x="1374840" y="476244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914480" y="5032440"/>
                <a:ext cx="541440" cy="53964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0" y="170"/>
                    </a:moveTo>
                    <a:lnTo>
                      <a:pt x="341" y="0"/>
                    </a:lnTo>
                    <a:lnTo>
                      <a:pt x="341" y="170"/>
                    </a:lnTo>
                    <a:lnTo>
                      <a:pt x="0" y="340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374840" y="5032440"/>
                <a:ext cx="539640" cy="53964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340" y="34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340" y="170"/>
                    </a:lnTo>
                    <a:lnTo>
                      <a:pt x="34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1373040" y="4764240"/>
              <a:ext cx="1081080" cy="809640"/>
              <a:chOff x="1373040" y="4764240"/>
              <a:chExt cx="1081080" cy="809640"/>
            </a:xfrm>
          </p:grpSpPr>
          <p:sp>
            <p:nvSpPr>
              <p:cNvPr id="1447" name=""/>
              <p:cNvSpPr/>
              <p:nvPr/>
            </p:nvSpPr>
            <p:spPr>
              <a:xfrm>
                <a:off x="1373040" y="476424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912680" y="5034240"/>
                <a:ext cx="541440" cy="53964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0" y="170"/>
                    </a:moveTo>
                    <a:lnTo>
                      <a:pt x="341" y="0"/>
                    </a:lnTo>
                    <a:lnTo>
                      <a:pt x="341" y="170"/>
                    </a:lnTo>
                    <a:lnTo>
                      <a:pt x="0" y="340"/>
                    </a:lnTo>
                    <a:lnTo>
                      <a:pt x="0" y="1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373040" y="5034240"/>
                <a:ext cx="539640" cy="53964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340" y="34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340" y="170"/>
                    </a:lnTo>
                    <a:lnTo>
                      <a:pt x="34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0" name=""/>
          <p:cNvGrpSpPr/>
          <p:nvPr/>
        </p:nvGrpSpPr>
        <p:grpSpPr>
          <a:xfrm>
            <a:off x="1373040" y="3727440"/>
            <a:ext cx="1082880" cy="945720"/>
            <a:chOff x="1373040" y="3727440"/>
            <a:chExt cx="1082880" cy="945720"/>
          </a:xfrm>
        </p:grpSpPr>
        <p:grpSp>
          <p:nvGrpSpPr>
            <p:cNvPr id="1451" name=""/>
            <p:cNvGrpSpPr/>
            <p:nvPr/>
          </p:nvGrpSpPr>
          <p:grpSpPr>
            <a:xfrm>
              <a:off x="1374840" y="3727440"/>
              <a:ext cx="1081080" cy="944280"/>
              <a:chOff x="1374840" y="3727440"/>
              <a:chExt cx="1081080" cy="944280"/>
            </a:xfrm>
          </p:grpSpPr>
          <p:sp>
            <p:nvSpPr>
              <p:cNvPr id="1452" name=""/>
              <p:cNvSpPr/>
              <p:nvPr/>
            </p:nvSpPr>
            <p:spPr>
              <a:xfrm>
                <a:off x="1374840" y="372744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374840" y="3997080"/>
                <a:ext cx="539640" cy="674640"/>
              </a:xfrm>
              <a:custGeom>
                <a:avLst/>
                <a:gdLst/>
                <a:ahLst/>
                <a:rect l="l" t="t" r="r" b="b"/>
                <a:pathLst>
                  <a:path w="340" h="425">
                    <a:moveTo>
                      <a:pt x="0" y="0"/>
                    </a:moveTo>
                    <a:lnTo>
                      <a:pt x="340" y="170"/>
                    </a:lnTo>
                    <a:lnTo>
                      <a:pt x="340" y="425"/>
                    </a:lnTo>
                    <a:lnTo>
                      <a:pt x="0" y="2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914480" y="3997080"/>
                <a:ext cx="541440" cy="674640"/>
              </a:xfrm>
              <a:custGeom>
                <a:avLst/>
                <a:gdLst/>
                <a:ahLst/>
                <a:rect l="l" t="t" r="r" b="b"/>
                <a:pathLst>
                  <a:path w="341" h="425">
                    <a:moveTo>
                      <a:pt x="341" y="0"/>
                    </a:moveTo>
                    <a:lnTo>
                      <a:pt x="341" y="255"/>
                    </a:lnTo>
                    <a:lnTo>
                      <a:pt x="0" y="425"/>
                    </a:lnTo>
                    <a:lnTo>
                      <a:pt x="0" y="170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1373040" y="3728880"/>
              <a:ext cx="1081080" cy="944280"/>
              <a:chOff x="1373040" y="3728880"/>
              <a:chExt cx="1081080" cy="944280"/>
            </a:xfrm>
          </p:grpSpPr>
          <p:sp>
            <p:nvSpPr>
              <p:cNvPr id="1456" name=""/>
              <p:cNvSpPr/>
              <p:nvPr/>
            </p:nvSpPr>
            <p:spPr>
              <a:xfrm>
                <a:off x="1373040" y="372888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373040" y="3998520"/>
                <a:ext cx="539640" cy="674640"/>
              </a:xfrm>
              <a:custGeom>
                <a:avLst/>
                <a:gdLst/>
                <a:ahLst/>
                <a:rect l="l" t="t" r="r" b="b"/>
                <a:pathLst>
                  <a:path w="340" h="425">
                    <a:moveTo>
                      <a:pt x="0" y="0"/>
                    </a:moveTo>
                    <a:lnTo>
                      <a:pt x="340" y="170"/>
                    </a:lnTo>
                    <a:lnTo>
                      <a:pt x="340" y="425"/>
                    </a:lnTo>
                    <a:lnTo>
                      <a:pt x="0" y="25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912680" y="3998520"/>
                <a:ext cx="541440" cy="674640"/>
              </a:xfrm>
              <a:custGeom>
                <a:avLst/>
                <a:gdLst/>
                <a:ahLst/>
                <a:rect l="l" t="t" r="r" b="b"/>
                <a:pathLst>
                  <a:path w="341" h="425">
                    <a:moveTo>
                      <a:pt x="341" y="0"/>
                    </a:moveTo>
                    <a:lnTo>
                      <a:pt x="341" y="255"/>
                    </a:lnTo>
                    <a:lnTo>
                      <a:pt x="0" y="425"/>
                    </a:lnTo>
                    <a:lnTo>
                      <a:pt x="0" y="170"/>
                    </a:lnTo>
                    <a:lnTo>
                      <a:pt x="3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9" name=""/>
          <p:cNvGrpSpPr/>
          <p:nvPr/>
        </p:nvGrpSpPr>
        <p:grpSpPr>
          <a:xfrm>
            <a:off x="4299120" y="5348160"/>
            <a:ext cx="1622160" cy="946440"/>
            <a:chOff x="4299120" y="5348160"/>
            <a:chExt cx="1622160" cy="946440"/>
          </a:xfrm>
        </p:grpSpPr>
        <p:grpSp>
          <p:nvGrpSpPr>
            <p:cNvPr id="1460" name=""/>
            <p:cNvGrpSpPr/>
            <p:nvPr/>
          </p:nvGrpSpPr>
          <p:grpSpPr>
            <a:xfrm>
              <a:off x="4300560" y="5348160"/>
              <a:ext cx="1620720" cy="944640"/>
              <a:chOff x="4300560" y="5348160"/>
              <a:chExt cx="1620720" cy="944640"/>
            </a:xfrm>
          </p:grpSpPr>
          <p:sp>
            <p:nvSpPr>
              <p:cNvPr id="1461" name=""/>
              <p:cNvSpPr/>
              <p:nvPr/>
            </p:nvSpPr>
            <p:spPr>
              <a:xfrm>
                <a:off x="5379840" y="5887800"/>
                <a:ext cx="54108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300560" y="5618160"/>
                <a:ext cx="1079280" cy="67464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680" y="340"/>
                    </a:move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300560" y="5348160"/>
                <a:ext cx="162072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"/>
            <p:cNvGrpSpPr/>
            <p:nvPr/>
          </p:nvGrpSpPr>
          <p:grpSpPr>
            <a:xfrm>
              <a:off x="4299120" y="5349960"/>
              <a:ext cx="1620720" cy="944640"/>
              <a:chOff x="4299120" y="5349960"/>
              <a:chExt cx="1620720" cy="944640"/>
            </a:xfrm>
          </p:grpSpPr>
          <p:sp>
            <p:nvSpPr>
              <p:cNvPr id="1465" name=""/>
              <p:cNvSpPr/>
              <p:nvPr/>
            </p:nvSpPr>
            <p:spPr>
              <a:xfrm>
                <a:off x="5378400" y="5889600"/>
                <a:ext cx="54108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299120" y="5619960"/>
                <a:ext cx="1079280" cy="67464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680" y="340"/>
                    </a:move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299120" y="5349960"/>
                <a:ext cx="162072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8" name=""/>
          <p:cNvGrpSpPr/>
          <p:nvPr/>
        </p:nvGrpSpPr>
        <p:grpSpPr>
          <a:xfrm>
            <a:off x="4299120" y="4357800"/>
            <a:ext cx="1622160" cy="1081080"/>
            <a:chOff x="4299120" y="4357800"/>
            <a:chExt cx="1622160" cy="1081080"/>
          </a:xfrm>
        </p:grpSpPr>
        <p:grpSp>
          <p:nvGrpSpPr>
            <p:cNvPr id="1469" name=""/>
            <p:cNvGrpSpPr/>
            <p:nvPr/>
          </p:nvGrpSpPr>
          <p:grpSpPr>
            <a:xfrm>
              <a:off x="4300560" y="4357800"/>
              <a:ext cx="1620720" cy="1078920"/>
              <a:chOff x="4300560" y="4357800"/>
              <a:chExt cx="1620720" cy="1078920"/>
            </a:xfrm>
          </p:grpSpPr>
          <p:sp>
            <p:nvSpPr>
              <p:cNvPr id="1470" name=""/>
              <p:cNvSpPr/>
              <p:nvPr/>
            </p:nvSpPr>
            <p:spPr>
              <a:xfrm>
                <a:off x="4300560" y="4357800"/>
                <a:ext cx="1620720" cy="80928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300560" y="4627440"/>
                <a:ext cx="1079280" cy="80928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510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170"/>
                    </a:lnTo>
                    <a:lnTo>
                      <a:pt x="680" y="51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379840" y="4897440"/>
                <a:ext cx="541080" cy="53928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0" y="34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170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"/>
            <p:cNvGrpSpPr/>
            <p:nvPr/>
          </p:nvGrpSpPr>
          <p:grpSpPr>
            <a:xfrm>
              <a:off x="4299120" y="4359240"/>
              <a:ext cx="1620720" cy="1079640"/>
              <a:chOff x="4299120" y="4359240"/>
              <a:chExt cx="1620720" cy="1079640"/>
            </a:xfrm>
          </p:grpSpPr>
          <p:sp>
            <p:nvSpPr>
              <p:cNvPr id="1474" name=""/>
              <p:cNvSpPr/>
              <p:nvPr/>
            </p:nvSpPr>
            <p:spPr>
              <a:xfrm>
                <a:off x="4299120" y="4359240"/>
                <a:ext cx="162072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299120" y="4629240"/>
                <a:ext cx="1079280" cy="80964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510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170"/>
                    </a:lnTo>
                    <a:lnTo>
                      <a:pt x="68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5378400" y="4899240"/>
                <a:ext cx="541080" cy="53964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0" y="34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170"/>
                    </a:lnTo>
                    <a:lnTo>
                      <a:pt x="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7" name=""/>
          <p:cNvGrpSpPr/>
          <p:nvPr/>
        </p:nvGrpSpPr>
        <p:grpSpPr>
          <a:xfrm>
            <a:off x="4299120" y="3278160"/>
            <a:ext cx="1623960" cy="1215720"/>
            <a:chOff x="4299120" y="3278160"/>
            <a:chExt cx="1623960" cy="1215720"/>
          </a:xfrm>
        </p:grpSpPr>
        <p:grpSp>
          <p:nvGrpSpPr>
            <p:cNvPr id="1478" name=""/>
            <p:cNvGrpSpPr/>
            <p:nvPr/>
          </p:nvGrpSpPr>
          <p:grpSpPr>
            <a:xfrm>
              <a:off x="4300560" y="3278160"/>
              <a:ext cx="1622520" cy="1214280"/>
              <a:chOff x="4300560" y="3278160"/>
              <a:chExt cx="1622520" cy="1214280"/>
            </a:xfrm>
          </p:grpSpPr>
          <p:sp>
            <p:nvSpPr>
              <p:cNvPr id="1479" name=""/>
              <p:cNvSpPr/>
              <p:nvPr/>
            </p:nvSpPr>
            <p:spPr>
              <a:xfrm>
                <a:off x="5381640" y="3817800"/>
                <a:ext cx="541440" cy="674640"/>
              </a:xfrm>
              <a:custGeom>
                <a:avLst/>
                <a:gdLst/>
                <a:ahLst/>
                <a:rect l="l" t="t" r="r" b="b"/>
                <a:pathLst>
                  <a:path w="341" h="425">
                    <a:moveTo>
                      <a:pt x="0" y="42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255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300560" y="3278160"/>
                <a:ext cx="162108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300560" y="3547800"/>
                <a:ext cx="1079640" cy="944640"/>
              </a:xfrm>
              <a:custGeom>
                <a:avLst/>
                <a:gdLst/>
                <a:ahLst/>
                <a:rect l="l" t="t" r="r" b="b"/>
                <a:pathLst>
                  <a:path w="680" h="595">
                    <a:moveTo>
                      <a:pt x="680" y="595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680" y="59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4299120" y="3279600"/>
              <a:ext cx="1621800" cy="1214280"/>
              <a:chOff x="4299120" y="3279600"/>
              <a:chExt cx="1621800" cy="1214280"/>
            </a:xfrm>
          </p:grpSpPr>
          <p:sp>
            <p:nvSpPr>
              <p:cNvPr id="1483" name=""/>
              <p:cNvSpPr/>
              <p:nvPr/>
            </p:nvSpPr>
            <p:spPr>
              <a:xfrm>
                <a:off x="5379840" y="3819240"/>
                <a:ext cx="541080" cy="674640"/>
              </a:xfrm>
              <a:custGeom>
                <a:avLst/>
                <a:gdLst/>
                <a:ahLst/>
                <a:rect l="l" t="t" r="r" b="b"/>
                <a:pathLst>
                  <a:path w="341" h="425">
                    <a:moveTo>
                      <a:pt x="0" y="42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255"/>
                    </a:lnTo>
                    <a:lnTo>
                      <a:pt x="0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4299120" y="3279600"/>
                <a:ext cx="162072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299120" y="3549240"/>
                <a:ext cx="1079280" cy="944640"/>
              </a:xfrm>
              <a:custGeom>
                <a:avLst/>
                <a:gdLst/>
                <a:ahLst/>
                <a:rect l="l" t="t" r="r" b="b"/>
                <a:pathLst>
                  <a:path w="680" h="595">
                    <a:moveTo>
                      <a:pt x="680" y="595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680" y="5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6" name=""/>
          <p:cNvGrpSpPr/>
          <p:nvPr/>
        </p:nvGrpSpPr>
        <p:grpSpPr>
          <a:xfrm>
            <a:off x="2633760" y="5483160"/>
            <a:ext cx="1352520" cy="811440"/>
            <a:chOff x="2633760" y="5483160"/>
            <a:chExt cx="1352520" cy="811440"/>
          </a:xfrm>
        </p:grpSpPr>
        <p:grpSp>
          <p:nvGrpSpPr>
            <p:cNvPr id="1487" name=""/>
            <p:cNvGrpSpPr/>
            <p:nvPr/>
          </p:nvGrpSpPr>
          <p:grpSpPr>
            <a:xfrm>
              <a:off x="2635200" y="5483160"/>
              <a:ext cx="1351080" cy="809640"/>
              <a:chOff x="2635200" y="5483160"/>
              <a:chExt cx="1351080" cy="809640"/>
            </a:xfrm>
          </p:grpSpPr>
          <p:sp>
            <p:nvSpPr>
              <p:cNvPr id="1488" name=""/>
              <p:cNvSpPr/>
              <p:nvPr/>
            </p:nvSpPr>
            <p:spPr>
              <a:xfrm>
                <a:off x="2635200" y="5483160"/>
                <a:ext cx="134964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635200" y="5618160"/>
                <a:ext cx="1079640" cy="67464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0" y="0"/>
                    </a:moveTo>
                    <a:lnTo>
                      <a:pt x="680" y="340"/>
                    </a:ln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16280" y="6022800"/>
                <a:ext cx="270000" cy="270000"/>
              </a:xfrm>
              <a:custGeom>
                <a:avLst/>
                <a:gdLst/>
                <a:ahLst/>
                <a:rect l="l" t="t" r="r" b="b"/>
                <a:pathLst>
                  <a:path w="170" h="170">
                    <a:moveTo>
                      <a:pt x="0" y="170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85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2633760" y="5484960"/>
              <a:ext cx="1350360" cy="809640"/>
              <a:chOff x="2633760" y="5484960"/>
              <a:chExt cx="1350360" cy="809640"/>
            </a:xfrm>
          </p:grpSpPr>
          <p:sp>
            <p:nvSpPr>
              <p:cNvPr id="1492" name=""/>
              <p:cNvSpPr/>
              <p:nvPr/>
            </p:nvSpPr>
            <p:spPr>
              <a:xfrm>
                <a:off x="2633760" y="5484960"/>
                <a:ext cx="134928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2633760" y="5619960"/>
                <a:ext cx="1079280" cy="67464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0" y="0"/>
                    </a:moveTo>
                    <a:lnTo>
                      <a:pt x="680" y="340"/>
                    </a:ln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714480" y="6024600"/>
                <a:ext cx="269640" cy="270000"/>
              </a:xfrm>
              <a:custGeom>
                <a:avLst/>
                <a:gdLst/>
                <a:ahLst/>
                <a:rect l="l" t="t" r="r" b="b"/>
                <a:pathLst>
                  <a:path w="170" h="170">
                    <a:moveTo>
                      <a:pt x="0" y="170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85"/>
                    </a:lnTo>
                    <a:lnTo>
                      <a:pt x="0" y="1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5" name=""/>
          <p:cNvGrpSpPr/>
          <p:nvPr/>
        </p:nvGrpSpPr>
        <p:grpSpPr>
          <a:xfrm>
            <a:off x="2633760" y="4808520"/>
            <a:ext cx="1352520" cy="946080"/>
            <a:chOff x="2633760" y="4808520"/>
            <a:chExt cx="1352520" cy="946080"/>
          </a:xfrm>
        </p:grpSpPr>
        <p:grpSp>
          <p:nvGrpSpPr>
            <p:cNvPr id="1496" name=""/>
            <p:cNvGrpSpPr/>
            <p:nvPr/>
          </p:nvGrpSpPr>
          <p:grpSpPr>
            <a:xfrm>
              <a:off x="2635200" y="4808520"/>
              <a:ext cx="1351080" cy="944640"/>
              <a:chOff x="2635200" y="4808520"/>
              <a:chExt cx="1351080" cy="944640"/>
            </a:xfrm>
          </p:grpSpPr>
          <p:sp>
            <p:nvSpPr>
              <p:cNvPr id="1497" name=""/>
              <p:cNvSpPr/>
              <p:nvPr/>
            </p:nvSpPr>
            <p:spPr>
              <a:xfrm>
                <a:off x="3716280" y="5348160"/>
                <a:ext cx="270000" cy="405000"/>
              </a:xfrm>
              <a:custGeom>
                <a:avLst/>
                <a:gdLst/>
                <a:ahLst/>
                <a:rect l="l" t="t" r="r" b="b"/>
                <a:pathLst>
                  <a:path w="170" h="255">
                    <a:moveTo>
                      <a:pt x="170" y="0"/>
                    </a:moveTo>
                    <a:lnTo>
                      <a:pt x="170" y="170"/>
                    </a:lnTo>
                    <a:lnTo>
                      <a:pt x="0" y="255"/>
                    </a:lnTo>
                    <a:lnTo>
                      <a:pt x="0" y="85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637000" y="4943520"/>
                <a:ext cx="1079280" cy="80964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340"/>
                    </a:moveTo>
                    <a:lnTo>
                      <a:pt x="680" y="510"/>
                    </a:lnTo>
                    <a:lnTo>
                      <a:pt x="0" y="170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635200" y="4808520"/>
                <a:ext cx="134964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2633760" y="4809960"/>
              <a:ext cx="1350360" cy="944640"/>
              <a:chOff x="2633760" y="4809960"/>
              <a:chExt cx="1350360" cy="944640"/>
            </a:xfrm>
          </p:grpSpPr>
          <p:sp>
            <p:nvSpPr>
              <p:cNvPr id="1501" name=""/>
              <p:cNvSpPr/>
              <p:nvPr/>
            </p:nvSpPr>
            <p:spPr>
              <a:xfrm>
                <a:off x="3714480" y="5349600"/>
                <a:ext cx="269640" cy="405000"/>
              </a:xfrm>
              <a:custGeom>
                <a:avLst/>
                <a:gdLst/>
                <a:ahLst/>
                <a:rect l="l" t="t" r="r" b="b"/>
                <a:pathLst>
                  <a:path w="170" h="255">
                    <a:moveTo>
                      <a:pt x="170" y="0"/>
                    </a:moveTo>
                    <a:lnTo>
                      <a:pt x="170" y="170"/>
                    </a:lnTo>
                    <a:lnTo>
                      <a:pt x="0" y="255"/>
                    </a:lnTo>
                    <a:lnTo>
                      <a:pt x="0" y="85"/>
                    </a:lnTo>
                    <a:lnTo>
                      <a:pt x="1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635200" y="4944960"/>
                <a:ext cx="1078920" cy="80964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340"/>
                    </a:moveTo>
                    <a:lnTo>
                      <a:pt x="680" y="510"/>
                    </a:lnTo>
                    <a:lnTo>
                      <a:pt x="0" y="170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633760" y="4809960"/>
                <a:ext cx="134928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4" name=""/>
          <p:cNvGrpSpPr/>
          <p:nvPr/>
        </p:nvGrpSpPr>
        <p:grpSpPr>
          <a:xfrm>
            <a:off x="2679840" y="3998880"/>
            <a:ext cx="1350720" cy="1081080"/>
            <a:chOff x="2679840" y="3998880"/>
            <a:chExt cx="1350720" cy="1081080"/>
          </a:xfrm>
        </p:grpSpPr>
        <p:grpSp>
          <p:nvGrpSpPr>
            <p:cNvPr id="1505" name=""/>
            <p:cNvGrpSpPr/>
            <p:nvPr/>
          </p:nvGrpSpPr>
          <p:grpSpPr>
            <a:xfrm>
              <a:off x="2681280" y="3998880"/>
              <a:ext cx="1349280" cy="1079280"/>
              <a:chOff x="2681280" y="3998880"/>
              <a:chExt cx="1349280" cy="1079280"/>
            </a:xfrm>
          </p:grpSpPr>
          <p:sp>
            <p:nvSpPr>
              <p:cNvPr id="1506" name=""/>
              <p:cNvSpPr/>
              <p:nvPr/>
            </p:nvSpPr>
            <p:spPr>
              <a:xfrm>
                <a:off x="2681280" y="4133880"/>
                <a:ext cx="1079280" cy="944280"/>
              </a:xfrm>
              <a:custGeom>
                <a:avLst/>
                <a:gdLst/>
                <a:ahLst/>
                <a:rect l="l" t="t" r="r" b="b"/>
                <a:pathLst>
                  <a:path w="680" h="595">
                    <a:moveTo>
                      <a:pt x="680" y="595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680" y="59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760560" y="4538520"/>
                <a:ext cx="26964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340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681280" y="3998880"/>
                <a:ext cx="134928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2679840" y="4000680"/>
              <a:ext cx="1349280" cy="1079280"/>
              <a:chOff x="2679840" y="4000680"/>
              <a:chExt cx="1349280" cy="1079280"/>
            </a:xfrm>
          </p:grpSpPr>
          <p:sp>
            <p:nvSpPr>
              <p:cNvPr id="1510" name=""/>
              <p:cNvSpPr/>
              <p:nvPr/>
            </p:nvSpPr>
            <p:spPr>
              <a:xfrm>
                <a:off x="2679840" y="4135680"/>
                <a:ext cx="1079280" cy="944280"/>
              </a:xfrm>
              <a:custGeom>
                <a:avLst/>
                <a:gdLst/>
                <a:ahLst/>
                <a:rect l="l" t="t" r="r" b="b"/>
                <a:pathLst>
                  <a:path w="680" h="595">
                    <a:moveTo>
                      <a:pt x="680" y="595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680" y="5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759120" y="4540320"/>
                <a:ext cx="26964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340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679840" y="4000680"/>
                <a:ext cx="134928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3" name=""/>
          <p:cNvGrpSpPr/>
          <p:nvPr/>
        </p:nvGrpSpPr>
        <p:grpSpPr>
          <a:xfrm>
            <a:off x="6459480" y="4132440"/>
            <a:ext cx="541440" cy="1352520"/>
            <a:chOff x="6459480" y="4132440"/>
            <a:chExt cx="541440" cy="1352520"/>
          </a:xfrm>
        </p:grpSpPr>
        <p:grpSp>
          <p:nvGrpSpPr>
            <p:cNvPr id="1514" name=""/>
            <p:cNvGrpSpPr/>
            <p:nvPr/>
          </p:nvGrpSpPr>
          <p:grpSpPr>
            <a:xfrm>
              <a:off x="6461280" y="4132440"/>
              <a:ext cx="539640" cy="1350360"/>
              <a:chOff x="6461280" y="4132440"/>
              <a:chExt cx="539640" cy="1350360"/>
            </a:xfrm>
          </p:grpSpPr>
          <p:sp>
            <p:nvSpPr>
              <p:cNvPr id="1515" name=""/>
              <p:cNvSpPr/>
              <p:nvPr/>
            </p:nvSpPr>
            <p:spPr>
              <a:xfrm>
                <a:off x="6461280" y="4268520"/>
                <a:ext cx="269640" cy="121428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6730920" y="4268520"/>
                <a:ext cx="270000" cy="121428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0" y="765"/>
                    </a:moveTo>
                    <a:lnTo>
                      <a:pt x="170" y="680"/>
                    </a:lnTo>
                    <a:lnTo>
                      <a:pt x="170" y="0"/>
                    </a:lnTo>
                    <a:lnTo>
                      <a:pt x="0" y="85"/>
                    </a:lnTo>
                    <a:lnTo>
                      <a:pt x="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461280" y="4132440"/>
                <a:ext cx="539640" cy="271080"/>
              </a:xfrm>
              <a:custGeom>
                <a:avLst/>
                <a:gdLst/>
                <a:ahLst/>
                <a:rect l="l" t="t" r="r" b="b"/>
                <a:pathLst>
                  <a:path w="340" h="171">
                    <a:moveTo>
                      <a:pt x="340" y="86"/>
                    </a:moveTo>
                    <a:lnTo>
                      <a:pt x="170" y="0"/>
                    </a:lnTo>
                    <a:lnTo>
                      <a:pt x="0" y="86"/>
                    </a:lnTo>
                    <a:lnTo>
                      <a:pt x="170" y="171"/>
                    </a:lnTo>
                    <a:lnTo>
                      <a:pt x="340" y="8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"/>
            <p:cNvGrpSpPr/>
            <p:nvPr/>
          </p:nvGrpSpPr>
          <p:grpSpPr>
            <a:xfrm>
              <a:off x="6459480" y="4133880"/>
              <a:ext cx="539640" cy="1351080"/>
              <a:chOff x="6459480" y="4133880"/>
              <a:chExt cx="539640" cy="1351080"/>
            </a:xfrm>
          </p:grpSpPr>
          <p:sp>
            <p:nvSpPr>
              <p:cNvPr id="1519" name=""/>
              <p:cNvSpPr/>
              <p:nvPr/>
            </p:nvSpPr>
            <p:spPr>
              <a:xfrm>
                <a:off x="6459480" y="4270320"/>
                <a:ext cx="269640" cy="121464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729120" y="4270320"/>
                <a:ext cx="270000" cy="121464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0" y="765"/>
                    </a:moveTo>
                    <a:lnTo>
                      <a:pt x="170" y="680"/>
                    </a:lnTo>
                    <a:lnTo>
                      <a:pt x="170" y="0"/>
                    </a:lnTo>
                    <a:lnTo>
                      <a:pt x="0" y="85"/>
                    </a:lnTo>
                    <a:lnTo>
                      <a:pt x="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459480" y="4133880"/>
                <a:ext cx="539640" cy="271440"/>
              </a:xfrm>
              <a:custGeom>
                <a:avLst/>
                <a:gdLst/>
                <a:ahLst/>
                <a:rect l="l" t="t" r="r" b="b"/>
                <a:pathLst>
                  <a:path w="340" h="171">
                    <a:moveTo>
                      <a:pt x="340" y="86"/>
                    </a:moveTo>
                    <a:lnTo>
                      <a:pt x="170" y="0"/>
                    </a:lnTo>
                    <a:lnTo>
                      <a:pt x="0" y="86"/>
                    </a:lnTo>
                    <a:lnTo>
                      <a:pt x="170" y="171"/>
                    </a:lnTo>
                    <a:lnTo>
                      <a:pt x="340" y="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2" name=""/>
          <p:cNvGrpSpPr/>
          <p:nvPr/>
        </p:nvGrpSpPr>
        <p:grpSpPr>
          <a:xfrm>
            <a:off x="7089840" y="4043520"/>
            <a:ext cx="812880" cy="1486800"/>
            <a:chOff x="7089840" y="4043520"/>
            <a:chExt cx="812880" cy="1486800"/>
          </a:xfrm>
        </p:grpSpPr>
        <p:grpSp>
          <p:nvGrpSpPr>
            <p:cNvPr id="1523" name=""/>
            <p:cNvGrpSpPr/>
            <p:nvPr/>
          </p:nvGrpSpPr>
          <p:grpSpPr>
            <a:xfrm>
              <a:off x="7091280" y="4043520"/>
              <a:ext cx="811440" cy="1485360"/>
              <a:chOff x="7091280" y="4043520"/>
              <a:chExt cx="811440" cy="1485360"/>
            </a:xfrm>
          </p:grpSpPr>
          <p:sp>
            <p:nvSpPr>
              <p:cNvPr id="1524" name=""/>
              <p:cNvSpPr/>
              <p:nvPr/>
            </p:nvSpPr>
            <p:spPr>
              <a:xfrm>
                <a:off x="7091280" y="4314600"/>
                <a:ext cx="270000" cy="121428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7091280" y="4043520"/>
                <a:ext cx="811440" cy="406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361280" y="4178160"/>
                <a:ext cx="541440" cy="135072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7089840" y="4044960"/>
              <a:ext cx="811080" cy="1485360"/>
              <a:chOff x="7089840" y="4044960"/>
              <a:chExt cx="811080" cy="1485360"/>
            </a:xfrm>
          </p:grpSpPr>
          <p:sp>
            <p:nvSpPr>
              <p:cNvPr id="1528" name=""/>
              <p:cNvSpPr/>
              <p:nvPr/>
            </p:nvSpPr>
            <p:spPr>
              <a:xfrm>
                <a:off x="7089840" y="4316040"/>
                <a:ext cx="269640" cy="121428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7089840" y="4044960"/>
                <a:ext cx="811080" cy="406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7359480" y="4179600"/>
                <a:ext cx="541080" cy="135072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1" name=""/>
          <p:cNvGrpSpPr/>
          <p:nvPr/>
        </p:nvGrpSpPr>
        <p:grpSpPr>
          <a:xfrm>
            <a:off x="8034480" y="4494240"/>
            <a:ext cx="812520" cy="945720"/>
            <a:chOff x="8034480" y="4494240"/>
            <a:chExt cx="812520" cy="945720"/>
          </a:xfrm>
        </p:grpSpPr>
        <p:grpSp>
          <p:nvGrpSpPr>
            <p:cNvPr id="1532" name=""/>
            <p:cNvGrpSpPr/>
            <p:nvPr/>
          </p:nvGrpSpPr>
          <p:grpSpPr>
            <a:xfrm>
              <a:off x="8035920" y="4494240"/>
              <a:ext cx="811080" cy="944280"/>
              <a:chOff x="8035920" y="4494240"/>
              <a:chExt cx="811080" cy="944280"/>
            </a:xfrm>
          </p:grpSpPr>
          <p:sp>
            <p:nvSpPr>
              <p:cNvPr id="1533" name=""/>
              <p:cNvSpPr/>
              <p:nvPr/>
            </p:nvSpPr>
            <p:spPr>
              <a:xfrm>
                <a:off x="8305560" y="4628880"/>
                <a:ext cx="541080" cy="80964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035920" y="4763880"/>
                <a:ext cx="269640" cy="67464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8035920" y="4494240"/>
                <a:ext cx="811080" cy="406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8034480" y="4495680"/>
              <a:ext cx="811080" cy="944280"/>
              <a:chOff x="8034480" y="4495680"/>
              <a:chExt cx="811080" cy="944280"/>
            </a:xfrm>
          </p:grpSpPr>
          <p:sp>
            <p:nvSpPr>
              <p:cNvPr id="1537" name=""/>
              <p:cNvSpPr/>
              <p:nvPr/>
            </p:nvSpPr>
            <p:spPr>
              <a:xfrm>
                <a:off x="8304120" y="4630320"/>
                <a:ext cx="541080" cy="80964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8034480" y="4765320"/>
                <a:ext cx="269640" cy="67464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8034480" y="4495680"/>
                <a:ext cx="811080" cy="406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0" name=""/>
          <p:cNvGrpSpPr/>
          <p:nvPr/>
        </p:nvGrpSpPr>
        <p:grpSpPr>
          <a:xfrm>
            <a:off x="6459480" y="5672160"/>
            <a:ext cx="276120" cy="688680"/>
            <a:chOff x="6459480" y="5672160"/>
            <a:chExt cx="276120" cy="688680"/>
          </a:xfrm>
        </p:grpSpPr>
        <p:grpSp>
          <p:nvGrpSpPr>
            <p:cNvPr id="1541" name=""/>
            <p:cNvGrpSpPr/>
            <p:nvPr/>
          </p:nvGrpSpPr>
          <p:grpSpPr>
            <a:xfrm>
              <a:off x="6461280" y="5672160"/>
              <a:ext cx="274320" cy="687240"/>
              <a:chOff x="6461280" y="5672160"/>
              <a:chExt cx="274320" cy="687240"/>
            </a:xfrm>
          </p:grpSpPr>
          <p:sp>
            <p:nvSpPr>
              <p:cNvPr id="1542" name=""/>
              <p:cNvSpPr/>
              <p:nvPr/>
            </p:nvSpPr>
            <p:spPr>
              <a:xfrm>
                <a:off x="6461280" y="5742000"/>
                <a:ext cx="13752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6598800" y="5742000"/>
                <a:ext cx="13644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0" y="765"/>
                    </a:moveTo>
                    <a:lnTo>
                      <a:pt x="170" y="680"/>
                    </a:lnTo>
                    <a:lnTo>
                      <a:pt x="170" y="0"/>
                    </a:lnTo>
                    <a:lnTo>
                      <a:pt x="0" y="85"/>
                    </a:lnTo>
                    <a:lnTo>
                      <a:pt x="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461280" y="5672160"/>
                <a:ext cx="274320" cy="137880"/>
              </a:xfrm>
              <a:custGeom>
                <a:avLst/>
                <a:gdLst/>
                <a:ahLst/>
                <a:rect l="l" t="t" r="r" b="b"/>
                <a:pathLst>
                  <a:path w="340" h="171">
                    <a:moveTo>
                      <a:pt x="340" y="86"/>
                    </a:moveTo>
                    <a:lnTo>
                      <a:pt x="170" y="0"/>
                    </a:lnTo>
                    <a:lnTo>
                      <a:pt x="0" y="86"/>
                    </a:lnTo>
                    <a:lnTo>
                      <a:pt x="170" y="171"/>
                    </a:lnTo>
                    <a:lnTo>
                      <a:pt x="340" y="8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6459480" y="5673600"/>
              <a:ext cx="274680" cy="687240"/>
              <a:chOff x="6459480" y="5673600"/>
              <a:chExt cx="274680" cy="687240"/>
            </a:xfrm>
          </p:grpSpPr>
          <p:sp>
            <p:nvSpPr>
              <p:cNvPr id="1546" name=""/>
              <p:cNvSpPr/>
              <p:nvPr/>
            </p:nvSpPr>
            <p:spPr>
              <a:xfrm>
                <a:off x="6459480" y="5743440"/>
                <a:ext cx="13788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597360" y="5743440"/>
                <a:ext cx="13680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0" y="765"/>
                    </a:moveTo>
                    <a:lnTo>
                      <a:pt x="170" y="680"/>
                    </a:lnTo>
                    <a:lnTo>
                      <a:pt x="170" y="0"/>
                    </a:lnTo>
                    <a:lnTo>
                      <a:pt x="0" y="85"/>
                    </a:lnTo>
                    <a:lnTo>
                      <a:pt x="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459480" y="5673600"/>
                <a:ext cx="274680" cy="137880"/>
              </a:xfrm>
              <a:custGeom>
                <a:avLst/>
                <a:gdLst/>
                <a:ahLst/>
                <a:rect l="l" t="t" r="r" b="b"/>
                <a:pathLst>
                  <a:path w="340" h="171">
                    <a:moveTo>
                      <a:pt x="340" y="86"/>
                    </a:moveTo>
                    <a:lnTo>
                      <a:pt x="170" y="0"/>
                    </a:lnTo>
                    <a:lnTo>
                      <a:pt x="0" y="86"/>
                    </a:lnTo>
                    <a:lnTo>
                      <a:pt x="170" y="171"/>
                    </a:lnTo>
                    <a:lnTo>
                      <a:pt x="340" y="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9" name=""/>
          <p:cNvGrpSpPr/>
          <p:nvPr/>
        </p:nvGrpSpPr>
        <p:grpSpPr>
          <a:xfrm>
            <a:off x="6780240" y="5627520"/>
            <a:ext cx="414000" cy="757440"/>
            <a:chOff x="6780240" y="5627520"/>
            <a:chExt cx="414000" cy="757440"/>
          </a:xfrm>
        </p:grpSpPr>
        <p:grpSp>
          <p:nvGrpSpPr>
            <p:cNvPr id="1550" name=""/>
            <p:cNvGrpSpPr/>
            <p:nvPr/>
          </p:nvGrpSpPr>
          <p:grpSpPr>
            <a:xfrm>
              <a:off x="6781680" y="5627520"/>
              <a:ext cx="412560" cy="755640"/>
              <a:chOff x="6781680" y="5627520"/>
              <a:chExt cx="412560" cy="755640"/>
            </a:xfrm>
          </p:grpSpPr>
          <p:sp>
            <p:nvSpPr>
              <p:cNvPr id="1551" name=""/>
              <p:cNvSpPr/>
              <p:nvPr/>
            </p:nvSpPr>
            <p:spPr>
              <a:xfrm>
                <a:off x="6781680" y="5765760"/>
                <a:ext cx="13788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781680" y="5627520"/>
                <a:ext cx="412560" cy="2062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919560" y="5695920"/>
                <a:ext cx="274680" cy="68724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6780240" y="5629320"/>
              <a:ext cx="412560" cy="755640"/>
              <a:chOff x="6780240" y="5629320"/>
              <a:chExt cx="412560" cy="755640"/>
            </a:xfrm>
          </p:grpSpPr>
          <p:sp>
            <p:nvSpPr>
              <p:cNvPr id="1555" name=""/>
              <p:cNvSpPr/>
              <p:nvPr/>
            </p:nvSpPr>
            <p:spPr>
              <a:xfrm>
                <a:off x="6780240" y="5767560"/>
                <a:ext cx="13788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780240" y="5629320"/>
                <a:ext cx="412560" cy="2062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918120" y="5697720"/>
                <a:ext cx="274680" cy="68724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8" name=""/>
          <p:cNvGrpSpPr/>
          <p:nvPr/>
        </p:nvGrpSpPr>
        <p:grpSpPr>
          <a:xfrm>
            <a:off x="7261200" y="5856120"/>
            <a:ext cx="414000" cy="482760"/>
            <a:chOff x="7261200" y="5856120"/>
            <a:chExt cx="414000" cy="482760"/>
          </a:xfrm>
        </p:grpSpPr>
        <p:grpSp>
          <p:nvGrpSpPr>
            <p:cNvPr id="1559" name=""/>
            <p:cNvGrpSpPr/>
            <p:nvPr/>
          </p:nvGrpSpPr>
          <p:grpSpPr>
            <a:xfrm>
              <a:off x="7262640" y="5856120"/>
              <a:ext cx="412560" cy="480960"/>
              <a:chOff x="7262640" y="5856120"/>
              <a:chExt cx="412560" cy="480960"/>
            </a:xfrm>
          </p:grpSpPr>
          <p:sp>
            <p:nvSpPr>
              <p:cNvPr id="1560" name=""/>
              <p:cNvSpPr/>
              <p:nvPr/>
            </p:nvSpPr>
            <p:spPr>
              <a:xfrm>
                <a:off x="7399080" y="5925960"/>
                <a:ext cx="276120" cy="41112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262640" y="5994360"/>
                <a:ext cx="136440" cy="34272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7262640" y="5856120"/>
                <a:ext cx="412560" cy="208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3" name=""/>
            <p:cNvGrpSpPr/>
            <p:nvPr/>
          </p:nvGrpSpPr>
          <p:grpSpPr>
            <a:xfrm>
              <a:off x="7261200" y="5857920"/>
              <a:ext cx="412560" cy="480960"/>
              <a:chOff x="7261200" y="5857920"/>
              <a:chExt cx="412560" cy="480960"/>
            </a:xfrm>
          </p:grpSpPr>
          <p:sp>
            <p:nvSpPr>
              <p:cNvPr id="1564" name=""/>
              <p:cNvSpPr/>
              <p:nvPr/>
            </p:nvSpPr>
            <p:spPr>
              <a:xfrm>
                <a:off x="7397640" y="5927760"/>
                <a:ext cx="276120" cy="41112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261200" y="5996160"/>
                <a:ext cx="136440" cy="34272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261200" y="5857920"/>
                <a:ext cx="412560" cy="208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9dbd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7" name=""/>
          <p:cNvGrpSpPr/>
          <p:nvPr/>
        </p:nvGrpSpPr>
        <p:grpSpPr>
          <a:xfrm>
            <a:off x="1325520" y="1671480"/>
            <a:ext cx="1081080" cy="809640"/>
            <a:chOff x="1325520" y="1671480"/>
            <a:chExt cx="1081080" cy="809640"/>
          </a:xfrm>
        </p:grpSpPr>
        <p:sp>
          <p:nvSpPr>
            <p:cNvPr id="1568" name=""/>
            <p:cNvSpPr/>
            <p:nvPr/>
          </p:nvSpPr>
          <p:spPr>
            <a:xfrm>
              <a:off x="1325520" y="167148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865160" y="1941480"/>
              <a:ext cx="541440" cy="539640"/>
            </a:xfrm>
            <a:custGeom>
              <a:avLst/>
              <a:gdLst/>
              <a:ahLst/>
              <a:rect l="l" t="t" r="r" b="b"/>
              <a:pathLst>
                <a:path w="341" h="340">
                  <a:moveTo>
                    <a:pt x="0" y="170"/>
                  </a:moveTo>
                  <a:lnTo>
                    <a:pt x="341" y="0"/>
                  </a:lnTo>
                  <a:lnTo>
                    <a:pt x="341" y="170"/>
                  </a:lnTo>
                  <a:lnTo>
                    <a:pt x="0" y="34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325520" y="194148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34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340" y="170"/>
                  </a:lnTo>
                  <a:lnTo>
                    <a:pt x="340" y="34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1" name=""/>
          <p:cNvGrpSpPr/>
          <p:nvPr/>
        </p:nvGrpSpPr>
        <p:grpSpPr>
          <a:xfrm>
            <a:off x="1362240" y="4762440"/>
            <a:ext cx="1081080" cy="809640"/>
            <a:chOff x="1362240" y="4762440"/>
            <a:chExt cx="1081080" cy="809640"/>
          </a:xfrm>
        </p:grpSpPr>
        <p:sp>
          <p:nvSpPr>
            <p:cNvPr id="1572" name=""/>
            <p:cNvSpPr/>
            <p:nvPr/>
          </p:nvSpPr>
          <p:spPr>
            <a:xfrm>
              <a:off x="1362240" y="476244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901880" y="5032440"/>
              <a:ext cx="541440" cy="539640"/>
            </a:xfrm>
            <a:custGeom>
              <a:avLst/>
              <a:gdLst/>
              <a:ahLst/>
              <a:rect l="l" t="t" r="r" b="b"/>
              <a:pathLst>
                <a:path w="341" h="340">
                  <a:moveTo>
                    <a:pt x="0" y="170"/>
                  </a:moveTo>
                  <a:lnTo>
                    <a:pt x="341" y="0"/>
                  </a:lnTo>
                  <a:lnTo>
                    <a:pt x="341" y="170"/>
                  </a:lnTo>
                  <a:lnTo>
                    <a:pt x="0" y="34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362240" y="503244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34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340" y="170"/>
                  </a:lnTo>
                  <a:lnTo>
                    <a:pt x="340" y="34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5" name=""/>
          <p:cNvGrpSpPr/>
          <p:nvPr/>
        </p:nvGrpSpPr>
        <p:grpSpPr>
          <a:xfrm>
            <a:off x="4287960" y="3278160"/>
            <a:ext cx="1621800" cy="1214280"/>
            <a:chOff x="4287960" y="3278160"/>
            <a:chExt cx="1621800" cy="1214280"/>
          </a:xfrm>
        </p:grpSpPr>
        <p:sp>
          <p:nvSpPr>
            <p:cNvPr id="1576" name=""/>
            <p:cNvSpPr/>
            <p:nvPr/>
          </p:nvSpPr>
          <p:spPr>
            <a:xfrm>
              <a:off x="5368680" y="3817800"/>
              <a:ext cx="541080" cy="674640"/>
            </a:xfrm>
            <a:custGeom>
              <a:avLst/>
              <a:gdLst/>
              <a:ahLst/>
              <a:rect l="l" t="t" r="r" b="b"/>
              <a:pathLst>
                <a:path w="341" h="425">
                  <a:moveTo>
                    <a:pt x="0" y="42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255"/>
                  </a:lnTo>
                  <a:lnTo>
                    <a:pt x="0" y="425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287960" y="3278160"/>
              <a:ext cx="1620720" cy="80964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287960" y="3547800"/>
              <a:ext cx="1079280" cy="944640"/>
            </a:xfrm>
            <a:custGeom>
              <a:avLst/>
              <a:gdLst/>
              <a:ahLst/>
              <a:rect l="l" t="t" r="r" b="b"/>
              <a:pathLst>
                <a:path w="680" h="595">
                  <a:moveTo>
                    <a:pt x="680" y="595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680" y="595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6448320" y="4132440"/>
            <a:ext cx="539640" cy="1350360"/>
            <a:chOff x="6448320" y="4132440"/>
            <a:chExt cx="539640" cy="1350360"/>
          </a:xfrm>
        </p:grpSpPr>
        <p:sp>
          <p:nvSpPr>
            <p:cNvPr id="1580" name=""/>
            <p:cNvSpPr/>
            <p:nvPr/>
          </p:nvSpPr>
          <p:spPr>
            <a:xfrm>
              <a:off x="6448320" y="4268520"/>
              <a:ext cx="269640" cy="121428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717960" y="4268520"/>
              <a:ext cx="270000" cy="121428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0" y="765"/>
                  </a:moveTo>
                  <a:lnTo>
                    <a:pt x="170" y="680"/>
                  </a:lnTo>
                  <a:lnTo>
                    <a:pt x="170" y="0"/>
                  </a:lnTo>
                  <a:lnTo>
                    <a:pt x="0" y="85"/>
                  </a:lnTo>
                  <a:lnTo>
                    <a:pt x="0" y="765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448320" y="4132440"/>
              <a:ext cx="539640" cy="271080"/>
            </a:xfrm>
            <a:custGeom>
              <a:avLst/>
              <a:gdLst/>
              <a:ahLst/>
              <a:rect l="l" t="t" r="r" b="b"/>
              <a:pathLst>
                <a:path w="340" h="171">
                  <a:moveTo>
                    <a:pt x="340" y="86"/>
                  </a:moveTo>
                  <a:lnTo>
                    <a:pt x="170" y="0"/>
                  </a:lnTo>
                  <a:lnTo>
                    <a:pt x="0" y="86"/>
                  </a:lnTo>
                  <a:lnTo>
                    <a:pt x="170" y="171"/>
                  </a:lnTo>
                  <a:lnTo>
                    <a:pt x="340" y="86"/>
                  </a:lnTo>
                  <a:close/>
                </a:path>
              </a:pathLst>
            </a:custGeom>
            <a:solidFill>
              <a:srgbClr val="333333"/>
            </a:solidFill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336600" y="2662200"/>
            <a:ext cx="809640" cy="541440"/>
            <a:chOff x="336600" y="2662200"/>
            <a:chExt cx="809640" cy="541440"/>
          </a:xfrm>
        </p:grpSpPr>
        <p:grpSp>
          <p:nvGrpSpPr>
            <p:cNvPr id="1584" name=""/>
            <p:cNvGrpSpPr/>
            <p:nvPr/>
          </p:nvGrpSpPr>
          <p:grpSpPr>
            <a:xfrm>
              <a:off x="336600" y="2662200"/>
              <a:ext cx="809640" cy="539640"/>
              <a:chOff x="336600" y="2662200"/>
              <a:chExt cx="809640" cy="539640"/>
            </a:xfrm>
          </p:grpSpPr>
          <p:sp>
            <p:nvSpPr>
              <p:cNvPr id="1585" name=""/>
              <p:cNvSpPr/>
              <p:nvPr/>
            </p:nvSpPr>
            <p:spPr>
              <a:xfrm>
                <a:off x="876240" y="2931840"/>
                <a:ext cx="270000" cy="27000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0" y="340"/>
                    </a:moveTo>
                    <a:lnTo>
                      <a:pt x="0" y="170"/>
                    </a:lnTo>
                    <a:lnTo>
                      <a:pt x="340" y="0"/>
                    </a:lnTo>
                    <a:lnTo>
                      <a:pt x="340" y="170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36600" y="2796840"/>
                <a:ext cx="539640" cy="40500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51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680" y="340"/>
                    </a:lnTo>
                    <a:lnTo>
                      <a:pt x="680" y="51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36600" y="2662200"/>
                <a:ext cx="809640" cy="40464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336600" y="2664000"/>
              <a:ext cx="809640" cy="539640"/>
              <a:chOff x="336600" y="2664000"/>
              <a:chExt cx="809640" cy="539640"/>
            </a:xfrm>
          </p:grpSpPr>
          <p:sp>
            <p:nvSpPr>
              <p:cNvPr id="1589" name=""/>
              <p:cNvSpPr/>
              <p:nvPr/>
            </p:nvSpPr>
            <p:spPr>
              <a:xfrm>
                <a:off x="876240" y="2933640"/>
                <a:ext cx="270000" cy="27000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0" y="340"/>
                    </a:moveTo>
                    <a:lnTo>
                      <a:pt x="0" y="170"/>
                    </a:lnTo>
                    <a:lnTo>
                      <a:pt x="340" y="0"/>
                    </a:lnTo>
                    <a:lnTo>
                      <a:pt x="340" y="170"/>
                    </a:lnTo>
                    <a:lnTo>
                      <a:pt x="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36600" y="2798640"/>
                <a:ext cx="539640" cy="40500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51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680" y="340"/>
                    </a:lnTo>
                    <a:lnTo>
                      <a:pt x="68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36600" y="2664000"/>
                <a:ext cx="809640" cy="40464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2" name=""/>
          <p:cNvGrpSpPr/>
          <p:nvPr/>
        </p:nvGrpSpPr>
        <p:grpSpPr>
          <a:xfrm>
            <a:off x="290520" y="1940040"/>
            <a:ext cx="811080" cy="677880"/>
            <a:chOff x="290520" y="1940040"/>
            <a:chExt cx="811080" cy="677880"/>
          </a:xfrm>
        </p:grpSpPr>
        <p:grpSp>
          <p:nvGrpSpPr>
            <p:cNvPr id="1593" name=""/>
            <p:cNvGrpSpPr/>
            <p:nvPr/>
          </p:nvGrpSpPr>
          <p:grpSpPr>
            <a:xfrm>
              <a:off x="290520" y="1940040"/>
              <a:ext cx="811080" cy="675720"/>
              <a:chOff x="290520" y="1940040"/>
              <a:chExt cx="811080" cy="675720"/>
            </a:xfrm>
          </p:grpSpPr>
          <p:sp>
            <p:nvSpPr>
              <p:cNvPr id="1594" name=""/>
              <p:cNvSpPr/>
              <p:nvPr/>
            </p:nvSpPr>
            <p:spPr>
              <a:xfrm>
                <a:off x="831960" y="2211120"/>
                <a:ext cx="269640" cy="404640"/>
              </a:xfrm>
              <a:custGeom>
                <a:avLst/>
                <a:gdLst/>
                <a:ahLst/>
                <a:rect l="l" t="t" r="r" b="b"/>
                <a:pathLst>
                  <a:path w="170" h="255">
                    <a:moveTo>
                      <a:pt x="0" y="255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170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91960" y="2076120"/>
                <a:ext cx="540000" cy="53964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340" y="34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340" y="170"/>
                    </a:lnTo>
                    <a:lnTo>
                      <a:pt x="34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90520" y="1940040"/>
                <a:ext cx="809640" cy="40464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290520" y="1941480"/>
              <a:ext cx="811080" cy="676440"/>
              <a:chOff x="290520" y="1941480"/>
              <a:chExt cx="811080" cy="676440"/>
            </a:xfrm>
          </p:grpSpPr>
          <p:sp>
            <p:nvSpPr>
              <p:cNvPr id="1598" name=""/>
              <p:cNvSpPr/>
              <p:nvPr/>
            </p:nvSpPr>
            <p:spPr>
              <a:xfrm>
                <a:off x="831960" y="2212920"/>
                <a:ext cx="269640" cy="405000"/>
              </a:xfrm>
              <a:custGeom>
                <a:avLst/>
                <a:gdLst/>
                <a:ahLst/>
                <a:rect l="l" t="t" r="r" b="b"/>
                <a:pathLst>
                  <a:path w="170" h="255">
                    <a:moveTo>
                      <a:pt x="0" y="255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170"/>
                    </a:lnTo>
                    <a:lnTo>
                      <a:pt x="0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291960" y="2077920"/>
                <a:ext cx="540000" cy="54000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340" y="34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340" y="170"/>
                    </a:lnTo>
                    <a:lnTo>
                      <a:pt x="34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290520" y="1941480"/>
                <a:ext cx="809640" cy="40500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1" name=""/>
          <p:cNvGrpSpPr/>
          <p:nvPr/>
        </p:nvGrpSpPr>
        <p:grpSpPr>
          <a:xfrm>
            <a:off x="290520" y="1130400"/>
            <a:ext cx="809640" cy="811080"/>
            <a:chOff x="290520" y="1130400"/>
            <a:chExt cx="809640" cy="811080"/>
          </a:xfrm>
        </p:grpSpPr>
        <p:grpSp>
          <p:nvGrpSpPr>
            <p:cNvPr id="1602" name=""/>
            <p:cNvGrpSpPr/>
            <p:nvPr/>
          </p:nvGrpSpPr>
          <p:grpSpPr>
            <a:xfrm>
              <a:off x="290520" y="1130400"/>
              <a:ext cx="809640" cy="809640"/>
              <a:chOff x="290520" y="1130400"/>
              <a:chExt cx="809640" cy="809640"/>
            </a:xfrm>
          </p:grpSpPr>
          <p:sp>
            <p:nvSpPr>
              <p:cNvPr id="1603" name=""/>
              <p:cNvSpPr/>
              <p:nvPr/>
            </p:nvSpPr>
            <p:spPr>
              <a:xfrm>
                <a:off x="290520" y="1130400"/>
                <a:ext cx="809640" cy="40500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290520" y="1265400"/>
                <a:ext cx="539640" cy="674640"/>
              </a:xfrm>
              <a:custGeom>
                <a:avLst/>
                <a:gdLst/>
                <a:ahLst/>
                <a:rect l="l" t="t" r="r" b="b"/>
                <a:pathLst>
                  <a:path w="340" h="425">
                    <a:moveTo>
                      <a:pt x="340" y="425"/>
                    </a:moveTo>
                    <a:lnTo>
                      <a:pt x="340" y="17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340" y="42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830160" y="1400400"/>
                <a:ext cx="27000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85"/>
                    </a:move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290520" y="1131840"/>
              <a:ext cx="809640" cy="809640"/>
              <a:chOff x="290520" y="1131840"/>
              <a:chExt cx="809640" cy="809640"/>
            </a:xfrm>
          </p:grpSpPr>
          <p:sp>
            <p:nvSpPr>
              <p:cNvPr id="1607" name=""/>
              <p:cNvSpPr/>
              <p:nvPr/>
            </p:nvSpPr>
            <p:spPr>
              <a:xfrm>
                <a:off x="290520" y="1131840"/>
                <a:ext cx="809640" cy="40500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290520" y="1266840"/>
                <a:ext cx="539640" cy="674640"/>
              </a:xfrm>
              <a:custGeom>
                <a:avLst/>
                <a:gdLst/>
                <a:ahLst/>
                <a:rect l="l" t="t" r="r" b="b"/>
                <a:pathLst>
                  <a:path w="340" h="425">
                    <a:moveTo>
                      <a:pt x="340" y="425"/>
                    </a:moveTo>
                    <a:lnTo>
                      <a:pt x="340" y="17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340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830160" y="1401840"/>
                <a:ext cx="27000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85"/>
                    </a:move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lnTo>
                      <a:pt x="0" y="8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0" name=""/>
          <p:cNvGrpSpPr/>
          <p:nvPr/>
        </p:nvGrpSpPr>
        <p:grpSpPr>
          <a:xfrm>
            <a:off x="1325520" y="2527200"/>
            <a:ext cx="1081080" cy="676440"/>
            <a:chOff x="1325520" y="2527200"/>
            <a:chExt cx="1081080" cy="676440"/>
          </a:xfrm>
        </p:grpSpPr>
        <p:grpSp>
          <p:nvGrpSpPr>
            <p:cNvPr id="1611" name=""/>
            <p:cNvGrpSpPr/>
            <p:nvPr/>
          </p:nvGrpSpPr>
          <p:grpSpPr>
            <a:xfrm>
              <a:off x="1325520" y="2527200"/>
              <a:ext cx="1081080" cy="674640"/>
              <a:chOff x="1325520" y="2527200"/>
              <a:chExt cx="1081080" cy="674640"/>
            </a:xfrm>
          </p:grpSpPr>
          <p:sp>
            <p:nvSpPr>
              <p:cNvPr id="1612" name=""/>
              <p:cNvSpPr/>
              <p:nvPr/>
            </p:nvSpPr>
            <p:spPr>
              <a:xfrm>
                <a:off x="1865160" y="2796840"/>
                <a:ext cx="54144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1325520" y="2796840"/>
                <a:ext cx="539640" cy="405000"/>
              </a:xfrm>
              <a:custGeom>
                <a:avLst/>
                <a:gdLst/>
                <a:ahLst/>
                <a:rect l="l" t="t" r="r" b="b"/>
                <a:pathLst>
                  <a:path w="340" h="255">
                    <a:moveTo>
                      <a:pt x="340" y="170"/>
                    </a:moveTo>
                    <a:lnTo>
                      <a:pt x="340" y="25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340" y="17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1325520" y="252720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1325520" y="2529000"/>
              <a:ext cx="1081080" cy="674640"/>
              <a:chOff x="1325520" y="2529000"/>
              <a:chExt cx="1081080" cy="674640"/>
            </a:xfrm>
          </p:grpSpPr>
          <p:sp>
            <p:nvSpPr>
              <p:cNvPr id="1616" name=""/>
              <p:cNvSpPr/>
              <p:nvPr/>
            </p:nvSpPr>
            <p:spPr>
              <a:xfrm>
                <a:off x="1865160" y="2798640"/>
                <a:ext cx="54144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1325520" y="2798640"/>
                <a:ext cx="539640" cy="405000"/>
              </a:xfrm>
              <a:custGeom>
                <a:avLst/>
                <a:gdLst/>
                <a:ahLst/>
                <a:rect l="l" t="t" r="r" b="b"/>
                <a:pathLst>
                  <a:path w="340" h="255">
                    <a:moveTo>
                      <a:pt x="340" y="170"/>
                    </a:moveTo>
                    <a:lnTo>
                      <a:pt x="340" y="25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340" y="1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325520" y="252900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9" name=""/>
          <p:cNvGrpSpPr/>
          <p:nvPr/>
        </p:nvGrpSpPr>
        <p:grpSpPr>
          <a:xfrm>
            <a:off x="1325520" y="1673280"/>
            <a:ext cx="1081080" cy="809640"/>
            <a:chOff x="1325520" y="1673280"/>
            <a:chExt cx="1081080" cy="809640"/>
          </a:xfrm>
        </p:grpSpPr>
        <p:sp>
          <p:nvSpPr>
            <p:cNvPr id="1620" name=""/>
            <p:cNvSpPr/>
            <p:nvPr/>
          </p:nvSpPr>
          <p:spPr>
            <a:xfrm>
              <a:off x="1325520" y="167328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865160" y="1943280"/>
              <a:ext cx="541440" cy="539640"/>
            </a:xfrm>
            <a:custGeom>
              <a:avLst/>
              <a:gdLst/>
              <a:ahLst/>
              <a:rect l="l" t="t" r="r" b="b"/>
              <a:pathLst>
                <a:path w="341" h="340">
                  <a:moveTo>
                    <a:pt x="0" y="170"/>
                  </a:moveTo>
                  <a:lnTo>
                    <a:pt x="341" y="0"/>
                  </a:lnTo>
                  <a:lnTo>
                    <a:pt x="341" y="170"/>
                  </a:lnTo>
                  <a:lnTo>
                    <a:pt x="0" y="340"/>
                  </a:lnTo>
                  <a:lnTo>
                    <a:pt x="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325520" y="194328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34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340" y="170"/>
                  </a:lnTo>
                  <a:lnTo>
                    <a:pt x="34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3" name=""/>
          <p:cNvGrpSpPr/>
          <p:nvPr/>
        </p:nvGrpSpPr>
        <p:grpSpPr>
          <a:xfrm>
            <a:off x="1325520" y="636480"/>
            <a:ext cx="1081080" cy="946080"/>
            <a:chOff x="1325520" y="636480"/>
            <a:chExt cx="1081080" cy="946080"/>
          </a:xfrm>
        </p:grpSpPr>
        <p:grpSp>
          <p:nvGrpSpPr>
            <p:cNvPr id="1624" name=""/>
            <p:cNvGrpSpPr/>
            <p:nvPr/>
          </p:nvGrpSpPr>
          <p:grpSpPr>
            <a:xfrm>
              <a:off x="1325520" y="636480"/>
              <a:ext cx="1081080" cy="944280"/>
              <a:chOff x="1325520" y="636480"/>
              <a:chExt cx="1081080" cy="944280"/>
            </a:xfrm>
          </p:grpSpPr>
          <p:sp>
            <p:nvSpPr>
              <p:cNvPr id="1625" name=""/>
              <p:cNvSpPr/>
              <p:nvPr/>
            </p:nvSpPr>
            <p:spPr>
              <a:xfrm>
                <a:off x="1325520" y="63648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1325520" y="906120"/>
                <a:ext cx="539640" cy="674640"/>
              </a:xfrm>
              <a:custGeom>
                <a:avLst/>
                <a:gdLst/>
                <a:ahLst/>
                <a:rect l="l" t="t" r="r" b="b"/>
                <a:pathLst>
                  <a:path w="340" h="425">
                    <a:moveTo>
                      <a:pt x="0" y="0"/>
                    </a:moveTo>
                    <a:lnTo>
                      <a:pt x="340" y="170"/>
                    </a:lnTo>
                    <a:lnTo>
                      <a:pt x="340" y="425"/>
                    </a:lnTo>
                    <a:lnTo>
                      <a:pt x="0" y="2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1865160" y="906120"/>
                <a:ext cx="541440" cy="674640"/>
              </a:xfrm>
              <a:custGeom>
                <a:avLst/>
                <a:gdLst/>
                <a:ahLst/>
                <a:rect l="l" t="t" r="r" b="b"/>
                <a:pathLst>
                  <a:path w="341" h="425">
                    <a:moveTo>
                      <a:pt x="341" y="0"/>
                    </a:moveTo>
                    <a:lnTo>
                      <a:pt x="341" y="255"/>
                    </a:lnTo>
                    <a:lnTo>
                      <a:pt x="0" y="425"/>
                    </a:lnTo>
                    <a:lnTo>
                      <a:pt x="0" y="170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8" name=""/>
            <p:cNvGrpSpPr/>
            <p:nvPr/>
          </p:nvGrpSpPr>
          <p:grpSpPr>
            <a:xfrm>
              <a:off x="1325520" y="638280"/>
              <a:ext cx="1081080" cy="944280"/>
              <a:chOff x="1325520" y="638280"/>
              <a:chExt cx="1081080" cy="944280"/>
            </a:xfrm>
          </p:grpSpPr>
          <p:sp>
            <p:nvSpPr>
              <p:cNvPr id="1629" name=""/>
              <p:cNvSpPr/>
              <p:nvPr/>
            </p:nvSpPr>
            <p:spPr>
              <a:xfrm>
                <a:off x="1325520" y="63828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1325520" y="907920"/>
                <a:ext cx="539640" cy="674640"/>
              </a:xfrm>
              <a:custGeom>
                <a:avLst/>
                <a:gdLst/>
                <a:ahLst/>
                <a:rect l="l" t="t" r="r" b="b"/>
                <a:pathLst>
                  <a:path w="340" h="425">
                    <a:moveTo>
                      <a:pt x="0" y="0"/>
                    </a:moveTo>
                    <a:lnTo>
                      <a:pt x="340" y="170"/>
                    </a:lnTo>
                    <a:lnTo>
                      <a:pt x="340" y="425"/>
                    </a:lnTo>
                    <a:lnTo>
                      <a:pt x="0" y="25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1865160" y="907920"/>
                <a:ext cx="541440" cy="674640"/>
              </a:xfrm>
              <a:custGeom>
                <a:avLst/>
                <a:gdLst/>
                <a:ahLst/>
                <a:rect l="l" t="t" r="r" b="b"/>
                <a:pathLst>
                  <a:path w="341" h="425">
                    <a:moveTo>
                      <a:pt x="341" y="0"/>
                    </a:moveTo>
                    <a:lnTo>
                      <a:pt x="341" y="255"/>
                    </a:lnTo>
                    <a:lnTo>
                      <a:pt x="0" y="425"/>
                    </a:lnTo>
                    <a:lnTo>
                      <a:pt x="0" y="170"/>
                    </a:lnTo>
                    <a:lnTo>
                      <a:pt x="3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2" name=""/>
          <p:cNvGrpSpPr/>
          <p:nvPr/>
        </p:nvGrpSpPr>
        <p:grpSpPr>
          <a:xfrm>
            <a:off x="4251240" y="2257560"/>
            <a:ext cx="1621080" cy="946080"/>
            <a:chOff x="4251240" y="2257560"/>
            <a:chExt cx="1621080" cy="946080"/>
          </a:xfrm>
        </p:grpSpPr>
        <p:grpSp>
          <p:nvGrpSpPr>
            <p:cNvPr id="1633" name=""/>
            <p:cNvGrpSpPr/>
            <p:nvPr/>
          </p:nvGrpSpPr>
          <p:grpSpPr>
            <a:xfrm>
              <a:off x="4251240" y="2257560"/>
              <a:ext cx="1621080" cy="943920"/>
              <a:chOff x="4251240" y="2257560"/>
              <a:chExt cx="1621080" cy="943920"/>
            </a:xfrm>
          </p:grpSpPr>
          <p:sp>
            <p:nvSpPr>
              <p:cNvPr id="1634" name=""/>
              <p:cNvSpPr/>
              <p:nvPr/>
            </p:nvSpPr>
            <p:spPr>
              <a:xfrm>
                <a:off x="5330880" y="2796840"/>
                <a:ext cx="541440" cy="40464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4251240" y="2527200"/>
                <a:ext cx="1079640" cy="67428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680" y="340"/>
                    </a:move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4251240" y="2257560"/>
                <a:ext cx="1621080" cy="80928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7" name=""/>
            <p:cNvGrpSpPr/>
            <p:nvPr/>
          </p:nvGrpSpPr>
          <p:grpSpPr>
            <a:xfrm>
              <a:off x="4251240" y="2259000"/>
              <a:ext cx="1621080" cy="944640"/>
              <a:chOff x="4251240" y="2259000"/>
              <a:chExt cx="1621080" cy="944640"/>
            </a:xfrm>
          </p:grpSpPr>
          <p:sp>
            <p:nvSpPr>
              <p:cNvPr id="1638" name=""/>
              <p:cNvSpPr/>
              <p:nvPr/>
            </p:nvSpPr>
            <p:spPr>
              <a:xfrm>
                <a:off x="5330880" y="2798640"/>
                <a:ext cx="54144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4251240" y="2529000"/>
                <a:ext cx="1079640" cy="67464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680" y="340"/>
                    </a:move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4251240" y="2259000"/>
                <a:ext cx="162108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1" name=""/>
          <p:cNvGrpSpPr/>
          <p:nvPr/>
        </p:nvGrpSpPr>
        <p:grpSpPr>
          <a:xfrm>
            <a:off x="4251240" y="1266840"/>
            <a:ext cx="1621080" cy="1081080"/>
            <a:chOff x="4251240" y="1266840"/>
            <a:chExt cx="1621080" cy="1081080"/>
          </a:xfrm>
        </p:grpSpPr>
        <p:grpSp>
          <p:nvGrpSpPr>
            <p:cNvPr id="1642" name=""/>
            <p:cNvGrpSpPr/>
            <p:nvPr/>
          </p:nvGrpSpPr>
          <p:grpSpPr>
            <a:xfrm>
              <a:off x="4251240" y="1266840"/>
              <a:ext cx="1621080" cy="1079640"/>
              <a:chOff x="4251240" y="1266840"/>
              <a:chExt cx="1621080" cy="1079640"/>
            </a:xfrm>
          </p:grpSpPr>
          <p:sp>
            <p:nvSpPr>
              <p:cNvPr id="1643" name=""/>
              <p:cNvSpPr/>
              <p:nvPr/>
            </p:nvSpPr>
            <p:spPr>
              <a:xfrm>
                <a:off x="4251240" y="1266840"/>
                <a:ext cx="162108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4251240" y="1536840"/>
                <a:ext cx="1079640" cy="80964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510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170"/>
                    </a:lnTo>
                    <a:lnTo>
                      <a:pt x="680" y="51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330880" y="1806840"/>
                <a:ext cx="541440" cy="53964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0" y="34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170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6" name=""/>
            <p:cNvGrpSpPr/>
            <p:nvPr/>
          </p:nvGrpSpPr>
          <p:grpSpPr>
            <a:xfrm>
              <a:off x="4251240" y="1268280"/>
              <a:ext cx="1621080" cy="1079640"/>
              <a:chOff x="4251240" y="1268280"/>
              <a:chExt cx="1621080" cy="1079640"/>
            </a:xfrm>
          </p:grpSpPr>
          <p:sp>
            <p:nvSpPr>
              <p:cNvPr id="1647" name=""/>
              <p:cNvSpPr/>
              <p:nvPr/>
            </p:nvSpPr>
            <p:spPr>
              <a:xfrm>
                <a:off x="4251240" y="1268280"/>
                <a:ext cx="162108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4251240" y="1538280"/>
                <a:ext cx="1079640" cy="80964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510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170"/>
                    </a:lnTo>
                    <a:lnTo>
                      <a:pt x="68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5330880" y="1808280"/>
                <a:ext cx="541440" cy="53964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0" y="34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170"/>
                    </a:lnTo>
                    <a:lnTo>
                      <a:pt x="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0" name=""/>
          <p:cNvGrpSpPr/>
          <p:nvPr/>
        </p:nvGrpSpPr>
        <p:grpSpPr>
          <a:xfrm>
            <a:off x="4251240" y="187200"/>
            <a:ext cx="1622520" cy="1216080"/>
            <a:chOff x="4251240" y="187200"/>
            <a:chExt cx="1622520" cy="1216080"/>
          </a:xfrm>
        </p:grpSpPr>
        <p:grpSp>
          <p:nvGrpSpPr>
            <p:cNvPr id="1651" name=""/>
            <p:cNvGrpSpPr/>
            <p:nvPr/>
          </p:nvGrpSpPr>
          <p:grpSpPr>
            <a:xfrm>
              <a:off x="4251240" y="187200"/>
              <a:ext cx="1622520" cy="1214280"/>
              <a:chOff x="4251240" y="187200"/>
              <a:chExt cx="1622520" cy="1214280"/>
            </a:xfrm>
          </p:grpSpPr>
          <p:sp>
            <p:nvSpPr>
              <p:cNvPr id="1652" name=""/>
              <p:cNvSpPr/>
              <p:nvPr/>
            </p:nvSpPr>
            <p:spPr>
              <a:xfrm>
                <a:off x="5332320" y="726840"/>
                <a:ext cx="541440" cy="674640"/>
              </a:xfrm>
              <a:custGeom>
                <a:avLst/>
                <a:gdLst/>
                <a:ahLst/>
                <a:rect l="l" t="t" r="r" b="b"/>
                <a:pathLst>
                  <a:path w="341" h="425">
                    <a:moveTo>
                      <a:pt x="0" y="42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255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4251240" y="187200"/>
                <a:ext cx="162108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4251240" y="456840"/>
                <a:ext cx="1079640" cy="944640"/>
              </a:xfrm>
              <a:custGeom>
                <a:avLst/>
                <a:gdLst/>
                <a:ahLst/>
                <a:rect l="l" t="t" r="r" b="b"/>
                <a:pathLst>
                  <a:path w="680" h="595">
                    <a:moveTo>
                      <a:pt x="680" y="595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680" y="59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5" name=""/>
            <p:cNvGrpSpPr/>
            <p:nvPr/>
          </p:nvGrpSpPr>
          <p:grpSpPr>
            <a:xfrm>
              <a:off x="4251240" y="189000"/>
              <a:ext cx="1622520" cy="1214280"/>
              <a:chOff x="4251240" y="189000"/>
              <a:chExt cx="1622520" cy="1214280"/>
            </a:xfrm>
          </p:grpSpPr>
          <p:sp>
            <p:nvSpPr>
              <p:cNvPr id="1656" name=""/>
              <p:cNvSpPr/>
              <p:nvPr/>
            </p:nvSpPr>
            <p:spPr>
              <a:xfrm>
                <a:off x="5332320" y="728640"/>
                <a:ext cx="541440" cy="674640"/>
              </a:xfrm>
              <a:custGeom>
                <a:avLst/>
                <a:gdLst/>
                <a:ahLst/>
                <a:rect l="l" t="t" r="r" b="b"/>
                <a:pathLst>
                  <a:path w="341" h="425">
                    <a:moveTo>
                      <a:pt x="0" y="42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255"/>
                    </a:lnTo>
                    <a:lnTo>
                      <a:pt x="0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4251240" y="189000"/>
                <a:ext cx="162108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4251240" y="458640"/>
                <a:ext cx="1079640" cy="944640"/>
              </a:xfrm>
              <a:custGeom>
                <a:avLst/>
                <a:gdLst/>
                <a:ahLst/>
                <a:rect l="l" t="t" r="r" b="b"/>
                <a:pathLst>
                  <a:path w="680" h="595">
                    <a:moveTo>
                      <a:pt x="680" y="595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680" y="5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9" name=""/>
          <p:cNvGrpSpPr/>
          <p:nvPr/>
        </p:nvGrpSpPr>
        <p:grpSpPr>
          <a:xfrm>
            <a:off x="2585880" y="2392200"/>
            <a:ext cx="1351080" cy="811440"/>
            <a:chOff x="2585880" y="2392200"/>
            <a:chExt cx="1351080" cy="811440"/>
          </a:xfrm>
        </p:grpSpPr>
        <p:grpSp>
          <p:nvGrpSpPr>
            <p:cNvPr id="1660" name=""/>
            <p:cNvGrpSpPr/>
            <p:nvPr/>
          </p:nvGrpSpPr>
          <p:grpSpPr>
            <a:xfrm>
              <a:off x="2585880" y="2392200"/>
              <a:ext cx="1351080" cy="809640"/>
              <a:chOff x="2585880" y="2392200"/>
              <a:chExt cx="1351080" cy="809640"/>
            </a:xfrm>
          </p:grpSpPr>
          <p:sp>
            <p:nvSpPr>
              <p:cNvPr id="1661" name=""/>
              <p:cNvSpPr/>
              <p:nvPr/>
            </p:nvSpPr>
            <p:spPr>
              <a:xfrm>
                <a:off x="2585880" y="2392200"/>
                <a:ext cx="1349280" cy="67500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2585880" y="2527200"/>
                <a:ext cx="1079640" cy="67464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0" y="0"/>
                    </a:moveTo>
                    <a:lnTo>
                      <a:pt x="680" y="340"/>
                    </a:ln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666960" y="2932200"/>
                <a:ext cx="270000" cy="269640"/>
              </a:xfrm>
              <a:custGeom>
                <a:avLst/>
                <a:gdLst/>
                <a:ahLst/>
                <a:rect l="l" t="t" r="r" b="b"/>
                <a:pathLst>
                  <a:path w="170" h="170">
                    <a:moveTo>
                      <a:pt x="0" y="170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85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"/>
            <p:cNvGrpSpPr/>
            <p:nvPr/>
          </p:nvGrpSpPr>
          <p:grpSpPr>
            <a:xfrm>
              <a:off x="2585880" y="2394000"/>
              <a:ext cx="1351080" cy="809640"/>
              <a:chOff x="2585880" y="2394000"/>
              <a:chExt cx="1351080" cy="809640"/>
            </a:xfrm>
          </p:grpSpPr>
          <p:sp>
            <p:nvSpPr>
              <p:cNvPr id="1665" name=""/>
              <p:cNvSpPr/>
              <p:nvPr/>
            </p:nvSpPr>
            <p:spPr>
              <a:xfrm>
                <a:off x="2585880" y="2394000"/>
                <a:ext cx="1349280" cy="67500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2585880" y="2529000"/>
                <a:ext cx="1079640" cy="67464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0" y="0"/>
                    </a:moveTo>
                    <a:lnTo>
                      <a:pt x="680" y="340"/>
                    </a:ln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666960" y="2934000"/>
                <a:ext cx="270000" cy="269640"/>
              </a:xfrm>
              <a:custGeom>
                <a:avLst/>
                <a:gdLst/>
                <a:ahLst/>
                <a:rect l="l" t="t" r="r" b="b"/>
                <a:pathLst>
                  <a:path w="170" h="170">
                    <a:moveTo>
                      <a:pt x="0" y="170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85"/>
                    </a:lnTo>
                    <a:lnTo>
                      <a:pt x="0" y="1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8" name=""/>
          <p:cNvGrpSpPr/>
          <p:nvPr/>
        </p:nvGrpSpPr>
        <p:grpSpPr>
          <a:xfrm>
            <a:off x="2585880" y="1717560"/>
            <a:ext cx="1351080" cy="946440"/>
            <a:chOff x="2585880" y="1717560"/>
            <a:chExt cx="1351080" cy="946440"/>
          </a:xfrm>
        </p:grpSpPr>
        <p:grpSp>
          <p:nvGrpSpPr>
            <p:cNvPr id="1669" name=""/>
            <p:cNvGrpSpPr/>
            <p:nvPr/>
          </p:nvGrpSpPr>
          <p:grpSpPr>
            <a:xfrm>
              <a:off x="2585880" y="1717560"/>
              <a:ext cx="1351080" cy="944640"/>
              <a:chOff x="2585880" y="1717560"/>
              <a:chExt cx="1351080" cy="944640"/>
            </a:xfrm>
          </p:grpSpPr>
          <p:sp>
            <p:nvSpPr>
              <p:cNvPr id="1670" name=""/>
              <p:cNvSpPr/>
              <p:nvPr/>
            </p:nvSpPr>
            <p:spPr>
              <a:xfrm>
                <a:off x="3666960" y="2257200"/>
                <a:ext cx="270000" cy="405000"/>
              </a:xfrm>
              <a:custGeom>
                <a:avLst/>
                <a:gdLst/>
                <a:ahLst/>
                <a:rect l="l" t="t" r="r" b="b"/>
                <a:pathLst>
                  <a:path w="170" h="255">
                    <a:moveTo>
                      <a:pt x="170" y="0"/>
                    </a:moveTo>
                    <a:lnTo>
                      <a:pt x="170" y="170"/>
                    </a:lnTo>
                    <a:lnTo>
                      <a:pt x="0" y="255"/>
                    </a:lnTo>
                    <a:lnTo>
                      <a:pt x="0" y="85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2587680" y="1852560"/>
                <a:ext cx="1079280" cy="80964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340"/>
                    </a:moveTo>
                    <a:lnTo>
                      <a:pt x="680" y="510"/>
                    </a:lnTo>
                    <a:lnTo>
                      <a:pt x="0" y="170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585880" y="1717560"/>
                <a:ext cx="134964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"/>
            <p:cNvGrpSpPr/>
            <p:nvPr/>
          </p:nvGrpSpPr>
          <p:grpSpPr>
            <a:xfrm>
              <a:off x="2585880" y="1719360"/>
              <a:ext cx="1351080" cy="944640"/>
              <a:chOff x="2585880" y="1719360"/>
              <a:chExt cx="1351080" cy="944640"/>
            </a:xfrm>
          </p:grpSpPr>
          <p:sp>
            <p:nvSpPr>
              <p:cNvPr id="1674" name=""/>
              <p:cNvSpPr/>
              <p:nvPr/>
            </p:nvSpPr>
            <p:spPr>
              <a:xfrm>
                <a:off x="3666960" y="2259000"/>
                <a:ext cx="270000" cy="405000"/>
              </a:xfrm>
              <a:custGeom>
                <a:avLst/>
                <a:gdLst/>
                <a:ahLst/>
                <a:rect l="l" t="t" r="r" b="b"/>
                <a:pathLst>
                  <a:path w="170" h="255">
                    <a:moveTo>
                      <a:pt x="170" y="0"/>
                    </a:moveTo>
                    <a:lnTo>
                      <a:pt x="170" y="170"/>
                    </a:lnTo>
                    <a:lnTo>
                      <a:pt x="0" y="255"/>
                    </a:lnTo>
                    <a:lnTo>
                      <a:pt x="0" y="85"/>
                    </a:lnTo>
                    <a:lnTo>
                      <a:pt x="1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587680" y="1854360"/>
                <a:ext cx="1079280" cy="80964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340"/>
                    </a:moveTo>
                    <a:lnTo>
                      <a:pt x="680" y="510"/>
                    </a:lnTo>
                    <a:lnTo>
                      <a:pt x="0" y="170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585880" y="1719360"/>
                <a:ext cx="134964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7" name=""/>
          <p:cNvGrpSpPr/>
          <p:nvPr/>
        </p:nvGrpSpPr>
        <p:grpSpPr>
          <a:xfrm>
            <a:off x="2631960" y="907920"/>
            <a:ext cx="1349640" cy="1081080"/>
            <a:chOff x="2631960" y="907920"/>
            <a:chExt cx="1349640" cy="1081080"/>
          </a:xfrm>
        </p:grpSpPr>
        <p:grpSp>
          <p:nvGrpSpPr>
            <p:cNvPr id="1678" name=""/>
            <p:cNvGrpSpPr/>
            <p:nvPr/>
          </p:nvGrpSpPr>
          <p:grpSpPr>
            <a:xfrm>
              <a:off x="2631960" y="907920"/>
              <a:ext cx="1349640" cy="1079280"/>
              <a:chOff x="2631960" y="907920"/>
              <a:chExt cx="1349640" cy="1079280"/>
            </a:xfrm>
          </p:grpSpPr>
          <p:sp>
            <p:nvSpPr>
              <p:cNvPr id="1679" name=""/>
              <p:cNvSpPr/>
              <p:nvPr/>
            </p:nvSpPr>
            <p:spPr>
              <a:xfrm>
                <a:off x="2631960" y="1042920"/>
                <a:ext cx="1079640" cy="944280"/>
              </a:xfrm>
              <a:custGeom>
                <a:avLst/>
                <a:gdLst/>
                <a:ahLst/>
                <a:rect l="l" t="t" r="r" b="b"/>
                <a:pathLst>
                  <a:path w="680" h="595">
                    <a:moveTo>
                      <a:pt x="680" y="595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680" y="59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3711600" y="1447560"/>
                <a:ext cx="27000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340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631960" y="907920"/>
                <a:ext cx="134964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2" name=""/>
            <p:cNvGrpSpPr/>
            <p:nvPr/>
          </p:nvGrpSpPr>
          <p:grpSpPr>
            <a:xfrm>
              <a:off x="2631960" y="909720"/>
              <a:ext cx="1349640" cy="1079280"/>
              <a:chOff x="2631960" y="909720"/>
              <a:chExt cx="1349640" cy="1079280"/>
            </a:xfrm>
          </p:grpSpPr>
          <p:sp>
            <p:nvSpPr>
              <p:cNvPr id="1683" name=""/>
              <p:cNvSpPr/>
              <p:nvPr/>
            </p:nvSpPr>
            <p:spPr>
              <a:xfrm>
                <a:off x="2631960" y="1044720"/>
                <a:ext cx="1079640" cy="944280"/>
              </a:xfrm>
              <a:custGeom>
                <a:avLst/>
                <a:gdLst/>
                <a:ahLst/>
                <a:rect l="l" t="t" r="r" b="b"/>
                <a:pathLst>
                  <a:path w="680" h="595">
                    <a:moveTo>
                      <a:pt x="680" y="595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680" y="5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3711600" y="1449360"/>
                <a:ext cx="27000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340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631960" y="909720"/>
                <a:ext cx="134964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6" name=""/>
          <p:cNvGrpSpPr/>
          <p:nvPr/>
        </p:nvGrpSpPr>
        <p:grpSpPr>
          <a:xfrm>
            <a:off x="6411960" y="1041480"/>
            <a:ext cx="539640" cy="1352520"/>
            <a:chOff x="6411960" y="1041480"/>
            <a:chExt cx="539640" cy="1352520"/>
          </a:xfrm>
        </p:grpSpPr>
        <p:grpSp>
          <p:nvGrpSpPr>
            <p:cNvPr id="1687" name=""/>
            <p:cNvGrpSpPr/>
            <p:nvPr/>
          </p:nvGrpSpPr>
          <p:grpSpPr>
            <a:xfrm>
              <a:off x="6411960" y="1041480"/>
              <a:ext cx="539640" cy="1350360"/>
              <a:chOff x="6411960" y="1041480"/>
              <a:chExt cx="539640" cy="1350360"/>
            </a:xfrm>
          </p:grpSpPr>
          <p:sp>
            <p:nvSpPr>
              <p:cNvPr id="1688" name=""/>
              <p:cNvSpPr/>
              <p:nvPr/>
            </p:nvSpPr>
            <p:spPr>
              <a:xfrm>
                <a:off x="6411960" y="1177560"/>
                <a:ext cx="269640" cy="121428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6681600" y="1177560"/>
                <a:ext cx="270000" cy="121428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0" y="765"/>
                    </a:moveTo>
                    <a:lnTo>
                      <a:pt x="170" y="680"/>
                    </a:lnTo>
                    <a:lnTo>
                      <a:pt x="170" y="0"/>
                    </a:lnTo>
                    <a:lnTo>
                      <a:pt x="0" y="85"/>
                    </a:lnTo>
                    <a:lnTo>
                      <a:pt x="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6411960" y="1041480"/>
                <a:ext cx="539640" cy="271080"/>
              </a:xfrm>
              <a:custGeom>
                <a:avLst/>
                <a:gdLst/>
                <a:ahLst/>
                <a:rect l="l" t="t" r="r" b="b"/>
                <a:pathLst>
                  <a:path w="340" h="171">
                    <a:moveTo>
                      <a:pt x="340" y="86"/>
                    </a:moveTo>
                    <a:lnTo>
                      <a:pt x="170" y="0"/>
                    </a:lnTo>
                    <a:lnTo>
                      <a:pt x="0" y="86"/>
                    </a:lnTo>
                    <a:lnTo>
                      <a:pt x="170" y="171"/>
                    </a:lnTo>
                    <a:lnTo>
                      <a:pt x="340" y="8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"/>
            <p:cNvGrpSpPr/>
            <p:nvPr/>
          </p:nvGrpSpPr>
          <p:grpSpPr>
            <a:xfrm>
              <a:off x="6411960" y="1042920"/>
              <a:ext cx="539640" cy="1351080"/>
              <a:chOff x="6411960" y="1042920"/>
              <a:chExt cx="539640" cy="1351080"/>
            </a:xfrm>
          </p:grpSpPr>
          <p:sp>
            <p:nvSpPr>
              <p:cNvPr id="1692" name=""/>
              <p:cNvSpPr/>
              <p:nvPr/>
            </p:nvSpPr>
            <p:spPr>
              <a:xfrm>
                <a:off x="6411960" y="1179360"/>
                <a:ext cx="269640" cy="121464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6681600" y="1179360"/>
                <a:ext cx="270000" cy="121464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0" y="765"/>
                    </a:moveTo>
                    <a:lnTo>
                      <a:pt x="170" y="680"/>
                    </a:lnTo>
                    <a:lnTo>
                      <a:pt x="170" y="0"/>
                    </a:lnTo>
                    <a:lnTo>
                      <a:pt x="0" y="85"/>
                    </a:lnTo>
                    <a:lnTo>
                      <a:pt x="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411960" y="1042920"/>
                <a:ext cx="539640" cy="271440"/>
              </a:xfrm>
              <a:custGeom>
                <a:avLst/>
                <a:gdLst/>
                <a:ahLst/>
                <a:rect l="l" t="t" r="r" b="b"/>
                <a:pathLst>
                  <a:path w="340" h="171">
                    <a:moveTo>
                      <a:pt x="340" y="86"/>
                    </a:moveTo>
                    <a:lnTo>
                      <a:pt x="170" y="0"/>
                    </a:lnTo>
                    <a:lnTo>
                      <a:pt x="0" y="86"/>
                    </a:lnTo>
                    <a:lnTo>
                      <a:pt x="170" y="171"/>
                    </a:lnTo>
                    <a:lnTo>
                      <a:pt x="340" y="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5" name=""/>
          <p:cNvGrpSpPr/>
          <p:nvPr/>
        </p:nvGrpSpPr>
        <p:grpSpPr>
          <a:xfrm>
            <a:off x="7042320" y="952560"/>
            <a:ext cx="811080" cy="1487520"/>
            <a:chOff x="7042320" y="952560"/>
            <a:chExt cx="811080" cy="1487520"/>
          </a:xfrm>
        </p:grpSpPr>
        <p:grpSp>
          <p:nvGrpSpPr>
            <p:cNvPr id="1696" name=""/>
            <p:cNvGrpSpPr/>
            <p:nvPr/>
          </p:nvGrpSpPr>
          <p:grpSpPr>
            <a:xfrm>
              <a:off x="7042320" y="952560"/>
              <a:ext cx="811080" cy="1485360"/>
              <a:chOff x="7042320" y="952560"/>
              <a:chExt cx="811080" cy="1485360"/>
            </a:xfrm>
          </p:grpSpPr>
          <p:sp>
            <p:nvSpPr>
              <p:cNvPr id="1697" name=""/>
              <p:cNvSpPr/>
              <p:nvPr/>
            </p:nvSpPr>
            <p:spPr>
              <a:xfrm>
                <a:off x="7042320" y="1223640"/>
                <a:ext cx="269640" cy="121428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7042320" y="952560"/>
                <a:ext cx="811080" cy="406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7311960" y="1087200"/>
                <a:ext cx="541080" cy="135072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"/>
            <p:cNvGrpSpPr/>
            <p:nvPr/>
          </p:nvGrpSpPr>
          <p:grpSpPr>
            <a:xfrm>
              <a:off x="7042320" y="954000"/>
              <a:ext cx="811080" cy="1486080"/>
              <a:chOff x="7042320" y="954000"/>
              <a:chExt cx="811080" cy="1486080"/>
            </a:xfrm>
          </p:grpSpPr>
          <p:sp>
            <p:nvSpPr>
              <p:cNvPr id="1701" name=""/>
              <p:cNvSpPr/>
              <p:nvPr/>
            </p:nvSpPr>
            <p:spPr>
              <a:xfrm>
                <a:off x="7042320" y="1225440"/>
                <a:ext cx="269640" cy="121464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042320" y="954000"/>
                <a:ext cx="811080" cy="40644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311960" y="1089000"/>
                <a:ext cx="541080" cy="135108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4" name=""/>
          <p:cNvGrpSpPr/>
          <p:nvPr/>
        </p:nvGrpSpPr>
        <p:grpSpPr>
          <a:xfrm>
            <a:off x="7986600" y="1403280"/>
            <a:ext cx="811440" cy="946080"/>
            <a:chOff x="7986600" y="1403280"/>
            <a:chExt cx="811440" cy="946080"/>
          </a:xfrm>
        </p:grpSpPr>
        <p:grpSp>
          <p:nvGrpSpPr>
            <p:cNvPr id="1705" name=""/>
            <p:cNvGrpSpPr/>
            <p:nvPr/>
          </p:nvGrpSpPr>
          <p:grpSpPr>
            <a:xfrm>
              <a:off x="7986600" y="1403280"/>
              <a:ext cx="811440" cy="944280"/>
              <a:chOff x="7986600" y="1403280"/>
              <a:chExt cx="811440" cy="944280"/>
            </a:xfrm>
          </p:grpSpPr>
          <p:sp>
            <p:nvSpPr>
              <p:cNvPr id="1706" name=""/>
              <p:cNvSpPr/>
              <p:nvPr/>
            </p:nvSpPr>
            <p:spPr>
              <a:xfrm>
                <a:off x="8256600" y="1537920"/>
                <a:ext cx="541440" cy="80964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986600" y="1672920"/>
                <a:ext cx="270000" cy="67464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986600" y="1403280"/>
                <a:ext cx="811440" cy="406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7986600" y="1405080"/>
              <a:ext cx="811440" cy="944280"/>
              <a:chOff x="7986600" y="1405080"/>
              <a:chExt cx="811440" cy="944280"/>
            </a:xfrm>
          </p:grpSpPr>
          <p:sp>
            <p:nvSpPr>
              <p:cNvPr id="1710" name=""/>
              <p:cNvSpPr/>
              <p:nvPr/>
            </p:nvSpPr>
            <p:spPr>
              <a:xfrm>
                <a:off x="8256600" y="1539720"/>
                <a:ext cx="541440" cy="80964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986600" y="1674720"/>
                <a:ext cx="270000" cy="67464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986600" y="1405080"/>
                <a:ext cx="811440" cy="406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3" name=""/>
          <p:cNvGrpSpPr/>
          <p:nvPr/>
        </p:nvGrpSpPr>
        <p:grpSpPr>
          <a:xfrm>
            <a:off x="6411960" y="2581200"/>
            <a:ext cx="274680" cy="689040"/>
            <a:chOff x="6411960" y="2581200"/>
            <a:chExt cx="274680" cy="689040"/>
          </a:xfrm>
        </p:grpSpPr>
        <p:grpSp>
          <p:nvGrpSpPr>
            <p:cNvPr id="1714" name=""/>
            <p:cNvGrpSpPr/>
            <p:nvPr/>
          </p:nvGrpSpPr>
          <p:grpSpPr>
            <a:xfrm>
              <a:off x="6411960" y="2581200"/>
              <a:ext cx="274680" cy="687240"/>
              <a:chOff x="6411960" y="2581200"/>
              <a:chExt cx="274680" cy="687240"/>
            </a:xfrm>
          </p:grpSpPr>
          <p:sp>
            <p:nvSpPr>
              <p:cNvPr id="1715" name=""/>
              <p:cNvSpPr/>
              <p:nvPr/>
            </p:nvSpPr>
            <p:spPr>
              <a:xfrm>
                <a:off x="6411960" y="2651040"/>
                <a:ext cx="13788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549840" y="2651040"/>
                <a:ext cx="13680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0" y="765"/>
                    </a:moveTo>
                    <a:lnTo>
                      <a:pt x="170" y="680"/>
                    </a:lnTo>
                    <a:lnTo>
                      <a:pt x="170" y="0"/>
                    </a:lnTo>
                    <a:lnTo>
                      <a:pt x="0" y="85"/>
                    </a:lnTo>
                    <a:lnTo>
                      <a:pt x="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411960" y="2581200"/>
                <a:ext cx="274680" cy="137880"/>
              </a:xfrm>
              <a:custGeom>
                <a:avLst/>
                <a:gdLst/>
                <a:ahLst/>
                <a:rect l="l" t="t" r="r" b="b"/>
                <a:pathLst>
                  <a:path w="340" h="171">
                    <a:moveTo>
                      <a:pt x="340" y="86"/>
                    </a:moveTo>
                    <a:lnTo>
                      <a:pt x="170" y="0"/>
                    </a:lnTo>
                    <a:lnTo>
                      <a:pt x="0" y="86"/>
                    </a:lnTo>
                    <a:lnTo>
                      <a:pt x="170" y="171"/>
                    </a:lnTo>
                    <a:lnTo>
                      <a:pt x="340" y="8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6411960" y="2583000"/>
              <a:ext cx="274680" cy="687240"/>
              <a:chOff x="6411960" y="2583000"/>
              <a:chExt cx="274680" cy="687240"/>
            </a:xfrm>
          </p:grpSpPr>
          <p:sp>
            <p:nvSpPr>
              <p:cNvPr id="1719" name=""/>
              <p:cNvSpPr/>
              <p:nvPr/>
            </p:nvSpPr>
            <p:spPr>
              <a:xfrm>
                <a:off x="6411960" y="2652840"/>
                <a:ext cx="13788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6549840" y="2652840"/>
                <a:ext cx="13680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0" y="765"/>
                    </a:moveTo>
                    <a:lnTo>
                      <a:pt x="170" y="680"/>
                    </a:lnTo>
                    <a:lnTo>
                      <a:pt x="170" y="0"/>
                    </a:lnTo>
                    <a:lnTo>
                      <a:pt x="0" y="85"/>
                    </a:lnTo>
                    <a:lnTo>
                      <a:pt x="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6411960" y="2583000"/>
                <a:ext cx="274680" cy="137880"/>
              </a:xfrm>
              <a:custGeom>
                <a:avLst/>
                <a:gdLst/>
                <a:ahLst/>
                <a:rect l="l" t="t" r="r" b="b"/>
                <a:pathLst>
                  <a:path w="340" h="171">
                    <a:moveTo>
                      <a:pt x="340" y="86"/>
                    </a:moveTo>
                    <a:lnTo>
                      <a:pt x="170" y="0"/>
                    </a:lnTo>
                    <a:lnTo>
                      <a:pt x="0" y="86"/>
                    </a:lnTo>
                    <a:lnTo>
                      <a:pt x="170" y="171"/>
                    </a:lnTo>
                    <a:lnTo>
                      <a:pt x="340" y="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2" name=""/>
          <p:cNvGrpSpPr/>
          <p:nvPr/>
        </p:nvGrpSpPr>
        <p:grpSpPr>
          <a:xfrm>
            <a:off x="6732720" y="2536920"/>
            <a:ext cx="412560" cy="757080"/>
            <a:chOff x="6732720" y="2536920"/>
            <a:chExt cx="412560" cy="757080"/>
          </a:xfrm>
        </p:grpSpPr>
        <p:grpSp>
          <p:nvGrpSpPr>
            <p:cNvPr id="1723" name=""/>
            <p:cNvGrpSpPr/>
            <p:nvPr/>
          </p:nvGrpSpPr>
          <p:grpSpPr>
            <a:xfrm>
              <a:off x="6732720" y="2536920"/>
              <a:ext cx="412560" cy="755640"/>
              <a:chOff x="6732720" y="2536920"/>
              <a:chExt cx="412560" cy="755640"/>
            </a:xfrm>
          </p:grpSpPr>
          <p:sp>
            <p:nvSpPr>
              <p:cNvPr id="1724" name=""/>
              <p:cNvSpPr/>
              <p:nvPr/>
            </p:nvSpPr>
            <p:spPr>
              <a:xfrm>
                <a:off x="6732720" y="2675160"/>
                <a:ext cx="13788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6732720" y="2536920"/>
                <a:ext cx="412560" cy="2062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870600" y="2605320"/>
                <a:ext cx="274680" cy="68724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6732720" y="2538360"/>
              <a:ext cx="412560" cy="755640"/>
              <a:chOff x="6732720" y="2538360"/>
              <a:chExt cx="412560" cy="755640"/>
            </a:xfrm>
          </p:grpSpPr>
          <p:sp>
            <p:nvSpPr>
              <p:cNvPr id="1728" name=""/>
              <p:cNvSpPr/>
              <p:nvPr/>
            </p:nvSpPr>
            <p:spPr>
              <a:xfrm>
                <a:off x="6732720" y="2676600"/>
                <a:ext cx="13788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6732720" y="2538360"/>
                <a:ext cx="412560" cy="2062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6870600" y="2606760"/>
                <a:ext cx="274680" cy="68724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1" name=""/>
          <p:cNvGrpSpPr/>
          <p:nvPr/>
        </p:nvGrpSpPr>
        <p:grpSpPr>
          <a:xfrm>
            <a:off x="7213680" y="2765520"/>
            <a:ext cx="412560" cy="482400"/>
            <a:chOff x="7213680" y="2765520"/>
            <a:chExt cx="412560" cy="482400"/>
          </a:xfrm>
        </p:grpSpPr>
        <p:grpSp>
          <p:nvGrpSpPr>
            <p:cNvPr id="1732" name=""/>
            <p:cNvGrpSpPr/>
            <p:nvPr/>
          </p:nvGrpSpPr>
          <p:grpSpPr>
            <a:xfrm>
              <a:off x="7213680" y="2765520"/>
              <a:ext cx="412560" cy="480960"/>
              <a:chOff x="7213680" y="2765520"/>
              <a:chExt cx="412560" cy="480960"/>
            </a:xfrm>
          </p:grpSpPr>
          <p:sp>
            <p:nvSpPr>
              <p:cNvPr id="1733" name=""/>
              <p:cNvSpPr/>
              <p:nvPr/>
            </p:nvSpPr>
            <p:spPr>
              <a:xfrm>
                <a:off x="7350120" y="2835360"/>
                <a:ext cx="276120" cy="41112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213680" y="2903760"/>
                <a:ext cx="136440" cy="34272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7213680" y="2765520"/>
                <a:ext cx="412560" cy="208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6" name=""/>
            <p:cNvGrpSpPr/>
            <p:nvPr/>
          </p:nvGrpSpPr>
          <p:grpSpPr>
            <a:xfrm>
              <a:off x="7213680" y="2766960"/>
              <a:ext cx="412560" cy="480960"/>
              <a:chOff x="7213680" y="2766960"/>
              <a:chExt cx="412560" cy="480960"/>
            </a:xfrm>
          </p:grpSpPr>
          <p:sp>
            <p:nvSpPr>
              <p:cNvPr id="1737" name=""/>
              <p:cNvSpPr/>
              <p:nvPr/>
            </p:nvSpPr>
            <p:spPr>
              <a:xfrm>
                <a:off x="7350120" y="2836800"/>
                <a:ext cx="276120" cy="41112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213680" y="2905200"/>
                <a:ext cx="136440" cy="34272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213680" y="2766960"/>
                <a:ext cx="412560" cy="208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dd7c"/>
                  </a:gs>
                  <a:gs pos="100000">
                    <a:srgbClr val="33cc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0" name=""/>
          <p:cNvGrpSpPr/>
          <p:nvPr/>
        </p:nvGrpSpPr>
        <p:grpSpPr>
          <a:xfrm>
            <a:off x="372960" y="5753160"/>
            <a:ext cx="809640" cy="541080"/>
            <a:chOff x="372960" y="5753160"/>
            <a:chExt cx="809640" cy="541080"/>
          </a:xfrm>
        </p:grpSpPr>
        <p:grpSp>
          <p:nvGrpSpPr>
            <p:cNvPr id="1741" name=""/>
            <p:cNvGrpSpPr/>
            <p:nvPr/>
          </p:nvGrpSpPr>
          <p:grpSpPr>
            <a:xfrm>
              <a:off x="372960" y="5753160"/>
              <a:ext cx="809640" cy="539640"/>
              <a:chOff x="372960" y="5753160"/>
              <a:chExt cx="809640" cy="539640"/>
            </a:xfrm>
          </p:grpSpPr>
          <p:sp>
            <p:nvSpPr>
              <p:cNvPr id="1742" name=""/>
              <p:cNvSpPr/>
              <p:nvPr/>
            </p:nvSpPr>
            <p:spPr>
              <a:xfrm>
                <a:off x="912600" y="6022800"/>
                <a:ext cx="270000" cy="27000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0" y="340"/>
                    </a:moveTo>
                    <a:lnTo>
                      <a:pt x="0" y="170"/>
                    </a:lnTo>
                    <a:lnTo>
                      <a:pt x="340" y="0"/>
                    </a:lnTo>
                    <a:lnTo>
                      <a:pt x="340" y="170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72960" y="5887800"/>
                <a:ext cx="539640" cy="40500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51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680" y="340"/>
                    </a:lnTo>
                    <a:lnTo>
                      <a:pt x="680" y="51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72960" y="5753160"/>
                <a:ext cx="809640" cy="40464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5" name=""/>
            <p:cNvGrpSpPr/>
            <p:nvPr/>
          </p:nvGrpSpPr>
          <p:grpSpPr>
            <a:xfrm>
              <a:off x="372960" y="5754600"/>
              <a:ext cx="809640" cy="539640"/>
              <a:chOff x="372960" y="5754600"/>
              <a:chExt cx="809640" cy="539640"/>
            </a:xfrm>
          </p:grpSpPr>
          <p:sp>
            <p:nvSpPr>
              <p:cNvPr id="1746" name=""/>
              <p:cNvSpPr/>
              <p:nvPr/>
            </p:nvSpPr>
            <p:spPr>
              <a:xfrm>
                <a:off x="912600" y="6024240"/>
                <a:ext cx="270000" cy="27000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0" y="340"/>
                    </a:moveTo>
                    <a:lnTo>
                      <a:pt x="0" y="170"/>
                    </a:lnTo>
                    <a:lnTo>
                      <a:pt x="340" y="0"/>
                    </a:lnTo>
                    <a:lnTo>
                      <a:pt x="340" y="170"/>
                    </a:lnTo>
                    <a:lnTo>
                      <a:pt x="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72960" y="5889240"/>
                <a:ext cx="539640" cy="40500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51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680" y="340"/>
                    </a:lnTo>
                    <a:lnTo>
                      <a:pt x="68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372960" y="5754600"/>
                <a:ext cx="809640" cy="40464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9" name=""/>
          <p:cNvGrpSpPr/>
          <p:nvPr/>
        </p:nvGrpSpPr>
        <p:grpSpPr>
          <a:xfrm>
            <a:off x="326880" y="5030640"/>
            <a:ext cx="811080" cy="677520"/>
            <a:chOff x="326880" y="5030640"/>
            <a:chExt cx="811080" cy="677520"/>
          </a:xfrm>
        </p:grpSpPr>
        <p:grpSp>
          <p:nvGrpSpPr>
            <p:cNvPr id="1750" name=""/>
            <p:cNvGrpSpPr/>
            <p:nvPr/>
          </p:nvGrpSpPr>
          <p:grpSpPr>
            <a:xfrm>
              <a:off x="326880" y="5030640"/>
              <a:ext cx="811080" cy="676440"/>
              <a:chOff x="326880" y="5030640"/>
              <a:chExt cx="811080" cy="676440"/>
            </a:xfrm>
          </p:grpSpPr>
          <p:sp>
            <p:nvSpPr>
              <p:cNvPr id="1751" name=""/>
              <p:cNvSpPr/>
              <p:nvPr/>
            </p:nvSpPr>
            <p:spPr>
              <a:xfrm>
                <a:off x="868320" y="5302080"/>
                <a:ext cx="269640" cy="405000"/>
              </a:xfrm>
              <a:custGeom>
                <a:avLst/>
                <a:gdLst/>
                <a:ahLst/>
                <a:rect l="l" t="t" r="r" b="b"/>
                <a:pathLst>
                  <a:path w="170" h="255">
                    <a:moveTo>
                      <a:pt x="0" y="255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170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28320" y="5167080"/>
                <a:ext cx="540000" cy="54000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340" y="34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340" y="170"/>
                    </a:lnTo>
                    <a:lnTo>
                      <a:pt x="34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26880" y="5030640"/>
                <a:ext cx="809640" cy="40500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4" name=""/>
            <p:cNvGrpSpPr/>
            <p:nvPr/>
          </p:nvGrpSpPr>
          <p:grpSpPr>
            <a:xfrm>
              <a:off x="326880" y="5032440"/>
              <a:ext cx="811080" cy="675720"/>
              <a:chOff x="326880" y="5032440"/>
              <a:chExt cx="811080" cy="675720"/>
            </a:xfrm>
          </p:grpSpPr>
          <p:sp>
            <p:nvSpPr>
              <p:cNvPr id="1755" name=""/>
              <p:cNvSpPr/>
              <p:nvPr/>
            </p:nvSpPr>
            <p:spPr>
              <a:xfrm>
                <a:off x="868320" y="5303520"/>
                <a:ext cx="269640" cy="404640"/>
              </a:xfrm>
              <a:custGeom>
                <a:avLst/>
                <a:gdLst/>
                <a:ahLst/>
                <a:rect l="l" t="t" r="r" b="b"/>
                <a:pathLst>
                  <a:path w="170" h="255">
                    <a:moveTo>
                      <a:pt x="0" y="255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170"/>
                    </a:lnTo>
                    <a:lnTo>
                      <a:pt x="0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28320" y="5168520"/>
                <a:ext cx="540000" cy="539640"/>
              </a:xfrm>
              <a:custGeom>
                <a:avLst/>
                <a:gdLst/>
                <a:ahLst/>
                <a:rect l="l" t="t" r="r" b="b"/>
                <a:pathLst>
                  <a:path w="340" h="340">
                    <a:moveTo>
                      <a:pt x="340" y="340"/>
                    </a:moveTo>
                    <a:lnTo>
                      <a:pt x="0" y="170"/>
                    </a:lnTo>
                    <a:lnTo>
                      <a:pt x="0" y="0"/>
                    </a:lnTo>
                    <a:lnTo>
                      <a:pt x="340" y="170"/>
                    </a:lnTo>
                    <a:lnTo>
                      <a:pt x="34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26880" y="5032440"/>
                <a:ext cx="809640" cy="40464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58" name=""/>
          <p:cNvGrpSpPr/>
          <p:nvPr/>
        </p:nvGrpSpPr>
        <p:grpSpPr>
          <a:xfrm>
            <a:off x="326880" y="4221000"/>
            <a:ext cx="809640" cy="811440"/>
            <a:chOff x="326880" y="4221000"/>
            <a:chExt cx="809640" cy="811440"/>
          </a:xfrm>
        </p:grpSpPr>
        <p:grpSp>
          <p:nvGrpSpPr>
            <p:cNvPr id="1759" name=""/>
            <p:cNvGrpSpPr/>
            <p:nvPr/>
          </p:nvGrpSpPr>
          <p:grpSpPr>
            <a:xfrm>
              <a:off x="326880" y="4221000"/>
              <a:ext cx="809640" cy="809640"/>
              <a:chOff x="326880" y="4221000"/>
              <a:chExt cx="809640" cy="809640"/>
            </a:xfrm>
          </p:grpSpPr>
          <p:sp>
            <p:nvSpPr>
              <p:cNvPr id="1760" name=""/>
              <p:cNvSpPr/>
              <p:nvPr/>
            </p:nvSpPr>
            <p:spPr>
              <a:xfrm>
                <a:off x="326880" y="4221000"/>
                <a:ext cx="809640" cy="40500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26880" y="4356000"/>
                <a:ext cx="539640" cy="674640"/>
              </a:xfrm>
              <a:custGeom>
                <a:avLst/>
                <a:gdLst/>
                <a:ahLst/>
                <a:rect l="l" t="t" r="r" b="b"/>
                <a:pathLst>
                  <a:path w="340" h="425">
                    <a:moveTo>
                      <a:pt x="340" y="425"/>
                    </a:moveTo>
                    <a:lnTo>
                      <a:pt x="340" y="17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340" y="42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866520" y="4491000"/>
                <a:ext cx="27000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85"/>
                    </a:move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"/>
            <p:cNvGrpSpPr/>
            <p:nvPr/>
          </p:nvGrpSpPr>
          <p:grpSpPr>
            <a:xfrm>
              <a:off x="326880" y="4222800"/>
              <a:ext cx="809640" cy="809640"/>
              <a:chOff x="326880" y="4222800"/>
              <a:chExt cx="809640" cy="809640"/>
            </a:xfrm>
          </p:grpSpPr>
          <p:sp>
            <p:nvSpPr>
              <p:cNvPr id="1764" name=""/>
              <p:cNvSpPr/>
              <p:nvPr/>
            </p:nvSpPr>
            <p:spPr>
              <a:xfrm>
                <a:off x="326880" y="4222800"/>
                <a:ext cx="809640" cy="40500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1020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26880" y="4357800"/>
                <a:ext cx="539640" cy="674640"/>
              </a:xfrm>
              <a:custGeom>
                <a:avLst/>
                <a:gdLst/>
                <a:ahLst/>
                <a:rect l="l" t="t" r="r" b="b"/>
                <a:pathLst>
                  <a:path w="340" h="425">
                    <a:moveTo>
                      <a:pt x="340" y="425"/>
                    </a:moveTo>
                    <a:lnTo>
                      <a:pt x="340" y="17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340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866520" y="4492800"/>
                <a:ext cx="27000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85"/>
                    </a:move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lnTo>
                      <a:pt x="0" y="8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7" name=""/>
          <p:cNvGrpSpPr/>
          <p:nvPr/>
        </p:nvGrpSpPr>
        <p:grpSpPr>
          <a:xfrm>
            <a:off x="1362240" y="5618160"/>
            <a:ext cx="1081080" cy="676080"/>
            <a:chOff x="1362240" y="5618160"/>
            <a:chExt cx="1081080" cy="676080"/>
          </a:xfrm>
        </p:grpSpPr>
        <p:grpSp>
          <p:nvGrpSpPr>
            <p:cNvPr id="1768" name=""/>
            <p:cNvGrpSpPr/>
            <p:nvPr/>
          </p:nvGrpSpPr>
          <p:grpSpPr>
            <a:xfrm>
              <a:off x="1362240" y="5618160"/>
              <a:ext cx="1081080" cy="674640"/>
              <a:chOff x="1362240" y="5618160"/>
              <a:chExt cx="1081080" cy="674640"/>
            </a:xfrm>
          </p:grpSpPr>
          <p:sp>
            <p:nvSpPr>
              <p:cNvPr id="1769" name=""/>
              <p:cNvSpPr/>
              <p:nvPr/>
            </p:nvSpPr>
            <p:spPr>
              <a:xfrm>
                <a:off x="1901880" y="5887800"/>
                <a:ext cx="54144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362240" y="5887800"/>
                <a:ext cx="539640" cy="405000"/>
              </a:xfrm>
              <a:custGeom>
                <a:avLst/>
                <a:gdLst/>
                <a:ahLst/>
                <a:rect l="l" t="t" r="r" b="b"/>
                <a:pathLst>
                  <a:path w="340" h="255">
                    <a:moveTo>
                      <a:pt x="340" y="170"/>
                    </a:moveTo>
                    <a:lnTo>
                      <a:pt x="340" y="25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340" y="17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1362240" y="561816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2" name=""/>
            <p:cNvGrpSpPr/>
            <p:nvPr/>
          </p:nvGrpSpPr>
          <p:grpSpPr>
            <a:xfrm>
              <a:off x="1362240" y="5619600"/>
              <a:ext cx="1081080" cy="674640"/>
              <a:chOff x="1362240" y="5619600"/>
              <a:chExt cx="1081080" cy="674640"/>
            </a:xfrm>
          </p:grpSpPr>
          <p:sp>
            <p:nvSpPr>
              <p:cNvPr id="1773" name=""/>
              <p:cNvSpPr/>
              <p:nvPr/>
            </p:nvSpPr>
            <p:spPr>
              <a:xfrm>
                <a:off x="1901880" y="5889240"/>
                <a:ext cx="54144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1362240" y="5889240"/>
                <a:ext cx="539640" cy="405000"/>
              </a:xfrm>
              <a:custGeom>
                <a:avLst/>
                <a:gdLst/>
                <a:ahLst/>
                <a:rect l="l" t="t" r="r" b="b"/>
                <a:pathLst>
                  <a:path w="340" h="255">
                    <a:moveTo>
                      <a:pt x="340" y="170"/>
                    </a:moveTo>
                    <a:lnTo>
                      <a:pt x="340" y="25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340" y="1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1362240" y="561960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76" name=""/>
          <p:cNvGrpSpPr/>
          <p:nvPr/>
        </p:nvGrpSpPr>
        <p:grpSpPr>
          <a:xfrm>
            <a:off x="1362240" y="4764240"/>
            <a:ext cx="1081080" cy="809640"/>
            <a:chOff x="1362240" y="4764240"/>
            <a:chExt cx="1081080" cy="809640"/>
          </a:xfrm>
        </p:grpSpPr>
        <p:sp>
          <p:nvSpPr>
            <p:cNvPr id="1777" name=""/>
            <p:cNvSpPr/>
            <p:nvPr/>
          </p:nvSpPr>
          <p:spPr>
            <a:xfrm>
              <a:off x="1362240" y="4764240"/>
              <a:ext cx="1081080" cy="539640"/>
            </a:xfrm>
            <a:custGeom>
              <a:avLst/>
              <a:gdLst/>
              <a:ahLst/>
              <a:rect l="l" t="t" r="r" b="b"/>
              <a:pathLst>
                <a:path w="681" h="340">
                  <a:moveTo>
                    <a:pt x="340" y="0"/>
                  </a:moveTo>
                  <a:lnTo>
                    <a:pt x="0" y="170"/>
                  </a:lnTo>
                  <a:lnTo>
                    <a:pt x="340" y="340"/>
                  </a:lnTo>
                  <a:lnTo>
                    <a:pt x="681" y="170"/>
                  </a:lnTo>
                  <a:lnTo>
                    <a:pt x="340" y="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901880" y="5034240"/>
              <a:ext cx="541440" cy="539640"/>
            </a:xfrm>
            <a:custGeom>
              <a:avLst/>
              <a:gdLst/>
              <a:ahLst/>
              <a:rect l="l" t="t" r="r" b="b"/>
              <a:pathLst>
                <a:path w="341" h="340">
                  <a:moveTo>
                    <a:pt x="0" y="170"/>
                  </a:moveTo>
                  <a:lnTo>
                    <a:pt x="341" y="0"/>
                  </a:lnTo>
                  <a:lnTo>
                    <a:pt x="341" y="170"/>
                  </a:lnTo>
                  <a:lnTo>
                    <a:pt x="0" y="340"/>
                  </a:lnTo>
                  <a:lnTo>
                    <a:pt x="0" y="17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362240" y="503424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34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340" y="170"/>
                  </a:lnTo>
                  <a:lnTo>
                    <a:pt x="34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1362240" y="3727440"/>
            <a:ext cx="1081080" cy="945720"/>
            <a:chOff x="1362240" y="3727440"/>
            <a:chExt cx="1081080" cy="945720"/>
          </a:xfrm>
        </p:grpSpPr>
        <p:grpSp>
          <p:nvGrpSpPr>
            <p:cNvPr id="1781" name=""/>
            <p:cNvGrpSpPr/>
            <p:nvPr/>
          </p:nvGrpSpPr>
          <p:grpSpPr>
            <a:xfrm>
              <a:off x="1362240" y="3727440"/>
              <a:ext cx="1081080" cy="944280"/>
              <a:chOff x="1362240" y="3727440"/>
              <a:chExt cx="1081080" cy="944280"/>
            </a:xfrm>
          </p:grpSpPr>
          <p:sp>
            <p:nvSpPr>
              <p:cNvPr id="1782" name=""/>
              <p:cNvSpPr/>
              <p:nvPr/>
            </p:nvSpPr>
            <p:spPr>
              <a:xfrm>
                <a:off x="1362240" y="372744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362240" y="3997080"/>
                <a:ext cx="539640" cy="674640"/>
              </a:xfrm>
              <a:custGeom>
                <a:avLst/>
                <a:gdLst/>
                <a:ahLst/>
                <a:rect l="l" t="t" r="r" b="b"/>
                <a:pathLst>
                  <a:path w="340" h="425">
                    <a:moveTo>
                      <a:pt x="0" y="0"/>
                    </a:moveTo>
                    <a:lnTo>
                      <a:pt x="340" y="170"/>
                    </a:lnTo>
                    <a:lnTo>
                      <a:pt x="340" y="425"/>
                    </a:lnTo>
                    <a:lnTo>
                      <a:pt x="0" y="2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1901880" y="3997080"/>
                <a:ext cx="541440" cy="674640"/>
              </a:xfrm>
              <a:custGeom>
                <a:avLst/>
                <a:gdLst/>
                <a:ahLst/>
                <a:rect l="l" t="t" r="r" b="b"/>
                <a:pathLst>
                  <a:path w="341" h="425">
                    <a:moveTo>
                      <a:pt x="341" y="0"/>
                    </a:moveTo>
                    <a:lnTo>
                      <a:pt x="341" y="255"/>
                    </a:lnTo>
                    <a:lnTo>
                      <a:pt x="0" y="425"/>
                    </a:lnTo>
                    <a:lnTo>
                      <a:pt x="0" y="170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5" name=""/>
            <p:cNvGrpSpPr/>
            <p:nvPr/>
          </p:nvGrpSpPr>
          <p:grpSpPr>
            <a:xfrm>
              <a:off x="1362240" y="3728880"/>
              <a:ext cx="1081080" cy="944280"/>
              <a:chOff x="1362240" y="3728880"/>
              <a:chExt cx="1081080" cy="944280"/>
            </a:xfrm>
          </p:grpSpPr>
          <p:sp>
            <p:nvSpPr>
              <p:cNvPr id="1786" name=""/>
              <p:cNvSpPr/>
              <p:nvPr/>
            </p:nvSpPr>
            <p:spPr>
              <a:xfrm>
                <a:off x="1362240" y="3728880"/>
                <a:ext cx="1081080" cy="539640"/>
              </a:xfrm>
              <a:custGeom>
                <a:avLst/>
                <a:gdLst/>
                <a:ahLst/>
                <a:rect l="l" t="t" r="r" b="b"/>
                <a:pathLst>
                  <a:path w="681" h="340">
                    <a:moveTo>
                      <a:pt x="340" y="0"/>
                    </a:moveTo>
                    <a:lnTo>
                      <a:pt x="0" y="170"/>
                    </a:lnTo>
                    <a:lnTo>
                      <a:pt x="340" y="340"/>
                    </a:lnTo>
                    <a:lnTo>
                      <a:pt x="681" y="170"/>
                    </a:lnTo>
                    <a:lnTo>
                      <a:pt x="3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1362240" y="3998520"/>
                <a:ext cx="539640" cy="674640"/>
              </a:xfrm>
              <a:custGeom>
                <a:avLst/>
                <a:gdLst/>
                <a:ahLst/>
                <a:rect l="l" t="t" r="r" b="b"/>
                <a:pathLst>
                  <a:path w="340" h="425">
                    <a:moveTo>
                      <a:pt x="0" y="0"/>
                    </a:moveTo>
                    <a:lnTo>
                      <a:pt x="340" y="170"/>
                    </a:lnTo>
                    <a:lnTo>
                      <a:pt x="340" y="425"/>
                    </a:lnTo>
                    <a:lnTo>
                      <a:pt x="0" y="25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1901880" y="3998520"/>
                <a:ext cx="541440" cy="674640"/>
              </a:xfrm>
              <a:custGeom>
                <a:avLst/>
                <a:gdLst/>
                <a:ahLst/>
                <a:rect l="l" t="t" r="r" b="b"/>
                <a:pathLst>
                  <a:path w="341" h="425">
                    <a:moveTo>
                      <a:pt x="341" y="0"/>
                    </a:moveTo>
                    <a:lnTo>
                      <a:pt x="341" y="255"/>
                    </a:lnTo>
                    <a:lnTo>
                      <a:pt x="0" y="425"/>
                    </a:lnTo>
                    <a:lnTo>
                      <a:pt x="0" y="170"/>
                    </a:lnTo>
                    <a:lnTo>
                      <a:pt x="3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89" name=""/>
          <p:cNvGrpSpPr/>
          <p:nvPr/>
        </p:nvGrpSpPr>
        <p:grpSpPr>
          <a:xfrm>
            <a:off x="4287960" y="5348160"/>
            <a:ext cx="1620720" cy="946440"/>
            <a:chOff x="4287960" y="5348160"/>
            <a:chExt cx="1620720" cy="946440"/>
          </a:xfrm>
        </p:grpSpPr>
        <p:grpSp>
          <p:nvGrpSpPr>
            <p:cNvPr id="1790" name=""/>
            <p:cNvGrpSpPr/>
            <p:nvPr/>
          </p:nvGrpSpPr>
          <p:grpSpPr>
            <a:xfrm>
              <a:off x="4287960" y="5348160"/>
              <a:ext cx="1620720" cy="944640"/>
              <a:chOff x="4287960" y="5348160"/>
              <a:chExt cx="1620720" cy="944640"/>
            </a:xfrm>
          </p:grpSpPr>
          <p:sp>
            <p:nvSpPr>
              <p:cNvPr id="1791" name=""/>
              <p:cNvSpPr/>
              <p:nvPr/>
            </p:nvSpPr>
            <p:spPr>
              <a:xfrm>
                <a:off x="5367240" y="5887800"/>
                <a:ext cx="54108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287960" y="5618160"/>
                <a:ext cx="1079280" cy="67464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680" y="340"/>
                    </a:move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287960" y="5348160"/>
                <a:ext cx="162072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4" name=""/>
            <p:cNvGrpSpPr/>
            <p:nvPr/>
          </p:nvGrpSpPr>
          <p:grpSpPr>
            <a:xfrm>
              <a:off x="4287960" y="5349960"/>
              <a:ext cx="1620720" cy="944640"/>
              <a:chOff x="4287960" y="5349960"/>
              <a:chExt cx="1620720" cy="944640"/>
            </a:xfrm>
          </p:grpSpPr>
          <p:sp>
            <p:nvSpPr>
              <p:cNvPr id="1795" name=""/>
              <p:cNvSpPr/>
              <p:nvPr/>
            </p:nvSpPr>
            <p:spPr>
              <a:xfrm>
                <a:off x="5367240" y="5889600"/>
                <a:ext cx="541080" cy="405000"/>
              </a:xfrm>
              <a:custGeom>
                <a:avLst/>
                <a:gdLst/>
                <a:ahLst/>
                <a:rect l="l" t="t" r="r" b="b"/>
                <a:pathLst>
                  <a:path w="341" h="255">
                    <a:moveTo>
                      <a:pt x="0" y="255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85"/>
                    </a:lnTo>
                    <a:lnTo>
                      <a:pt x="0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4287960" y="5619960"/>
                <a:ext cx="1079280" cy="67464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680" y="340"/>
                    </a:move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287960" y="5349960"/>
                <a:ext cx="162072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8" name=""/>
          <p:cNvGrpSpPr/>
          <p:nvPr/>
        </p:nvGrpSpPr>
        <p:grpSpPr>
          <a:xfrm>
            <a:off x="4287960" y="4357800"/>
            <a:ext cx="1620720" cy="1081080"/>
            <a:chOff x="4287960" y="4357800"/>
            <a:chExt cx="1620720" cy="1081080"/>
          </a:xfrm>
        </p:grpSpPr>
        <p:grpSp>
          <p:nvGrpSpPr>
            <p:cNvPr id="1799" name=""/>
            <p:cNvGrpSpPr/>
            <p:nvPr/>
          </p:nvGrpSpPr>
          <p:grpSpPr>
            <a:xfrm>
              <a:off x="4287960" y="4357800"/>
              <a:ext cx="1620720" cy="1078920"/>
              <a:chOff x="4287960" y="4357800"/>
              <a:chExt cx="1620720" cy="1078920"/>
            </a:xfrm>
          </p:grpSpPr>
          <p:sp>
            <p:nvSpPr>
              <p:cNvPr id="1800" name=""/>
              <p:cNvSpPr/>
              <p:nvPr/>
            </p:nvSpPr>
            <p:spPr>
              <a:xfrm>
                <a:off x="4287960" y="4357800"/>
                <a:ext cx="1620720" cy="80928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4287960" y="4627440"/>
                <a:ext cx="1079280" cy="80928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510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170"/>
                    </a:lnTo>
                    <a:lnTo>
                      <a:pt x="680" y="51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5367240" y="4897440"/>
                <a:ext cx="541080" cy="53928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0" y="34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170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3" name=""/>
            <p:cNvGrpSpPr/>
            <p:nvPr/>
          </p:nvGrpSpPr>
          <p:grpSpPr>
            <a:xfrm>
              <a:off x="4287960" y="4359240"/>
              <a:ext cx="1620720" cy="1079640"/>
              <a:chOff x="4287960" y="4359240"/>
              <a:chExt cx="1620720" cy="1079640"/>
            </a:xfrm>
          </p:grpSpPr>
          <p:sp>
            <p:nvSpPr>
              <p:cNvPr id="1804" name=""/>
              <p:cNvSpPr/>
              <p:nvPr/>
            </p:nvSpPr>
            <p:spPr>
              <a:xfrm>
                <a:off x="4287960" y="4359240"/>
                <a:ext cx="1620720" cy="80964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340"/>
                    </a:moveTo>
                    <a:lnTo>
                      <a:pt x="340" y="0"/>
                    </a:lnTo>
                    <a:lnTo>
                      <a:pt x="0" y="170"/>
                    </a:lnTo>
                    <a:lnTo>
                      <a:pt x="680" y="510"/>
                    </a:lnTo>
                    <a:lnTo>
                      <a:pt x="1021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287960" y="4629240"/>
                <a:ext cx="1079280" cy="80964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510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170"/>
                    </a:lnTo>
                    <a:lnTo>
                      <a:pt x="68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5367240" y="4899240"/>
                <a:ext cx="541080" cy="53964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0" y="34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170"/>
                    </a:lnTo>
                    <a:lnTo>
                      <a:pt x="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7" name=""/>
          <p:cNvGrpSpPr/>
          <p:nvPr/>
        </p:nvGrpSpPr>
        <p:grpSpPr>
          <a:xfrm>
            <a:off x="4287960" y="3279600"/>
            <a:ext cx="1621800" cy="1214280"/>
            <a:chOff x="4287960" y="3279600"/>
            <a:chExt cx="1621800" cy="1214280"/>
          </a:xfrm>
        </p:grpSpPr>
        <p:sp>
          <p:nvSpPr>
            <p:cNvPr id="1808" name=""/>
            <p:cNvSpPr/>
            <p:nvPr/>
          </p:nvSpPr>
          <p:spPr>
            <a:xfrm>
              <a:off x="5368680" y="3819240"/>
              <a:ext cx="541080" cy="674640"/>
            </a:xfrm>
            <a:custGeom>
              <a:avLst/>
              <a:gdLst/>
              <a:ahLst/>
              <a:rect l="l" t="t" r="r" b="b"/>
              <a:pathLst>
                <a:path w="341" h="425">
                  <a:moveTo>
                    <a:pt x="0" y="425"/>
                  </a:moveTo>
                  <a:lnTo>
                    <a:pt x="0" y="170"/>
                  </a:lnTo>
                  <a:lnTo>
                    <a:pt x="341" y="0"/>
                  </a:lnTo>
                  <a:lnTo>
                    <a:pt x="341" y="255"/>
                  </a:lnTo>
                  <a:lnTo>
                    <a:pt x="0" y="425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287960" y="3279600"/>
              <a:ext cx="1620720" cy="809640"/>
            </a:xfrm>
            <a:custGeom>
              <a:avLst/>
              <a:gdLst/>
              <a:ahLst/>
              <a:rect l="l" t="t" r="r" b="b"/>
              <a:pathLst>
                <a:path w="1021" h="510">
                  <a:moveTo>
                    <a:pt x="1021" y="340"/>
                  </a:moveTo>
                  <a:lnTo>
                    <a:pt x="340" y="0"/>
                  </a:lnTo>
                  <a:lnTo>
                    <a:pt x="0" y="170"/>
                  </a:lnTo>
                  <a:lnTo>
                    <a:pt x="680" y="510"/>
                  </a:lnTo>
                  <a:lnTo>
                    <a:pt x="1021" y="340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287960" y="3549240"/>
              <a:ext cx="1079280" cy="944640"/>
            </a:xfrm>
            <a:custGeom>
              <a:avLst/>
              <a:gdLst/>
              <a:ahLst/>
              <a:rect l="l" t="t" r="r" b="b"/>
              <a:pathLst>
                <a:path w="680" h="595">
                  <a:moveTo>
                    <a:pt x="680" y="595"/>
                  </a:moveTo>
                  <a:lnTo>
                    <a:pt x="680" y="34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680" y="595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1" name=""/>
          <p:cNvGrpSpPr/>
          <p:nvPr/>
        </p:nvGrpSpPr>
        <p:grpSpPr>
          <a:xfrm>
            <a:off x="2622600" y="5483160"/>
            <a:ext cx="1351080" cy="811440"/>
            <a:chOff x="2622600" y="5483160"/>
            <a:chExt cx="1351080" cy="811440"/>
          </a:xfrm>
        </p:grpSpPr>
        <p:grpSp>
          <p:nvGrpSpPr>
            <p:cNvPr id="1812" name=""/>
            <p:cNvGrpSpPr/>
            <p:nvPr/>
          </p:nvGrpSpPr>
          <p:grpSpPr>
            <a:xfrm>
              <a:off x="2622600" y="5483160"/>
              <a:ext cx="1351080" cy="809640"/>
              <a:chOff x="2622600" y="5483160"/>
              <a:chExt cx="1351080" cy="809640"/>
            </a:xfrm>
          </p:grpSpPr>
          <p:sp>
            <p:nvSpPr>
              <p:cNvPr id="1813" name=""/>
              <p:cNvSpPr/>
              <p:nvPr/>
            </p:nvSpPr>
            <p:spPr>
              <a:xfrm>
                <a:off x="2622600" y="5483160"/>
                <a:ext cx="134964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2622600" y="5618160"/>
                <a:ext cx="1079640" cy="67464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0" y="0"/>
                    </a:moveTo>
                    <a:lnTo>
                      <a:pt x="680" y="340"/>
                    </a:ln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703680" y="6022800"/>
                <a:ext cx="270000" cy="270000"/>
              </a:xfrm>
              <a:custGeom>
                <a:avLst/>
                <a:gdLst/>
                <a:ahLst/>
                <a:rect l="l" t="t" r="r" b="b"/>
                <a:pathLst>
                  <a:path w="170" h="170">
                    <a:moveTo>
                      <a:pt x="0" y="170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85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2622600" y="5484960"/>
              <a:ext cx="1351080" cy="809640"/>
              <a:chOff x="2622600" y="5484960"/>
              <a:chExt cx="1351080" cy="809640"/>
            </a:xfrm>
          </p:grpSpPr>
          <p:sp>
            <p:nvSpPr>
              <p:cNvPr id="1817" name=""/>
              <p:cNvSpPr/>
              <p:nvPr/>
            </p:nvSpPr>
            <p:spPr>
              <a:xfrm>
                <a:off x="2622600" y="5484960"/>
                <a:ext cx="134964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2622600" y="5619960"/>
                <a:ext cx="1079640" cy="674640"/>
              </a:xfrm>
              <a:custGeom>
                <a:avLst/>
                <a:gdLst/>
                <a:ahLst/>
                <a:rect l="l" t="t" r="r" b="b"/>
                <a:pathLst>
                  <a:path w="680" h="425">
                    <a:moveTo>
                      <a:pt x="0" y="0"/>
                    </a:moveTo>
                    <a:lnTo>
                      <a:pt x="680" y="340"/>
                    </a:lnTo>
                    <a:lnTo>
                      <a:pt x="680" y="425"/>
                    </a:lnTo>
                    <a:lnTo>
                      <a:pt x="0" y="8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703680" y="6024600"/>
                <a:ext cx="270000" cy="270000"/>
              </a:xfrm>
              <a:custGeom>
                <a:avLst/>
                <a:gdLst/>
                <a:ahLst/>
                <a:rect l="l" t="t" r="r" b="b"/>
                <a:pathLst>
                  <a:path w="170" h="170">
                    <a:moveTo>
                      <a:pt x="0" y="170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85"/>
                    </a:lnTo>
                    <a:lnTo>
                      <a:pt x="0" y="1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0" name=""/>
          <p:cNvGrpSpPr/>
          <p:nvPr/>
        </p:nvGrpSpPr>
        <p:grpSpPr>
          <a:xfrm>
            <a:off x="2622600" y="4808520"/>
            <a:ext cx="1351080" cy="946080"/>
            <a:chOff x="2622600" y="4808520"/>
            <a:chExt cx="1351080" cy="946080"/>
          </a:xfrm>
        </p:grpSpPr>
        <p:grpSp>
          <p:nvGrpSpPr>
            <p:cNvPr id="1821" name=""/>
            <p:cNvGrpSpPr/>
            <p:nvPr/>
          </p:nvGrpSpPr>
          <p:grpSpPr>
            <a:xfrm>
              <a:off x="2622600" y="4808520"/>
              <a:ext cx="1351080" cy="944640"/>
              <a:chOff x="2622600" y="4808520"/>
              <a:chExt cx="1351080" cy="944640"/>
            </a:xfrm>
          </p:grpSpPr>
          <p:sp>
            <p:nvSpPr>
              <p:cNvPr id="1822" name=""/>
              <p:cNvSpPr/>
              <p:nvPr/>
            </p:nvSpPr>
            <p:spPr>
              <a:xfrm>
                <a:off x="3703680" y="5348160"/>
                <a:ext cx="270000" cy="405000"/>
              </a:xfrm>
              <a:custGeom>
                <a:avLst/>
                <a:gdLst/>
                <a:ahLst/>
                <a:rect l="l" t="t" r="r" b="b"/>
                <a:pathLst>
                  <a:path w="170" h="255">
                    <a:moveTo>
                      <a:pt x="170" y="0"/>
                    </a:moveTo>
                    <a:lnTo>
                      <a:pt x="170" y="170"/>
                    </a:lnTo>
                    <a:lnTo>
                      <a:pt x="0" y="255"/>
                    </a:lnTo>
                    <a:lnTo>
                      <a:pt x="0" y="85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624400" y="4943520"/>
                <a:ext cx="1079280" cy="80964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340"/>
                    </a:moveTo>
                    <a:lnTo>
                      <a:pt x="680" y="510"/>
                    </a:lnTo>
                    <a:lnTo>
                      <a:pt x="0" y="170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2622600" y="4808520"/>
                <a:ext cx="134964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2622600" y="4809960"/>
              <a:ext cx="1351080" cy="944640"/>
              <a:chOff x="2622600" y="4809960"/>
              <a:chExt cx="1351080" cy="944640"/>
            </a:xfrm>
          </p:grpSpPr>
          <p:sp>
            <p:nvSpPr>
              <p:cNvPr id="1826" name=""/>
              <p:cNvSpPr/>
              <p:nvPr/>
            </p:nvSpPr>
            <p:spPr>
              <a:xfrm>
                <a:off x="3703680" y="5349600"/>
                <a:ext cx="270000" cy="405000"/>
              </a:xfrm>
              <a:custGeom>
                <a:avLst/>
                <a:gdLst/>
                <a:ahLst/>
                <a:rect l="l" t="t" r="r" b="b"/>
                <a:pathLst>
                  <a:path w="170" h="255">
                    <a:moveTo>
                      <a:pt x="170" y="0"/>
                    </a:moveTo>
                    <a:lnTo>
                      <a:pt x="170" y="170"/>
                    </a:lnTo>
                    <a:lnTo>
                      <a:pt x="0" y="255"/>
                    </a:lnTo>
                    <a:lnTo>
                      <a:pt x="0" y="85"/>
                    </a:lnTo>
                    <a:lnTo>
                      <a:pt x="1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2624400" y="4944960"/>
                <a:ext cx="1079280" cy="809640"/>
              </a:xfrm>
              <a:custGeom>
                <a:avLst/>
                <a:gdLst/>
                <a:ahLst/>
                <a:rect l="l" t="t" r="r" b="b"/>
                <a:pathLst>
                  <a:path w="680" h="510">
                    <a:moveTo>
                      <a:pt x="680" y="340"/>
                    </a:moveTo>
                    <a:lnTo>
                      <a:pt x="680" y="510"/>
                    </a:lnTo>
                    <a:lnTo>
                      <a:pt x="0" y="170"/>
                    </a:lnTo>
                    <a:lnTo>
                      <a:pt x="0" y="0"/>
                    </a:lnTo>
                    <a:lnTo>
                      <a:pt x="68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2622600" y="4809960"/>
                <a:ext cx="134964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"/>
          <p:cNvGrpSpPr/>
          <p:nvPr/>
        </p:nvGrpSpPr>
        <p:grpSpPr>
          <a:xfrm>
            <a:off x="2668680" y="3998880"/>
            <a:ext cx="1349280" cy="1081080"/>
            <a:chOff x="2668680" y="3998880"/>
            <a:chExt cx="1349280" cy="1081080"/>
          </a:xfrm>
        </p:grpSpPr>
        <p:grpSp>
          <p:nvGrpSpPr>
            <p:cNvPr id="1830" name=""/>
            <p:cNvGrpSpPr/>
            <p:nvPr/>
          </p:nvGrpSpPr>
          <p:grpSpPr>
            <a:xfrm>
              <a:off x="2668680" y="3998880"/>
              <a:ext cx="1349280" cy="1079280"/>
              <a:chOff x="2668680" y="3998880"/>
              <a:chExt cx="1349280" cy="1079280"/>
            </a:xfrm>
          </p:grpSpPr>
          <p:sp>
            <p:nvSpPr>
              <p:cNvPr id="1831" name=""/>
              <p:cNvSpPr/>
              <p:nvPr/>
            </p:nvSpPr>
            <p:spPr>
              <a:xfrm>
                <a:off x="2668680" y="4133880"/>
                <a:ext cx="1079280" cy="944280"/>
              </a:xfrm>
              <a:custGeom>
                <a:avLst/>
                <a:gdLst/>
                <a:ahLst/>
                <a:rect l="l" t="t" r="r" b="b"/>
                <a:pathLst>
                  <a:path w="680" h="595">
                    <a:moveTo>
                      <a:pt x="680" y="595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680" y="59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3747960" y="4538520"/>
                <a:ext cx="26964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340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2668680" y="3998880"/>
                <a:ext cx="134928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4" name=""/>
            <p:cNvGrpSpPr/>
            <p:nvPr/>
          </p:nvGrpSpPr>
          <p:grpSpPr>
            <a:xfrm>
              <a:off x="2668680" y="4000680"/>
              <a:ext cx="1349280" cy="1079280"/>
              <a:chOff x="2668680" y="4000680"/>
              <a:chExt cx="1349280" cy="1079280"/>
            </a:xfrm>
          </p:grpSpPr>
          <p:sp>
            <p:nvSpPr>
              <p:cNvPr id="1835" name=""/>
              <p:cNvSpPr/>
              <p:nvPr/>
            </p:nvSpPr>
            <p:spPr>
              <a:xfrm>
                <a:off x="2668680" y="4135680"/>
                <a:ext cx="1079280" cy="944280"/>
              </a:xfrm>
              <a:custGeom>
                <a:avLst/>
                <a:gdLst/>
                <a:ahLst/>
                <a:rect l="l" t="t" r="r" b="b"/>
                <a:pathLst>
                  <a:path w="680" h="595">
                    <a:moveTo>
                      <a:pt x="680" y="595"/>
                    </a:moveTo>
                    <a:lnTo>
                      <a:pt x="680" y="340"/>
                    </a:lnTo>
                    <a:lnTo>
                      <a:pt x="0" y="0"/>
                    </a:lnTo>
                    <a:lnTo>
                      <a:pt x="0" y="255"/>
                    </a:lnTo>
                    <a:lnTo>
                      <a:pt x="680" y="5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3747960" y="4540320"/>
                <a:ext cx="269640" cy="539640"/>
              </a:xfrm>
              <a:custGeom>
                <a:avLst/>
                <a:gdLst/>
                <a:ahLst/>
                <a:rect l="l" t="t" r="r" b="b"/>
                <a:pathLst>
                  <a:path w="170" h="340">
                    <a:moveTo>
                      <a:pt x="0" y="340"/>
                    </a:moveTo>
                    <a:lnTo>
                      <a:pt x="0" y="85"/>
                    </a:lnTo>
                    <a:lnTo>
                      <a:pt x="170" y="0"/>
                    </a:lnTo>
                    <a:lnTo>
                      <a:pt x="170" y="255"/>
                    </a:lnTo>
                    <a:lnTo>
                      <a:pt x="0" y="3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2668680" y="4000680"/>
                <a:ext cx="1349280" cy="674640"/>
              </a:xfrm>
              <a:custGeom>
                <a:avLst/>
                <a:gdLst/>
                <a:ahLst/>
                <a:rect l="l" t="t" r="r" b="b"/>
                <a:pathLst>
                  <a:path w="850" h="425">
                    <a:moveTo>
                      <a:pt x="170" y="0"/>
                    </a:moveTo>
                    <a:lnTo>
                      <a:pt x="0" y="85"/>
                    </a:lnTo>
                    <a:lnTo>
                      <a:pt x="680" y="425"/>
                    </a:lnTo>
                    <a:lnTo>
                      <a:pt x="850" y="340"/>
                    </a:lnTo>
                    <a:lnTo>
                      <a:pt x="1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38" name=""/>
          <p:cNvGrpSpPr/>
          <p:nvPr/>
        </p:nvGrpSpPr>
        <p:grpSpPr>
          <a:xfrm>
            <a:off x="6448320" y="4133880"/>
            <a:ext cx="539640" cy="1351080"/>
            <a:chOff x="6448320" y="4133880"/>
            <a:chExt cx="539640" cy="1351080"/>
          </a:xfrm>
        </p:grpSpPr>
        <p:sp>
          <p:nvSpPr>
            <p:cNvPr id="1839" name=""/>
            <p:cNvSpPr/>
            <p:nvPr/>
          </p:nvSpPr>
          <p:spPr>
            <a:xfrm>
              <a:off x="6448320" y="4270320"/>
              <a:ext cx="269640" cy="121464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170" y="765"/>
                  </a:moveTo>
                  <a:lnTo>
                    <a:pt x="0" y="680"/>
                  </a:lnTo>
                  <a:lnTo>
                    <a:pt x="0" y="0"/>
                  </a:lnTo>
                  <a:lnTo>
                    <a:pt x="170" y="85"/>
                  </a:lnTo>
                  <a:lnTo>
                    <a:pt x="17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717960" y="4270320"/>
              <a:ext cx="270000" cy="1214640"/>
            </a:xfrm>
            <a:custGeom>
              <a:avLst/>
              <a:gdLst/>
              <a:ahLst/>
              <a:rect l="l" t="t" r="r" b="b"/>
              <a:pathLst>
                <a:path w="170" h="765">
                  <a:moveTo>
                    <a:pt x="0" y="765"/>
                  </a:moveTo>
                  <a:lnTo>
                    <a:pt x="170" y="680"/>
                  </a:lnTo>
                  <a:lnTo>
                    <a:pt x="170" y="0"/>
                  </a:lnTo>
                  <a:lnTo>
                    <a:pt x="0" y="85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448320" y="4133880"/>
              <a:ext cx="539640" cy="271440"/>
            </a:xfrm>
            <a:custGeom>
              <a:avLst/>
              <a:gdLst/>
              <a:ahLst/>
              <a:rect l="l" t="t" r="r" b="b"/>
              <a:pathLst>
                <a:path w="340" h="171">
                  <a:moveTo>
                    <a:pt x="340" y="86"/>
                  </a:moveTo>
                  <a:lnTo>
                    <a:pt x="170" y="0"/>
                  </a:lnTo>
                  <a:lnTo>
                    <a:pt x="0" y="86"/>
                  </a:lnTo>
                  <a:lnTo>
                    <a:pt x="170" y="171"/>
                  </a:lnTo>
                  <a:lnTo>
                    <a:pt x="340" y="86"/>
                  </a:lnTo>
                  <a:close/>
                </a:path>
              </a:pathLst>
            </a:custGeom>
            <a:gradFill rotWithShape="0">
              <a:gsLst>
                <a:gs pos="0">
                  <a:srgbClr val="bddd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2" name=""/>
          <p:cNvGrpSpPr/>
          <p:nvPr/>
        </p:nvGrpSpPr>
        <p:grpSpPr>
          <a:xfrm>
            <a:off x="7078680" y="4043520"/>
            <a:ext cx="811080" cy="1486800"/>
            <a:chOff x="7078680" y="4043520"/>
            <a:chExt cx="811080" cy="1486800"/>
          </a:xfrm>
        </p:grpSpPr>
        <p:grpSp>
          <p:nvGrpSpPr>
            <p:cNvPr id="1843" name=""/>
            <p:cNvGrpSpPr/>
            <p:nvPr/>
          </p:nvGrpSpPr>
          <p:grpSpPr>
            <a:xfrm>
              <a:off x="7078680" y="4043520"/>
              <a:ext cx="811080" cy="1485360"/>
              <a:chOff x="7078680" y="4043520"/>
              <a:chExt cx="811080" cy="1485360"/>
            </a:xfrm>
          </p:grpSpPr>
          <p:sp>
            <p:nvSpPr>
              <p:cNvPr id="1844" name=""/>
              <p:cNvSpPr/>
              <p:nvPr/>
            </p:nvSpPr>
            <p:spPr>
              <a:xfrm>
                <a:off x="7078680" y="4314600"/>
                <a:ext cx="269640" cy="121428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078680" y="4043520"/>
                <a:ext cx="811080" cy="406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7348320" y="4178160"/>
                <a:ext cx="541080" cy="135072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7" name=""/>
            <p:cNvGrpSpPr/>
            <p:nvPr/>
          </p:nvGrpSpPr>
          <p:grpSpPr>
            <a:xfrm>
              <a:off x="7078680" y="4044960"/>
              <a:ext cx="811080" cy="1485360"/>
              <a:chOff x="7078680" y="4044960"/>
              <a:chExt cx="811080" cy="1485360"/>
            </a:xfrm>
          </p:grpSpPr>
          <p:sp>
            <p:nvSpPr>
              <p:cNvPr id="1848" name=""/>
              <p:cNvSpPr/>
              <p:nvPr/>
            </p:nvSpPr>
            <p:spPr>
              <a:xfrm>
                <a:off x="7078680" y="4316040"/>
                <a:ext cx="269640" cy="121428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7078680" y="4044960"/>
                <a:ext cx="811080" cy="406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7348320" y="4179600"/>
                <a:ext cx="541080" cy="135072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1" name=""/>
          <p:cNvGrpSpPr/>
          <p:nvPr/>
        </p:nvGrpSpPr>
        <p:grpSpPr>
          <a:xfrm>
            <a:off x="8023320" y="4494240"/>
            <a:ext cx="811080" cy="945720"/>
            <a:chOff x="8023320" y="4494240"/>
            <a:chExt cx="811080" cy="945720"/>
          </a:xfrm>
        </p:grpSpPr>
        <p:grpSp>
          <p:nvGrpSpPr>
            <p:cNvPr id="1852" name=""/>
            <p:cNvGrpSpPr/>
            <p:nvPr/>
          </p:nvGrpSpPr>
          <p:grpSpPr>
            <a:xfrm>
              <a:off x="8023320" y="4494240"/>
              <a:ext cx="811080" cy="944280"/>
              <a:chOff x="8023320" y="4494240"/>
              <a:chExt cx="811080" cy="944280"/>
            </a:xfrm>
          </p:grpSpPr>
          <p:sp>
            <p:nvSpPr>
              <p:cNvPr id="1853" name=""/>
              <p:cNvSpPr/>
              <p:nvPr/>
            </p:nvSpPr>
            <p:spPr>
              <a:xfrm>
                <a:off x="8292960" y="4628880"/>
                <a:ext cx="541080" cy="80964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8023320" y="4763880"/>
                <a:ext cx="269640" cy="67464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8023320" y="4494240"/>
                <a:ext cx="811080" cy="406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6" name=""/>
            <p:cNvGrpSpPr/>
            <p:nvPr/>
          </p:nvGrpSpPr>
          <p:grpSpPr>
            <a:xfrm>
              <a:off x="8023320" y="4495680"/>
              <a:ext cx="811080" cy="944280"/>
              <a:chOff x="8023320" y="4495680"/>
              <a:chExt cx="811080" cy="944280"/>
            </a:xfrm>
          </p:grpSpPr>
          <p:sp>
            <p:nvSpPr>
              <p:cNvPr id="1857" name=""/>
              <p:cNvSpPr/>
              <p:nvPr/>
            </p:nvSpPr>
            <p:spPr>
              <a:xfrm>
                <a:off x="8292960" y="4630320"/>
                <a:ext cx="541080" cy="80964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8023320" y="4765320"/>
                <a:ext cx="269640" cy="67464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8023320" y="4495680"/>
                <a:ext cx="811080" cy="406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0" name=""/>
          <p:cNvGrpSpPr/>
          <p:nvPr/>
        </p:nvGrpSpPr>
        <p:grpSpPr>
          <a:xfrm>
            <a:off x="6448320" y="5672160"/>
            <a:ext cx="274680" cy="688680"/>
            <a:chOff x="6448320" y="5672160"/>
            <a:chExt cx="274680" cy="688680"/>
          </a:xfrm>
        </p:grpSpPr>
        <p:grpSp>
          <p:nvGrpSpPr>
            <p:cNvPr id="1861" name=""/>
            <p:cNvGrpSpPr/>
            <p:nvPr/>
          </p:nvGrpSpPr>
          <p:grpSpPr>
            <a:xfrm>
              <a:off x="6448320" y="5672160"/>
              <a:ext cx="274680" cy="687240"/>
              <a:chOff x="6448320" y="5672160"/>
              <a:chExt cx="274680" cy="687240"/>
            </a:xfrm>
          </p:grpSpPr>
          <p:sp>
            <p:nvSpPr>
              <p:cNvPr id="1862" name=""/>
              <p:cNvSpPr/>
              <p:nvPr/>
            </p:nvSpPr>
            <p:spPr>
              <a:xfrm>
                <a:off x="6448320" y="5742000"/>
                <a:ext cx="13788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6586200" y="5742000"/>
                <a:ext cx="13680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0" y="765"/>
                    </a:moveTo>
                    <a:lnTo>
                      <a:pt x="170" y="680"/>
                    </a:lnTo>
                    <a:lnTo>
                      <a:pt x="170" y="0"/>
                    </a:lnTo>
                    <a:lnTo>
                      <a:pt x="0" y="85"/>
                    </a:lnTo>
                    <a:lnTo>
                      <a:pt x="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6448320" y="5672160"/>
                <a:ext cx="274680" cy="137880"/>
              </a:xfrm>
              <a:custGeom>
                <a:avLst/>
                <a:gdLst/>
                <a:ahLst/>
                <a:rect l="l" t="t" r="r" b="b"/>
                <a:pathLst>
                  <a:path w="340" h="171">
                    <a:moveTo>
                      <a:pt x="340" y="86"/>
                    </a:moveTo>
                    <a:lnTo>
                      <a:pt x="170" y="0"/>
                    </a:lnTo>
                    <a:lnTo>
                      <a:pt x="0" y="86"/>
                    </a:lnTo>
                    <a:lnTo>
                      <a:pt x="170" y="171"/>
                    </a:lnTo>
                    <a:lnTo>
                      <a:pt x="340" y="8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5" name=""/>
            <p:cNvGrpSpPr/>
            <p:nvPr/>
          </p:nvGrpSpPr>
          <p:grpSpPr>
            <a:xfrm>
              <a:off x="6448320" y="5673600"/>
              <a:ext cx="274680" cy="687240"/>
              <a:chOff x="6448320" y="5673600"/>
              <a:chExt cx="274680" cy="687240"/>
            </a:xfrm>
          </p:grpSpPr>
          <p:sp>
            <p:nvSpPr>
              <p:cNvPr id="1866" name=""/>
              <p:cNvSpPr/>
              <p:nvPr/>
            </p:nvSpPr>
            <p:spPr>
              <a:xfrm>
                <a:off x="6448320" y="5743440"/>
                <a:ext cx="13788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586200" y="5743440"/>
                <a:ext cx="13680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0" y="765"/>
                    </a:moveTo>
                    <a:lnTo>
                      <a:pt x="170" y="680"/>
                    </a:lnTo>
                    <a:lnTo>
                      <a:pt x="170" y="0"/>
                    </a:lnTo>
                    <a:lnTo>
                      <a:pt x="0" y="85"/>
                    </a:lnTo>
                    <a:lnTo>
                      <a:pt x="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6448320" y="5673600"/>
                <a:ext cx="274680" cy="137880"/>
              </a:xfrm>
              <a:custGeom>
                <a:avLst/>
                <a:gdLst/>
                <a:ahLst/>
                <a:rect l="l" t="t" r="r" b="b"/>
                <a:pathLst>
                  <a:path w="340" h="171">
                    <a:moveTo>
                      <a:pt x="340" y="86"/>
                    </a:moveTo>
                    <a:lnTo>
                      <a:pt x="170" y="0"/>
                    </a:lnTo>
                    <a:lnTo>
                      <a:pt x="0" y="86"/>
                    </a:lnTo>
                    <a:lnTo>
                      <a:pt x="170" y="171"/>
                    </a:lnTo>
                    <a:lnTo>
                      <a:pt x="340" y="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9" name=""/>
          <p:cNvGrpSpPr/>
          <p:nvPr/>
        </p:nvGrpSpPr>
        <p:grpSpPr>
          <a:xfrm>
            <a:off x="6769080" y="5627520"/>
            <a:ext cx="412560" cy="757440"/>
            <a:chOff x="6769080" y="5627520"/>
            <a:chExt cx="412560" cy="757440"/>
          </a:xfrm>
        </p:grpSpPr>
        <p:grpSp>
          <p:nvGrpSpPr>
            <p:cNvPr id="1870" name=""/>
            <p:cNvGrpSpPr/>
            <p:nvPr/>
          </p:nvGrpSpPr>
          <p:grpSpPr>
            <a:xfrm>
              <a:off x="6769080" y="5627520"/>
              <a:ext cx="412560" cy="755640"/>
              <a:chOff x="6769080" y="5627520"/>
              <a:chExt cx="412560" cy="755640"/>
            </a:xfrm>
          </p:grpSpPr>
          <p:sp>
            <p:nvSpPr>
              <p:cNvPr id="1871" name=""/>
              <p:cNvSpPr/>
              <p:nvPr/>
            </p:nvSpPr>
            <p:spPr>
              <a:xfrm>
                <a:off x="6769080" y="5765760"/>
                <a:ext cx="13788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6769080" y="5627520"/>
                <a:ext cx="412560" cy="2062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6906960" y="5695920"/>
                <a:ext cx="274680" cy="68724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4" name=""/>
            <p:cNvGrpSpPr/>
            <p:nvPr/>
          </p:nvGrpSpPr>
          <p:grpSpPr>
            <a:xfrm>
              <a:off x="6769080" y="5629320"/>
              <a:ext cx="412560" cy="755640"/>
              <a:chOff x="6769080" y="5629320"/>
              <a:chExt cx="412560" cy="755640"/>
            </a:xfrm>
          </p:grpSpPr>
          <p:sp>
            <p:nvSpPr>
              <p:cNvPr id="1875" name=""/>
              <p:cNvSpPr/>
              <p:nvPr/>
            </p:nvSpPr>
            <p:spPr>
              <a:xfrm>
                <a:off x="6769080" y="5767560"/>
                <a:ext cx="137880" cy="617400"/>
              </a:xfrm>
              <a:custGeom>
                <a:avLst/>
                <a:gdLst/>
                <a:ahLst/>
                <a:rect l="l" t="t" r="r" b="b"/>
                <a:pathLst>
                  <a:path w="170" h="765">
                    <a:moveTo>
                      <a:pt x="170" y="765"/>
                    </a:moveTo>
                    <a:lnTo>
                      <a:pt x="0" y="680"/>
                    </a:lnTo>
                    <a:lnTo>
                      <a:pt x="0" y="0"/>
                    </a:lnTo>
                    <a:lnTo>
                      <a:pt x="170" y="85"/>
                    </a:lnTo>
                    <a:lnTo>
                      <a:pt x="170" y="7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6769080" y="5629320"/>
                <a:ext cx="412560" cy="2062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6906960" y="5697720"/>
                <a:ext cx="274680" cy="687240"/>
              </a:xfrm>
              <a:custGeom>
                <a:avLst/>
                <a:gdLst/>
                <a:ahLst/>
                <a:rect l="l" t="t" r="r" b="b"/>
                <a:pathLst>
                  <a:path w="341" h="851">
                    <a:moveTo>
                      <a:pt x="341" y="0"/>
                    </a:moveTo>
                    <a:lnTo>
                      <a:pt x="0" y="171"/>
                    </a:lnTo>
                    <a:lnTo>
                      <a:pt x="0" y="851"/>
                    </a:lnTo>
                    <a:lnTo>
                      <a:pt x="341" y="681"/>
                    </a:lnTo>
                    <a:lnTo>
                      <a:pt x="3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8" name=""/>
          <p:cNvGrpSpPr/>
          <p:nvPr/>
        </p:nvGrpSpPr>
        <p:grpSpPr>
          <a:xfrm>
            <a:off x="7250040" y="5856120"/>
            <a:ext cx="412560" cy="482760"/>
            <a:chOff x="7250040" y="5856120"/>
            <a:chExt cx="412560" cy="482760"/>
          </a:xfrm>
        </p:grpSpPr>
        <p:grpSp>
          <p:nvGrpSpPr>
            <p:cNvPr id="1879" name=""/>
            <p:cNvGrpSpPr/>
            <p:nvPr/>
          </p:nvGrpSpPr>
          <p:grpSpPr>
            <a:xfrm>
              <a:off x="7250040" y="5856120"/>
              <a:ext cx="412560" cy="480960"/>
              <a:chOff x="7250040" y="5856120"/>
              <a:chExt cx="412560" cy="480960"/>
            </a:xfrm>
          </p:grpSpPr>
          <p:sp>
            <p:nvSpPr>
              <p:cNvPr id="1880" name=""/>
              <p:cNvSpPr/>
              <p:nvPr/>
            </p:nvSpPr>
            <p:spPr>
              <a:xfrm>
                <a:off x="7386480" y="5925960"/>
                <a:ext cx="276120" cy="41112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250040" y="5994360"/>
                <a:ext cx="136440" cy="34272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250040" y="5856120"/>
                <a:ext cx="412560" cy="208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solidFill>
                <a:srgbClr val="333333"/>
              </a:solidFill>
              <a:ln w="63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3" name=""/>
            <p:cNvGrpSpPr/>
            <p:nvPr/>
          </p:nvGrpSpPr>
          <p:grpSpPr>
            <a:xfrm>
              <a:off x="7250040" y="5857920"/>
              <a:ext cx="412560" cy="480960"/>
              <a:chOff x="7250040" y="5857920"/>
              <a:chExt cx="412560" cy="480960"/>
            </a:xfrm>
          </p:grpSpPr>
          <p:sp>
            <p:nvSpPr>
              <p:cNvPr id="1884" name=""/>
              <p:cNvSpPr/>
              <p:nvPr/>
            </p:nvSpPr>
            <p:spPr>
              <a:xfrm>
                <a:off x="7386480" y="5927760"/>
                <a:ext cx="276120" cy="411120"/>
              </a:xfrm>
              <a:custGeom>
                <a:avLst/>
                <a:gdLst/>
                <a:ahLst/>
                <a:rect l="l" t="t" r="r" b="b"/>
                <a:pathLst>
                  <a:path w="341" h="510">
                    <a:moveTo>
                      <a:pt x="0" y="510"/>
                    </a:moveTo>
                    <a:lnTo>
                      <a:pt x="0" y="170"/>
                    </a:lnTo>
                    <a:lnTo>
                      <a:pt x="341" y="0"/>
                    </a:lnTo>
                    <a:lnTo>
                      <a:pt x="341" y="340"/>
                    </a:lnTo>
                    <a:lnTo>
                      <a:pt x="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250040" y="5996160"/>
                <a:ext cx="136440" cy="342720"/>
              </a:xfrm>
              <a:custGeom>
                <a:avLst/>
                <a:gdLst/>
                <a:ahLst/>
                <a:rect l="l" t="t" r="r" b="b"/>
                <a:pathLst>
                  <a:path w="170" h="425">
                    <a:moveTo>
                      <a:pt x="170" y="425"/>
                    </a:moveTo>
                    <a:lnTo>
                      <a:pt x="170" y="85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170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250040" y="5857920"/>
                <a:ext cx="412560" cy="208080"/>
              </a:xfrm>
              <a:custGeom>
                <a:avLst/>
                <a:gdLst/>
                <a:ahLst/>
                <a:rect l="l" t="t" r="r" b="b"/>
                <a:pathLst>
                  <a:path w="511" h="256">
                    <a:moveTo>
                      <a:pt x="170" y="256"/>
                    </a:moveTo>
                    <a:lnTo>
                      <a:pt x="511" y="85"/>
                    </a:lnTo>
                    <a:lnTo>
                      <a:pt x="340" y="0"/>
                    </a:lnTo>
                    <a:lnTo>
                      <a:pt x="0" y="171"/>
                    </a:lnTo>
                    <a:lnTo>
                      <a:pt x="170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1:13:58Z</dcterms:created>
  <dc:creator>http://www.digipot.net</dc:creator>
  <dc:description/>
  <dc:language>en-US</dc:language>
  <cp:lastModifiedBy>http://www.digipot.net</cp:lastModifiedBy>
  <dcterms:modified xsi:type="dcterms:W3CDTF">2013-03-12T07:52:13Z</dcterms:modified>
  <cp:revision>1</cp:revision>
  <dc:subject>PPT222_システム図用シンプル画像</dc:subject>
  <dc:title>PPT222_システム図用シンプル画像</dc:title>
</cp:coreProperties>
</file>